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C986E-7D13-4AE9-8DFE-C3567CC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BB204-DFFF-4002-947A-E5F37418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5AFC0-FC5D-4255-BF88-47D5DC4D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32869-7E02-4257-8CAC-CD90B14E0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9D60-8881-458B-B246-15BB9370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FBC71-5543-4407-844D-058E0A04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5AF-28B1-4C2A-B3B5-73C22486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D6D8-0C3D-4955-A2EC-76677737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2CAB5-3763-44DE-A9B2-E07D0C35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A43C4-E1E2-4A3D-9B6C-F22C9C9A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2C4B-FA25-49C5-BEB1-E8929979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73B0-08A9-4CF2-A84E-5624540B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20FC-C7D3-4F3C-80B5-4340EF1D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1C43-2E2F-43D9-A97D-F0891EAC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9320-DCB3-4F47-BF78-82188438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350D-201F-41B4-BF8F-F7B97565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34B3-6023-40CB-8AAA-538AF1D0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FA9B3-D287-4EC7-939E-715E1E1E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6FEAB-F395-48C8-834F-7AFEB1FB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9760-7807-496A-BCD3-9211943E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C8C2-700E-40D3-A44F-A900996B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EECDA-0827-479F-A4C8-341E7A1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6EEB-1163-4A83-B14F-694C5BB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99D3C-FE41-4913-82E7-048958BD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611-97C5-42E4-A283-49B191200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10459-577F-4C2A-A181-0251CB816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99600" y="1197000"/>
            <a:ext cx="326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6000" y="20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270828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Конфлик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4437000"/>
            <a:ext cx="63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: студент 2 курса группы МТ-0601 Абдрахманов Баурж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Марат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95280" y="74772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 длительности протекания конфлик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жно подразделить 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4360" y="692280"/>
            <a:ext cx="1647720" cy="2857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258920" y="321300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 источнику возникновен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конфли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жно разделить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050920" y="4149720"/>
            <a:ext cx="93672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7680" y="5132520"/>
            <a:ext cx="354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ъективно обусло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712760" y="5132520"/>
            <a:ext cx="366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бъективно обусловл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59280" y="4076640"/>
            <a:ext cx="93492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640" y="1628640"/>
            <a:ext cx="79200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1628640"/>
            <a:ext cx="792000" cy="6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24210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тяж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840" y="234936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атков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3500280"/>
            <a:ext cx="5689440" cy="28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руктурные фак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ные фак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акторы отно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денческие отноше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1341360"/>
            <a:ext cx="781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всех конфликтов есть несколько причин. Все причины конфликтов можно объединить в пять групп в соответствии с обуславливающими их факторами – информацией, структурой, ценностями, отношениями и повед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476280"/>
            <a:ext cx="42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чины конфли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нове многих конфликтов лежит информаци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емлемая для одной из сторон и неприемлемая для другой. Это могут быть неполные и неточные факты, слухи, что дезинформирует партнеров по общению: подозрения в умышленном сокрытии информации; сомнения в надежности и ценности источников информации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ные фа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уктурные фак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обычно связаны с существованием формальной и неформальной организаций социальной группы. Сюда могут быть отнесены вопросы собственности, социального статуса, властных полномочий, традици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ностные фак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нностные факто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это те принципы, которые мы провозглашаем или отвергаем. Это общественные или личностные системы убеждений, верований и поведения, идеологические, культурные и другие ценности и нуж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кторы отно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кторы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вязаны с чувством удовлетворения от взаимодействия или его отсутствия. При этом важно учитывать основу отношений, их сущность, длительность и другие стороны отно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еденческие отно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еденческие отношен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избежно ведут к конфликтам, если ущемляются интересы, подрывается самооценка, возникает угроза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72200" y="691920"/>
            <a:ext cx="76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сихологи выделяю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ять типовых сти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едения в конфликтных ситуац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1844640"/>
            <a:ext cx="410544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ь конкурен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ь укло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ь приспособ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ь сотрудни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иль компромис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иль конкуренци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ловек старается в первую очередь удовлетворить собственные интересы в ущерб интересам других, вынуждая других людей принимать свое решение проблемы. Для достижения цели он использует свои волевые качества, и если воля его достаточно сильна, то ему это удас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т примеры тех случаев, когда следует использовать этот сти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ладание достаточным авторитетом для принятия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обходимо принять решение быстро, и достаточно власти для это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критической ситуации, которая требует мгновенного реаг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иль уклон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уется тогда, когда человек не отстаивает свои права, не сотрудничает ни с кем для выработки решения проблемы или просто уклоняется от решения конфликта. Он может использовать этот стиль, когда затрагиваемая проблема не столь важна для него или когда он чувствует, что находится в безнадежном положе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ипичные ситуации, в которых рекомендуется применять данный сти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удный день, а решение этой проблемы может принести дополнительные неприят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ние выигра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чно власти для решения эт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я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иды конфли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чины конфли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или поведения в конфликтных ситуац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тратегии поведения при разрешении конфликтов              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иль приспособле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н означает, что человек действует совместно с другим человеком, не пытается отстаивать собственные интересы. Он может использовать этот подход, когда исход дела чрезвычайно важен для другого и не очень существенен для него са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иболее характерные ситуации, в которых рекомендуется стиль приспособ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лание сохранить мир и добрые отношения с другими люд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начительный шанс побед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ой человек может извлечь из этой ситуации полезный урок, если уступить его желан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иль сотрудничест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иболее эффективный стиль, но и наиболее трудный. Если оба человека понимают, в чем состоит причина конфликта, они имеют возможность вместе искать новые альтернативы или выработать приемлемые компромис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акой подход рекомендуется использовать в данных ситуациях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ешение проблемы очень важно для обеих сторон, и никто не хочет полностью от него устранитьс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тесные, длительные и взаимозависимые отношения обеих сторон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обе стороны осведомлены о проблеме, и желания их извест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тиль компромис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еловек немного уступает в своих интересах, чтобы удовлетворить их частично, и другая сторона делает то же самое. Как при сотрудничестве, он не ищет скрытые нужды и интерес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ипичные случаи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бе стороны обладают одинаковой властью и имеют взаимоисключающие интересы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другие подходы к решению проблемы оказались неэффективными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озможность воспользоваться временной выгодо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Чтобы прийти к компромиссному решению с кем-то, следует начинать с выяснения интересов и желаний обеих сторон. После этого необходимо обозначить область совпадения интере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ажно понять, что каждый из этих стилей эффективен только в определенных условиях и ни один из них не может быть выделен как самый лучший. Наилучший подход будет определяться конкретной ситуаци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управлять конфликтом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2590920" cy="1584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2849400"/>
            <a:ext cx="691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перничество, или решение конфликта сил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ход от решения пробл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конфликтов посредством сотрудниче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конфликта путем компром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ешение конфликта путем приспособления, или уступ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69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Соперничество, или решение конфликта сило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оперничество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навязывание другой стороне предпочтительного для одной стороны решения. Данная стратегия ущербна при решении проблем, т. к. не дает оппоненту возможности реализовать (в какой-либо мере) свои интересы. Эта стратегия оправдана: явной конструктивности предлагаемого одним из оппонентов решения, выгодности результата для всей группы, отсутствия времени. Соперничество целесообразно в экстремальных  ситуациях и при высокой вероятности опасных последств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Уход от решения пробл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ход от решения проблем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или избегание, применяется при отсутствии сил и времени для решения противоречия, стремлении выиграть время, нежелание решать проблему вооб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Решение конфликтов посредством сотрудниче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отрудниче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наиболее эффективная стратегия поведения в конфликте. Она направляет оппонентов на конструктивное обсуждение проблемы, рассмотрение другой стороны не как противника, а как союзника в поиске решения. Стратегия наиболее эффективна: в ситуации сильной взаимозависимости оппонентов, склонности обоих игнорировать различие во власти, важности решения для обеих сторон, непредубежденности участ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ение конфликта путем компроми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омпромис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состоит  в желании оппонентов завершить конфликт частичными уступками. Компромисс эффективен в случаях: понимания оппонентом, что он и соперник обладают одинаковыми возможностями; наличия взаимоисключающих интересов, угрозы потерять в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ешение конфликта путем приспособления, или уступ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Приспособление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и уступка, рассматривается как вынужденный или добровольный отказ от борьбы и сдача своих позиций. Принять такую стратегию вынуждают: осознание своей неправоты, необходимость сохранения хороших отношений с оппонентом, сильная зависимость от него, незначительность проблемы. Если существует угроза еще более серьезных негативных посл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47640" y="4292640"/>
            <a:ext cx="58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т лат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u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толкновение) – это отсутствие согласия между двумя или более сторонами, которые могут быть конкретными лицами или группами. Каждая сторона делает все, чтобы принята была ее точка зрения и цель, и мешает другой стороне делать то же са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5627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314244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ли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открытое противостояние как следствие взаимоисключающих интересов и пози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нфликтная ситуа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это накопившиеся противоречия, содержащие истинную причину конфлик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циден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это стечение обстоятельств, являющихся поводом для конфликта. Из формулы видно, что конфликтная ситуация и инцидент независимы друг от друга, т.е. ни одно из них не является следствием или проявлением друг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решить конфлик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значит, устранить конфликтную ситуацию и исчерпать инцидент. Понятно, что первое сделать сложнее, но и более важно. К сожалению, на практике в большинстве случаев дело ограничивается лишь исчерпанием инцид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5200"/>
            <a:ext cx="640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ую роль в возникновении конфлик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ют так называемые 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конфликтоге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2920" y="1627920"/>
            <a:ext cx="737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чень важно знать формулу конфликта и эффективно ею владе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060640"/>
            <a:ext cx="8136000" cy="86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7600" y="2424240"/>
            <a:ext cx="118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ff0000"/>
                </a:solidFill>
                <a:latin typeface="Arial"/>
              </a:rPr>
              <a:t>Конфли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84360" y="2347920"/>
            <a:ext cx="5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220500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Конфликтная ситу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720" y="2421000"/>
            <a:ext cx="50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27640" y="227664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Инцид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3388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пы конфлик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личностный конфлик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личностный конфли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ликт между личностью и груп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жгрупповой конфли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556280"/>
            <a:ext cx="762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Любой конфликт – это столкновение интерес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о количеству участников конфликты можно классифицировать на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нутриличностный конфл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4292280"/>
            <a:ext cx="8229600" cy="13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зникают в результате того, что производственные требования не согласуются с личными потребностями или ценностями сотруд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484280"/>
            <a:ext cx="4214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личностный конфлик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4041360"/>
            <a:ext cx="822960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влекает двух или более индивидов, воспринимающих себя как находящихся в оппозиции друг другу в отношении целей, расположений, ценностей или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446400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84360" y="620640"/>
            <a:ext cx="4476960" cy="48196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фликт между личностью и группой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450828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является как противоречие между ожиданиями или требованиями отдельной личности и сложившимися в группе нормами поведения и тр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Межгрупповой конфликт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конфликты внутри формальных групп коллектива, внутри неформальных групп, а также между формальными и неформальными групп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46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13:25:19Z</dcterms:created>
  <dc:creator>Zver</dc:creator>
  <dc:description/>
  <dc:language>en-US</dc:language>
  <cp:lastModifiedBy>Zver</cp:lastModifiedBy>
  <dcterms:modified xsi:type="dcterms:W3CDTF">2007-12-03T08:00:12Z</dcterms:modified>
  <cp:revision>9</cp:revision>
  <dc:subject/>
  <dc:title>Слайд 1</dc:title>
</cp:coreProperties>
</file>