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ECB-DD53-4619-AA69-367EB216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52D-875A-40A7-801D-FD0162BF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135-B821-4004-AF82-A426A33D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C2C-C337-444F-807D-57CE7D51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E189-41C0-492A-9C39-107C1245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68C3-FD8D-4815-8D2E-0A218D16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E77-52F8-4E11-B542-E8313A46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677B-F368-4C24-8FB8-B67F5FC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D98-F36C-4659-9FFD-30F656C6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0BC2-B922-4225-8D0A-C45E93BB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3A20-433B-4F65-9119-4AAD09B7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B20-9C54-4EE3-BDF4-D7BFC87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62AC-CA99-4D1D-A733-15790022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FD35-A37B-4993-ABDB-DCF6F7A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DD6-5238-4A09-AF4F-F1F1C691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1EAA-14F6-47B1-BB66-F2C957A9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7B7E-C325-415D-8A2D-6243E24B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C33-4E39-4E78-A6D2-7E2254D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4FB-F15F-47E4-A032-C29877E5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73B-9829-4BEF-9C52-C4F64169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EFA-020F-4119-B403-EFB09336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3BB-A2A0-4007-B49F-6A284146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C90-BDE3-4907-B56C-8EAAC80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64D-574D-4D37-BED1-6F8813D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B60C-B29C-49D0-9AF2-8D9F288070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C356-5302-4174-802F-8352EF73C3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Research Analyzes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4290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ya Djamanba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les Seyitbek u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371600"/>
            <a:ext cx="380988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2e0d"/>
                </a:solidFill>
                <a:latin typeface="Arial"/>
              </a:rPr>
              <a:t>Coca-C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1371600"/>
            <a:ext cx="297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e9ce8"/>
                </a:solidFill>
                <a:latin typeface="Arial"/>
              </a:rPr>
              <a:t>SHO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18288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do you perform i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 come from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ny interesting trainings will be offered by local companies they will think about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ke attestation of personnel – if needed additional education implemen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 come from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1992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recruitment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adverti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fill the bla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-3 Interviews with candid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adverti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C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the best/ appropriate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Q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erview with HR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earch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34671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SHI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come in the Summ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the Career Development Center and take application for internship to the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write to HR depart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Nellya or Mar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2666880" cy="2454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819520" y="4572000"/>
            <a:ext cx="31240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610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 You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sion of your compan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3848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is inspir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enduring 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 Refresh the World... in body, mind, and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 Inspire Moments of Optimism... through our brands and our 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 Create Value and Make a Difference... everywhere we eng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2759040"/>
            <a:ext cx="403848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perity of Kyrgyzstan through production of national drinks and mineral wa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ing of healthy life by using domestic recourses and know-how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 of your departme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corporate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3124080"/>
            <a:ext cx="40384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f employees in the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52520" y="4297320"/>
            <a:ext cx="3219480" cy="2408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ow many people work in your department?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peo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ge &amp; Reward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peo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R direct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communications m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nel development m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 specia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3880" y="16765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their responsibilitie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doc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–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1992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many people work in compan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sonal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ter time: 203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er time: 230-250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sonal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ter time: 700-800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er time: about 1500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1992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 you have a motivation system?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does it include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n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er opport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education – trainings, seminars,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types: material, non-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hips of depart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er opport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n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19920" y="56386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71600" y="55627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566800" cy="32511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do you evaluate your personnel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end of the year each department evaluates its employ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have yearly plans, according to them they look at the employees work 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9720" y="168444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station of the employ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have plans, according to them they look at th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 performa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employ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72428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have an educational system of the personnel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rs come from Head-office from Turkey to teach people and from Alm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educational DV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rs teach their people by themsel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send people to educational ce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any important/ needed trai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rs teach their employees by themsel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5:11Z</dcterms:created>
  <dc:creator>student</dc:creator>
  <dc:description/>
  <dc:language>en-US</dc:language>
  <cp:lastModifiedBy>nellya</cp:lastModifiedBy>
  <dcterms:modified xsi:type="dcterms:W3CDTF">2007-12-20T09:19:57Z</dcterms:modified>
  <cp:revision>13</cp:revision>
  <dc:subject/>
  <dc:title>Research Analyzes</dc:title>
</cp:coreProperties>
</file>