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33.jpeg" ContentType="image/jpeg"/>
  <Override PartName="/ppt/media/image34.gif" ContentType="image/gif"/>
  <Override PartName="/ppt/media/image3.png" ContentType="image/png"/>
  <Override PartName="/ppt/media/image17.jpeg" ContentType="image/jpeg"/>
  <Override PartName="/ppt/media/image26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32.jpeg" ContentType="image/jpeg"/>
  <Override PartName="/ppt/media/image7.png" ContentType="image/png"/>
  <Override PartName="/ppt/media/image22.jpeg" ContentType="image/jpeg"/>
  <Override PartName="/ppt/media/image12.png" ContentType="image/png"/>
  <Override PartName="/ppt/media/image10.gif" ContentType="image/gif"/>
  <Override PartName="/ppt/media/image23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11.png" ContentType="image/png"/>
  <Override PartName="/ppt/media/image6.png" ContentType="image/png"/>
  <Override PartName="/ppt/media/image29.jpeg" ContentType="image/jpeg"/>
  <Override PartName="/ppt/media/image25.png" ContentType="image/png"/>
  <Override PartName="/ppt/media/image19.jpeg" ContentType="image/jpeg"/>
  <Override PartName="/ppt/media/image2.gif" ContentType="image/gif"/>
  <Override PartName="/ppt/media/image28.png" ContentType="image/png"/>
  <Override PartName="/ppt/media/image1.wmf" ContentType="image/x-wmf"/>
  <Override PartName="/ppt/media/image15.jpeg" ContentType="image/jpeg"/>
  <Override PartName="/ppt/media/image9.gif" ContentType="image/gif"/>
  <Override PartName="/ppt/media/image16.jpeg" ContentType="image/jpeg"/>
  <Override PartName="/ppt/media/image18.jpeg" ContentType="image/jpeg"/>
  <Override PartName="/ppt/media/image20.png" ContentType="image/png"/>
  <Override PartName="/ppt/media/image2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c0c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665C-B24D-4D50-9280-57426A1E66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28C6-0481-40B1-8C30-D8251027C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8246-22CF-48CB-8E3D-C86A228F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5328-17DA-4151-98D0-11F7E761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DA6A-5AC3-4CC5-B21E-86978FD15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F0C8-FB7D-44FC-AC54-FB96CE8A6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B5DF-BC4B-41A6-88FA-23094F4A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444D-CB4A-4564-85D0-8253CA62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96C1-704D-4E4B-BDA6-A8CEFF4C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B882-5D72-4573-9FE6-4E8D1769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9390-C396-46C7-AE88-9A06F41C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9FD0-0C9E-4EEA-A1A5-584224DB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5E27-29E7-499E-B039-1ADF9738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D9FA-15D9-4D38-BE1C-B717E3C4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B029-5A56-46F1-B453-AF049CC3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5E06-6B2D-42CF-B0BB-623494D3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C24B-FD4C-40F2-9340-5FE18B99F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C4C4-6EE4-491B-A893-BB27D789A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93E3-C1F2-4152-82E2-AE3AFF06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8D98-1113-416C-82EE-7EA95E4D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ACA0-6DC9-494A-8510-5B67BA24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DB43-D259-4A25-AEA2-FE435E88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8DC0-5603-41C7-991A-94FA9223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F72F-CCA6-4A70-9080-2F683F0C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6DFA-BAA4-40F7-9EAE-545FC8BB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85986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0c0c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ba121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FFD2-416F-4114-BA1D-0E89C331CF2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CECE-6950-4051-A91E-D425C40E7B6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859868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0c0c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ba1212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67816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1302"/>
                </a:solidFill>
                <a:latin typeface="Arial"/>
              </a:rPr>
              <a:t>  </a:t>
            </a:r>
            <a:endParaRPr b="1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-360" y="3284280"/>
            <a:ext cx="62485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971640" y="404640"/>
            <a:ext cx="5904000" cy="25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миметрия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95640" y="3141720"/>
            <a:ext cx="215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c1302"/>
                </a:solidFill>
                <a:latin typeface="Arial"/>
              </a:rPr>
              <a:t>Симметрия является той идеей, посредством которой человек пытался постичь и создать порядок ,красоту и совершенство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c1302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7c1302"/>
                </a:solidFill>
                <a:latin typeface="Arial"/>
              </a:rPr>
              <a:t>Г.Вей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55640" y="3500280"/>
            <a:ext cx="2255760" cy="2484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865440" cy="17287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c0c0"/>
                </a:solidFill>
                <a:latin typeface="Comic Sans MS"/>
              </a:rPr>
              <a:t>Переносная (трансляционная) симметрия.</a:t>
            </a: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64911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При переносе (трансляции) вдоль прямой АВ на расстояние а (или кратное этой величине) фигура совмещается сама с собой. В этом случае говорят о </a:t>
            </a:r>
            <a:r>
              <a:rPr b="0" i="1" lang="en-US" sz="1700" spc="-1" strike="noStrike">
                <a:solidFill>
                  <a:srgbClr val="ffffff"/>
                </a:solidFill>
                <a:latin typeface="Comic Sans MS"/>
              </a:rPr>
              <a:t>переносной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, или </a:t>
            </a:r>
            <a:r>
              <a:rPr b="0" i="1" lang="en-US" sz="1700" spc="-1" strike="noStrike">
                <a:solidFill>
                  <a:srgbClr val="ffffff"/>
                </a:solidFill>
                <a:latin typeface="Comic Sans MS"/>
              </a:rPr>
              <a:t>трансляционной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, симметрии. Прямая АВ называется осью переноса, а расстояние </a:t>
            </a:r>
            <a:r>
              <a:rPr b="1" i="1" lang="en-US" sz="1700" spc="-1" strike="noStrike">
                <a:solidFill>
                  <a:srgbClr val="ffffff"/>
                </a:solidFill>
                <a:latin typeface="Comic Sans MS"/>
              </a:rPr>
              <a:t>а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i="1" lang="en-US" sz="1700" spc="-1" strike="noStrike">
                <a:solidFill>
                  <a:srgbClr val="ffffff"/>
                </a:solidFill>
                <a:latin typeface="Comic Sans MS"/>
              </a:rPr>
              <a:t>элементарным переносом или периодом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. Строго говоря, симметричная по отношению к переносам фигура должна быть бесконечно длинной в направлении оси переноса. Однако понятие переносной симметрии применяют и в случае фигур конечных размеров, имея в виду наблюдаемое при переносе частичное совмещение фигуры. Из рисунка видно, что при переносе конечной фигуры на расстояние а вдоль прямой АВ наблюдается совмещение участка 1 и участка 2.   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877080" y="2060640"/>
            <a:ext cx="1828800" cy="718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804000" y="4076640"/>
            <a:ext cx="2195640" cy="81144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c0c0"/>
                </a:solidFill>
                <a:latin typeface="Comic Sans MS"/>
              </a:rPr>
              <a:t>Скользящая плоскость (ось) симметрии.</a:t>
            </a: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627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omic Sans MS"/>
              </a:rPr>
              <a:t>Ранее было показано, что с последовательно выполняемыми операциями поворота и отражения может быть связан новый тип симметрии – зеркально-поворотная симметрия. Комбинирование поворотов или отражений с переносами также может выявить новые типы симметрии. В качестве примера отметим симметрию, отвечающую наличием так называемой скользящей плоскости симметрии (точнее, скользящей оси симметрии, так как рассматривается плоская фигура).   На рисунке изображена фигура, обладающая переносной симметрией вдоль оси АВ с периодом </a:t>
            </a: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2а</a:t>
            </a:r>
            <a:r>
              <a:rPr b="0" lang="en-US" sz="1500" spc="-1" strike="noStrike">
                <a:solidFill>
                  <a:srgbClr val="ffffff"/>
                </a:solidFill>
                <a:latin typeface="Comic Sans MS"/>
              </a:rPr>
              <a:t>. Нетрудно видеть, что здесь имеет место еще один тип симметрии – симметрия относительно переноса вдоль оси АВ с периодом а и последующего отражения относительно оси АВ. Ось АВ называется скользящей осью симметрии с периодом </a:t>
            </a: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а</a:t>
            </a:r>
            <a:r>
              <a:rPr b="0" lang="en-US" sz="15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084720" y="3284640"/>
            <a:ext cx="2880000" cy="10364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c0c0"/>
                </a:solidFill>
                <a:latin typeface="Comic Sans MS"/>
              </a:rPr>
              <a:t>Осевая (зеркальная) симметрия.</a:t>
            </a: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mic Sans MS"/>
              </a:rPr>
              <a:t>Фигура называется симметричной относительно прямой а, если для каждой точки фигуры симметричная ей точка относительно прямой а также принадлежит этой фигуре. Прямая а называется осью симметрии фигуры. Говорят также, что фигура обладает осевой симметрией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mic Sans MS"/>
              </a:rPr>
              <a:t>На рисунке показан простой пример объекта и его зазеркального двойника – треугольник </a:t>
            </a:r>
            <a:r>
              <a:rPr b="0" lang="en-US" sz="1500" spc="-1" strike="noStrike">
                <a:solidFill>
                  <a:srgbClr val="ffffff"/>
                </a:solidFill>
                <a:latin typeface="Comic Sans MS"/>
              </a:rPr>
              <a:t>ABC</a:t>
            </a:r>
            <a:r>
              <a:rPr b="0" lang="ru-RU" sz="1500" spc="-1" strike="noStrike">
                <a:solidFill>
                  <a:srgbClr val="ffffff"/>
                </a:solidFill>
                <a:latin typeface="Comic Sans MS"/>
              </a:rPr>
              <a:t> и треугольник А1В1С1 (здесь </a:t>
            </a:r>
            <a:r>
              <a:rPr b="0" lang="en-US" sz="1500" spc="-1" strike="noStrike">
                <a:solidFill>
                  <a:srgbClr val="ffffff"/>
                </a:solidFill>
                <a:latin typeface="Comic Sans MS"/>
              </a:rPr>
              <a:t>MN</a:t>
            </a:r>
            <a:r>
              <a:rPr b="0" lang="ru-RU" sz="1500" spc="-1" strike="noStrike">
                <a:solidFill>
                  <a:srgbClr val="ffffff"/>
                </a:solidFill>
                <a:latin typeface="Comic Sans MS"/>
              </a:rPr>
              <a:t> – пересечение плоскости зеркала с плоскостью рисунка). Каждой точке объекта соответствует определённая точка зазеркального двойника. Эти точки находятся на одном перпендикуляре к прямой </a:t>
            </a:r>
            <a:r>
              <a:rPr b="0" lang="en-US" sz="1500" spc="-1" strike="noStrike">
                <a:solidFill>
                  <a:srgbClr val="ffffff"/>
                </a:solidFill>
                <a:latin typeface="Comic Sans MS"/>
              </a:rPr>
              <a:t>MN</a:t>
            </a:r>
            <a:r>
              <a:rPr b="0" lang="ru-RU" sz="1500" spc="-1" strike="noStrike">
                <a:solidFill>
                  <a:srgbClr val="ffffff"/>
                </a:solidFill>
                <a:latin typeface="Comic Sans MS"/>
              </a:rPr>
              <a:t>, по разные стороны и на одинаковом расстоянии от неё. Объект на рисунке выбран для простоты двухмерным. В общем случае объект (и соответственно его зазеркальный двойник) является трёхмерным. 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187280" y="4149720"/>
            <a:ext cx="2087640" cy="20160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c0c0"/>
                </a:solidFill>
                <a:latin typeface="Comic Sans MS"/>
              </a:rPr>
              <a:t>Примеры осевой симметрии.</a:t>
            </a: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402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У </a:t>
            </a:r>
            <a:r>
              <a:rPr b="0" i="1" lang="en-US" sz="1900" spc="-1" strike="noStrike">
                <a:solidFill>
                  <a:srgbClr val="ffffff"/>
                </a:solidFill>
                <a:latin typeface="Comic Sans MS"/>
              </a:rPr>
              <a:t>неразвёрнутого угла</a:t>
            </a: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 одна ось симметрии - прямая, на которой расположена биссектриса угла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Comic Sans MS"/>
              </a:rPr>
              <a:t>Равнобедренный</a:t>
            </a: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 (но не равносторонний) треугольник имеет также одну ось симметрии. А </a:t>
            </a:r>
            <a:r>
              <a:rPr b="0" i="1" lang="en-US" sz="1900" spc="-1" strike="noStrike">
                <a:solidFill>
                  <a:srgbClr val="ffffff"/>
                </a:solidFill>
                <a:latin typeface="Comic Sans MS"/>
              </a:rPr>
              <a:t>равносторонний треугольник</a:t>
            </a: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 - три основные симметри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Comic Sans MS"/>
              </a:rPr>
              <a:t>Прямоугольник</a:t>
            </a: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 и </a:t>
            </a:r>
            <a:r>
              <a:rPr b="0" i="1" lang="en-US" sz="1900" spc="-1" strike="noStrike">
                <a:solidFill>
                  <a:srgbClr val="ffffff"/>
                </a:solidFill>
                <a:latin typeface="Comic Sans MS"/>
              </a:rPr>
              <a:t>ромб</a:t>
            </a: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, не являющиеся квадратами имеют по две оси симметрии, а квадрат - четыре оси симметри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ocevay5" descr=""/>
          <p:cNvPicPr/>
          <p:nvPr/>
        </p:nvPicPr>
        <p:blipFill>
          <a:blip r:embed="rId1"/>
          <a:stretch/>
        </p:blipFill>
        <p:spPr>
          <a:xfrm>
            <a:off x="5651640" y="1542960"/>
            <a:ext cx="1800000" cy="1019160"/>
          </a:xfrm>
          <a:prstGeom prst="rect">
            <a:avLst/>
          </a:prstGeom>
          <a:ln w="0">
            <a:noFill/>
          </a:ln>
        </p:spPr>
      </p:pic>
      <p:pic>
        <p:nvPicPr>
          <p:cNvPr id="215" name="ocevay4" descr=""/>
          <p:cNvPicPr/>
          <p:nvPr/>
        </p:nvPicPr>
        <p:blipFill>
          <a:blip r:embed="rId2"/>
          <a:stretch/>
        </p:blipFill>
        <p:spPr>
          <a:xfrm>
            <a:off x="5148360" y="2924280"/>
            <a:ext cx="1439640" cy="1439640"/>
          </a:xfrm>
          <a:prstGeom prst="rect">
            <a:avLst/>
          </a:prstGeom>
          <a:ln w="0">
            <a:noFill/>
          </a:ln>
        </p:spPr>
      </p:pic>
      <p:pic>
        <p:nvPicPr>
          <p:cNvPr id="216" name="ocevay3" descr=""/>
          <p:cNvPicPr/>
          <p:nvPr/>
        </p:nvPicPr>
        <p:blipFill>
          <a:blip r:embed="rId3"/>
          <a:stretch/>
        </p:blipFill>
        <p:spPr>
          <a:xfrm>
            <a:off x="7451640" y="2565360"/>
            <a:ext cx="1320840" cy="1811520"/>
          </a:xfrm>
          <a:prstGeom prst="rect">
            <a:avLst/>
          </a:prstGeom>
          <a:ln w="0">
            <a:noFill/>
          </a:ln>
        </p:spPr>
      </p:pic>
      <p:pic>
        <p:nvPicPr>
          <p:cNvPr id="217" name="c1-2.h8" descr=""/>
          <p:cNvPicPr/>
          <p:nvPr/>
        </p:nvPicPr>
        <p:blipFill>
          <a:blip r:embed="rId4"/>
          <a:stretch/>
        </p:blipFill>
        <p:spPr>
          <a:xfrm>
            <a:off x="4500720" y="4653000"/>
            <a:ext cx="2152440" cy="1733400"/>
          </a:xfrm>
          <a:prstGeom prst="rect">
            <a:avLst/>
          </a:prstGeom>
          <a:ln w="0">
            <a:noFill/>
          </a:ln>
        </p:spPr>
      </p:pic>
      <p:pic>
        <p:nvPicPr>
          <p:cNvPr id="218" name="ocevay2" descr=""/>
          <p:cNvPicPr/>
          <p:nvPr/>
        </p:nvPicPr>
        <p:blipFill>
          <a:blip r:embed="rId5"/>
          <a:stretch/>
        </p:blipFill>
        <p:spPr>
          <a:xfrm>
            <a:off x="7380360" y="4389480"/>
            <a:ext cx="1257120" cy="246852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5051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Comic Sans MS"/>
              </a:rPr>
              <a:t>Энантиоморфы </a:t>
            </a:r>
            <a:r>
              <a:rPr b="0" i="1" lang="en-US" sz="1700" spc="-1" strike="noStrike">
                <a:solidFill>
                  <a:srgbClr val="ffffff"/>
                </a:solidFill>
                <a:latin typeface="Comic Sans MS"/>
              </a:rPr>
              <a:t>– это пара зеркально асимметричных объектов (фигур), являющихся зеркальным изображением один другого. 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Иными словами, энантиоморфы – это объект и его зазеркальный двойник при условии, что сам объект зеркально асимметричен. Энантиоморфами могут быть отдельные объекты, но могут быть и половинки соответствующим образом разрезанного объекта. Чтобы различить энантиоморфы в данной паре, вводят обозначения «левый» и «правый». </a:t>
            </a:r>
            <a:r>
              <a:rPr b="0" i="1" lang="en-US" sz="1700" spc="-1" strike="noStrike">
                <a:solidFill>
                  <a:srgbClr val="ffffff"/>
                </a:solidFill>
                <a:latin typeface="Comic Sans MS"/>
              </a:rPr>
              <a:t>Один из энантиоморфов левый, а другой правый. 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Не имеет принципиального значения, какой именно назван левым (правым); это вопрос договоренности, традиции, привычки.  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c0c0c0"/>
                </a:solidFill>
                <a:latin typeface="Comic Sans MS"/>
              </a:rPr>
              <a:t>Энантиоморфы.</a:t>
            </a: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21" name="foto19f" descr=""/>
          <p:cNvPicPr/>
          <p:nvPr/>
        </p:nvPicPr>
        <p:blipFill>
          <a:blip r:embed="rId1"/>
          <a:stretch/>
        </p:blipFill>
        <p:spPr>
          <a:xfrm>
            <a:off x="5940360" y="1844640"/>
            <a:ext cx="2087640" cy="1886040"/>
          </a:xfrm>
          <a:prstGeom prst="rect">
            <a:avLst/>
          </a:prstGeom>
          <a:ln w="0">
            <a:noFill/>
          </a:ln>
        </p:spPr>
      </p:pic>
      <p:pic>
        <p:nvPicPr>
          <p:cNvPr id="222" name="foto19d" descr=""/>
          <p:cNvPicPr/>
          <p:nvPr/>
        </p:nvPicPr>
        <p:blipFill>
          <a:blip r:embed="rId2"/>
          <a:stretch/>
        </p:blipFill>
        <p:spPr>
          <a:xfrm>
            <a:off x="5940360" y="4292640"/>
            <a:ext cx="2160720" cy="19940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Arial"/>
              </a:rPr>
              <a:t>Фигуры, обладающие осевой симметрией в природе</a:t>
            </a:r>
            <a:endParaRPr b="1" lang="en-US" sz="35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24000" y="3595680"/>
            <a:ext cx="3168360" cy="20653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867280" y="3573360"/>
            <a:ext cx="3059280" cy="20574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3708360" y="1700280"/>
            <a:ext cx="1967040" cy="2952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2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4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c0c0"/>
                </a:solidFill>
                <a:latin typeface="Arial"/>
              </a:rPr>
              <a:t>СИММЕТРИЯ У РАСТЕНИЙ</a:t>
            </a:r>
            <a:br>
              <a:rPr sz="3900"/>
            </a:b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Характерная для растений симметрия конуса хорошо видна на примере любого дерева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Дерево поглощает из почвы влагу и питательные вещества за счёт корневой системы, то есть снизу, а остальные жизненно важные функции выполняются кроной, то есть наверху. Поэтому направления «вверх» и «вниз» для дерева, существенно различны. А направления в плоскости перпендикулярной к вертикали, для дерева фактически неразличимы: по всем этим направлениям к дереву в равной мере поступают воздух, свет, и влага. В результате появляется вертикальная поворотная ось и вертикальная плоскость симметрии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У цветковых растений в большинстве проявляется радиальная и билатеральная симметрия. Цветок считается симметричным, когда каждый околоцветник состоит из равного числа частей. Цветки, имея парные части, считаются цветками с двойной симметрией и т.д. Тройная симметрия обычна для однодольных растений, пятерная – для двудольных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c0c0"/>
                </a:solidFill>
                <a:latin typeface="Arial"/>
              </a:rPr>
              <a:t>СИММЕТРИЯ У ЧЕЛОВЕКА</a:t>
            </a:r>
            <a:br>
              <a:rPr sz="3900"/>
            </a:b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Тело человека построено по принципу двусторонней симметрии. Большинство из нас рассматривает мозг как единую структуру, в действительности он разделён на две половины. Эти две части – два полушария – плотно прилегают друг к другу. В полном соответствии с общей симметрией тела человека каждое полушарие представляет собой почти точное зеркальное отображение другого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Управление основными движениями тела человека и его сенсорными функциями равномерно распределено между двумя полушариями мозга. Левое полушарие контролирует правую сторону мозга, а правое – левую сторону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Физическая симметрия тела и мозга не означает, что правая сторона и левая равноценны во всех отношениях. Достаточно обратить внимание на действия наших рук, чтобы увидеть начальные признаки функциональной симметрии. Лишь немногие люди одинаково владеют обеими руками; большинство же имеет ведущую руку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Женщины более склонны к леворукости, чем мужчины. У них потрясающая интуиция, которая «живёт» в правом полушарии, но слабее пространственная функция, логика, воля самоконтроль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Среди мужчин много композиторов, художников, что говорит о развитии левого полушария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c0c0"/>
                </a:solidFill>
                <a:latin typeface="Arial"/>
              </a:rPr>
              <a:t>СИММЕТРИЯ У ЖИВОТНЫХ</a:t>
            </a:r>
            <a:br>
              <a:rPr sz="3900"/>
            </a:b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Под симметрией у животных понимают соответствие в размерах, форме и очертаниях, а также относительное расположение частей тела, находящихся на противоположных сторонах разделяющей линии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Сферическая симметрия имеет место у радиолярий и солнечников, тело которых сферической формы, а его части распределены вокруг центра сферы и отходят от неё. У таких организмов нет ни передней, ни задней, ни боковых частей тела, любая плоскость, проведённая через центр, делит животное на одинаковые половинки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При радиальной или лучистой симметрии тело имеет форму короткого или длинного цилиндра либо сосуда с центральной осью, от которого отходят в радиальном порядке части тела. Это кишечнополостные, иглокожие, морские звёзды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При билатеральной симметрии осей симметрии три, но симметричных сторон только одна пара. Потому что две другие стороны – брюшная и спинная – друг на друга не похожи. Этот вид симметрии характерен для большинства животных, в том числе насекомых, рыб, земноводных, рептилий, птиц, млекопитающих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7667640" y="4941720"/>
            <a:ext cx="1224000" cy="1413000"/>
          </a:xfrm>
          <a:prstGeom prst="rect">
            <a:avLst/>
          </a:prstGeom>
          <a:ln w="0">
            <a:noFill/>
          </a:ln>
        </p:spPr>
      </p:pic>
    </p:spTree>
  </p:cSld>
  <p:transition spd="slow" advTm="0">
    <p:wedg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05056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c0c0"/>
                </a:solidFill>
                <a:latin typeface="Arial"/>
              </a:rPr>
              <a:t>СИММЕТРИЯ В                                            АРХИТЕКТУРЕ</a:t>
            </a: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В геометрических орнаментах всех веков запечатлены неиссякаемые  фантазия и изобразительность художников и мастеров, чьё творчество было ограничено жёсткими рамками, установленными неукоснительным следованием принципам симметрии. Трактуемые несравненно шире идеи симметрии нередко можно встретить в живописи, скульптуре, музыке и поэзии. Во многих случаях именно язык симметрии оказывается особенно пригодным для обсуждения произведений искусства, даже если последние отличаются отклонениями от симметрии или их создатели стремились умышленно её избежать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684360" y="2445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реческое слово «симметрия» означает «соразмерность», «пропорциональ­ность», «одинаковость в расположении частей». Однако часто под словом «сим­метрия» понимают более широкое понятие: регулярность смены каких-либо явле­ний (времен года, дня и ночи и т.д.), уравновешенность левого и правого, рав­ноправие природных явлений. Фактически мы имеем дело с симметрией везде, где наблюдается какая-либо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порядоченнос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619280" y="620640"/>
            <a:ext cx="4591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то такое симметрия 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948360" y="4941720"/>
            <a:ext cx="936720" cy="1368720"/>
          </a:xfrm>
          <a:prstGeom prst="rect">
            <a:avLst/>
          </a:prstGeom>
          <a:ln w="0">
            <a:noFill/>
          </a:ln>
        </p:spPr>
      </p:pic>
    </p:spTree>
  </p:cSld>
  <p:transition advTm="17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692360" y="1413000"/>
            <a:ext cx="5470560" cy="102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иды симметрии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324000" y="3284640"/>
            <a:ext cx="1944360" cy="1152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5148360" y="3213000"/>
            <a:ext cx="3024000" cy="1224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084720" y="27082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физик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89080" y="3500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математи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278136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хим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16360" y="4292640"/>
            <a:ext cx="1800000" cy="2158920"/>
          </a:xfrm>
          <a:prstGeom prst="triangle">
            <a:avLst>
              <a:gd name="adj" fmla="val 48412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80000" y="3933720"/>
            <a:ext cx="12600" cy="3124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ревнегреческий философ Платон придавал особое значение правильным многогранникам, считая их олицетворением четырёх природных стихий: огонь-тетраэдр (вершина всегда обращена вверх), земля-куб (наиболее устойчивое тело), воздух-октаэдр, вода-икосаэдр (наиболее «катучее» тело). Додекаэдр представлялся как образ всей Вселенной. Именно поэтому правильные многогранники называются также телами Плато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стейшими видами пространственной симметрии являются центральная, осевая, зеркально- поворотная  и симметрия перенос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900000" y="260280"/>
            <a:ext cx="60436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д симметрии в математике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916360" y="414972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p:transition spd="slow" advTm="36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c0c0"/>
                </a:solidFill>
                <a:latin typeface="Comic Sans MS"/>
              </a:rPr>
              <a:t>Центральная симметрия.</a:t>
            </a:r>
            <a:br>
              <a:rPr sz="3900"/>
            </a:b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338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Фигура называется симметричной относительно точки О, если для каждой точки фигуры симметричная ей точка относительно точки О также принадлежит этой фигуре. Точка О называется центром симметрии фигуры. Говорят также, что фигура обладает центральной симметрией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227640" y="4076640"/>
            <a:ext cx="1656000" cy="18446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c0c0"/>
                </a:solidFill>
                <a:latin typeface="Comic Sans MS"/>
              </a:rPr>
              <a:t>Примеры центральной симметрии.</a:t>
            </a: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906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Простейшими фигурами, обладающими центральной симметрией, является </a:t>
            </a:r>
            <a:r>
              <a:rPr b="0" i="1" lang="en-US" sz="1900" spc="-1" strike="noStrike">
                <a:solidFill>
                  <a:srgbClr val="ffffff"/>
                </a:solidFill>
                <a:latin typeface="Comic Sans MS"/>
              </a:rPr>
              <a:t>окружность</a:t>
            </a: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 и </a:t>
            </a:r>
            <a:r>
              <a:rPr b="0" i="1" lang="en-US" sz="1900" spc="-1" strike="noStrike">
                <a:solidFill>
                  <a:srgbClr val="ffffff"/>
                </a:solidFill>
                <a:latin typeface="Comic Sans MS"/>
              </a:rPr>
              <a:t>параллелограмм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971640" y="306864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435640" y="3068640"/>
            <a:ext cx="3384360" cy="16858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700360" y="3141720"/>
            <a:ext cx="2879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Центром симметрии окружности является центр окружности, а центром симметрии параллелограмма - точка пересечения его диагонал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9640" y="4986720"/>
            <a:ext cx="8066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Прямая также обладает центральной симметрией, однако в отличие от окружности и параллелограмма, которые имеют только один центр симметрии(точка О на рисунке) у прямой их бесконечно много - любая точка прямой является её центром симметрии. Примером фигуры, не имеющей центра симметрии, является треугольни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2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c0c0"/>
                </a:solidFill>
                <a:latin typeface="Comic Sans MS"/>
              </a:rPr>
              <a:t>Поворотная симметрия.</a:t>
            </a: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57704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Предположим, что объект совмещается сам с собой при повороте вокруг некоторой оси на угол, равный 360</a:t>
            </a:r>
            <a:r>
              <a:rPr b="0" lang="ru-RU" sz="17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/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 (или кратный этой величине),     где 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 = 2, 3, 4, … В этом случае о поворотной симметрии, а указанную ось называют поворотной осью 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-го порядка. Рассмотрим примеры со всеми известными буквами «И» и «Ф». </a:t>
            </a:r>
            <a:r>
              <a:rPr b="0" i="1" lang="ru-RU" sz="1700" spc="-1" strike="noStrike">
                <a:solidFill>
                  <a:srgbClr val="ffffff"/>
                </a:solidFill>
                <a:latin typeface="Comic Sans MS"/>
              </a:rPr>
              <a:t>Что касается буквы «И», то у нее есть так называемая поворотная симметрия.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 Если повернуть букву «И» на 180</a:t>
            </a:r>
            <a:r>
              <a:rPr b="0" lang="ru-RU" sz="17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 вокруг оси, перпендикулярной к плоскости буквы и проходящей через ее центр, то буква совместится сама с собой. Иными словами, буква «И» симметрична относительно поворота на 180</a:t>
            </a:r>
            <a:r>
              <a:rPr b="0" lang="ru-RU" sz="17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. Заметим, что поворотной симметрией обладает также буква «Ф»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26920" y="501300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На рисунке даны примеры простых объектов с поворотными осями разного порядка – от 2-го до 5-г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foto17_1" descr=""/>
          <p:cNvPicPr/>
          <p:nvPr/>
        </p:nvPicPr>
        <p:blipFill>
          <a:blip r:embed="rId1"/>
          <a:stretch/>
        </p:blipFill>
        <p:spPr>
          <a:xfrm>
            <a:off x="6300720" y="1484280"/>
            <a:ext cx="1524240" cy="1457280"/>
          </a:xfrm>
          <a:prstGeom prst="rect">
            <a:avLst/>
          </a:prstGeom>
          <a:ln w="0">
            <a:noFill/>
          </a:ln>
        </p:spPr>
      </p:pic>
      <p:pic>
        <p:nvPicPr>
          <p:cNvPr id="191" name="foto17_2" descr=""/>
          <p:cNvPicPr/>
          <p:nvPr/>
        </p:nvPicPr>
        <p:blipFill>
          <a:blip r:embed="rId2"/>
          <a:stretch/>
        </p:blipFill>
        <p:spPr>
          <a:xfrm>
            <a:off x="7451640" y="2781360"/>
            <a:ext cx="1524240" cy="1457280"/>
          </a:xfrm>
          <a:prstGeom prst="rect">
            <a:avLst/>
          </a:prstGeom>
          <a:ln w="0">
            <a:noFill/>
          </a:ln>
        </p:spPr>
      </p:pic>
      <p:pic>
        <p:nvPicPr>
          <p:cNvPr id="192" name="foto17_3" descr=""/>
          <p:cNvPicPr/>
          <p:nvPr/>
        </p:nvPicPr>
        <p:blipFill>
          <a:blip r:embed="rId3"/>
          <a:stretch/>
        </p:blipFill>
        <p:spPr>
          <a:xfrm>
            <a:off x="6300720" y="3933720"/>
            <a:ext cx="1524240" cy="1467000"/>
          </a:xfrm>
          <a:prstGeom prst="rect">
            <a:avLst/>
          </a:prstGeom>
          <a:ln w="0">
            <a:noFill/>
          </a:ln>
        </p:spPr>
      </p:pic>
      <p:pic>
        <p:nvPicPr>
          <p:cNvPr id="193" name="foto17_4" descr=""/>
          <p:cNvPicPr/>
          <p:nvPr/>
        </p:nvPicPr>
        <p:blipFill>
          <a:blip r:embed="rId4"/>
          <a:stretch/>
        </p:blipFill>
        <p:spPr>
          <a:xfrm>
            <a:off x="7620120" y="5438880"/>
            <a:ext cx="1523880" cy="1419120"/>
          </a:xfrm>
          <a:prstGeom prst="rect">
            <a:avLst/>
          </a:prstGeom>
          <a:ln w="0">
            <a:noFill/>
          </a:ln>
        </p:spPr>
      </p:pic>
    </p:spTree>
  </p:cSld>
  <p:transition spd="slow" advTm="37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7740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У трехмерного объекта может быть несколько поворотных осей. Например, первый объект на рисунке имеет не одну, а три поворотные оси 2-го порядка, второй объект имеет наряду с поворотной осью 3-го порядка три поворотные оси 2-го порядка, третий объект имеет наряду с поворотной осью 4-го порядка четыре поворотные оси 2-го порядка (дополнительные поворотные оси показаны на рисунке штриховыми прямыми). Интересна поворотная симметрия кругового цилиндра. Он имеет бесконечное число поворотных осей 2-го порядка и одну поворотную ось бесконечно высокого порядка.  Для описания симметрии конкретного объекта надо указать все поворотные оси и их порядок, а также все плоскости симметрии. Рассмотрим, например, геометрическое тело, составленное из двух одинаковых правильных четырехугольных пирамид. Оно имеет одну поворотную ось 4-го порядка (ось АВ), четыре поворотные оси 2-го порядка (оси СЕ, 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DF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MP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NQ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), пять плоскостей симметрии (плоскости 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CDEF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AFBD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ACBE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AMBP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ANBQ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)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foto14" descr=""/>
          <p:cNvPicPr/>
          <p:nvPr/>
        </p:nvPicPr>
        <p:blipFill>
          <a:blip r:embed="rId1"/>
          <a:stretch/>
        </p:blipFill>
        <p:spPr>
          <a:xfrm>
            <a:off x="7527960" y="2565360"/>
            <a:ext cx="1616040" cy="24703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c0c0"/>
                </a:solidFill>
                <a:latin typeface="Comic Sans MS"/>
              </a:rPr>
              <a:t>Зеркально-поворотная симметрия.</a:t>
            </a: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778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mic Sans MS"/>
              </a:rPr>
              <a:t>Доказать, что существует такой вид симметрии, мы предлагаем вам самим. Вырежьте из плотной бумаги квадрат и впишите внутрь его косо другой квадрат (рис.1).  Затем отогните углы бумаги по линиям, ограничивающим внутренний квадрат (соседние углы отгибаются в противоположные стороны). В результате получите объект, показанный на рисунке (рис.2). Он имеет поворотную ось 2-го порядка (ось АВ) и не имеет плоскостей симметрии. Будем рассматривать изделия сначала сверху, а затем снизу (с противоположной стороны листа бумаги). Мы обнаружим, что никакого различия между «верхом» и «низом» нет; в обоих случаях объект выглядит одинаково. В связи с этим возникает мысль, что поворотная симметрия 2-го порядка не исчерпывает всей симметрии данного объекта.            Дополнительная симметрия, которой обладает наш объект, - это так называемая зеркально-поворотная симметрия: объект совмещается сам с собой в результате поворота на 90</a:t>
            </a:r>
            <a:r>
              <a:rPr b="0" lang="ru-RU" sz="15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ru-RU" sz="1500" spc="-1" strike="noStrike">
                <a:solidFill>
                  <a:srgbClr val="ffffff"/>
                </a:solidFill>
                <a:latin typeface="Comic Sans MS"/>
              </a:rPr>
              <a:t> вокруг оси АВ и последующего отражения в плоскости </a:t>
            </a:r>
            <a:r>
              <a:rPr b="0" lang="en-US" sz="1500" spc="-1" strike="noStrike">
                <a:solidFill>
                  <a:srgbClr val="ffffff"/>
                </a:solidFill>
                <a:latin typeface="Comic Sans MS"/>
              </a:rPr>
              <a:t>CDEF</a:t>
            </a:r>
            <a:r>
              <a:rPr b="0" lang="ru-RU" sz="1500" spc="-1" strike="noStrike">
                <a:solidFill>
                  <a:srgbClr val="ffffff"/>
                </a:solidFill>
                <a:latin typeface="Comic Sans MS"/>
              </a:rPr>
              <a:t>. Ось АВ называют зеркально-поворотной осью 4-го порядка. Таким образом, здесь наблюдается симметрия относительно двух последовательно выполняемых операций – поворота на 90 и отражения в плоскости, перпендикулярной к оси поворота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66560" y="567072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рис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48200" y="322272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рис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308720" y="1773360"/>
            <a:ext cx="1438560" cy="1476360"/>
          </a:xfrm>
          <a:prstGeom prst="rect">
            <a:avLst/>
          </a:prstGeom>
          <a:ln w="0">
            <a:noFill/>
          </a:ln>
        </p:spPr>
      </p:pic>
      <p:pic>
        <p:nvPicPr>
          <p:cNvPr id="201" name="foto15_2" descr=""/>
          <p:cNvPicPr/>
          <p:nvPr/>
        </p:nvPicPr>
        <p:blipFill>
          <a:blip r:embed="rId2"/>
          <a:stretch/>
        </p:blipFill>
        <p:spPr>
          <a:xfrm>
            <a:off x="7308720" y="3933720"/>
            <a:ext cx="1476360" cy="1562040"/>
          </a:xfrm>
          <a:prstGeom prst="rect">
            <a:avLst/>
          </a:prstGeom>
          <a:ln w="0">
            <a:noFill/>
          </a:ln>
        </p:spPr>
      </p:pic>
    </p:spTree>
  </p:cSld>
  <p:transition spd="slow" advTm="29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11:17:45Z</dcterms:created>
  <dc:creator>USER</dc:creator>
  <dc:description/>
  <dc:language>en-US</dc:language>
  <cp:lastModifiedBy>USER</cp:lastModifiedBy>
  <dcterms:modified xsi:type="dcterms:W3CDTF">2009-03-22T13:01:19Z</dcterms:modified>
  <cp:revision>5</cp:revision>
  <dc:subject/>
  <dc:title>  </dc:title>
</cp:coreProperties>
</file>