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3A319-F2F9-4F6C-806E-E36EB560A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B720D-F6E0-4E91-A93F-C24D3495A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458AC-7BDF-4C63-B722-178966FAB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BE4E8-821F-4D2B-9BB0-3E39DC98C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AEB38-EED2-4208-86D4-6E879F2DE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D081F-8906-48B2-8A8F-8D7C44B41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2D1BA-7356-46CB-8DB9-DDF2371A7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DC7DC-93B4-4318-A510-7781E84C3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79079-1B90-4D7F-91AC-8CC54F798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629D8-A7FA-45C3-8E94-818E57B01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957EB-92E8-4653-96DE-754BE3149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F729A-7B8A-49B8-90A6-74563B7D8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9A54E-8E52-4334-A522-D5FF53E80D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3808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П1. отложить на данном луче от его начала отрезок, равный данному отрезку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5800" y="4800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962520" y="4800600"/>
            <a:ext cx="38098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44800" y="4495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811680" y="49528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62520" y="4800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107320" y="49528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240320" y="495288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924640" y="3734640"/>
            <a:ext cx="2183400" cy="2134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3313" y="296"/>
                </a:moveTo>
                <a:arcTo wR="10800" hR="10800" stAng="-4592669" swAng="8443965"/>
                <a:lnTo>
                  <a:pt x="10800" y="10800"/>
                </a:lnTo>
                <a:close/>
              </a:path>
              <a:path fill="none" w="21600" h="21600">
                <a:moveTo>
                  <a:pt x="13313" y="296"/>
                </a:moveTo>
                <a:arcTo wR="10800" hR="10800" stAng="-4592669" swAng="8443965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488920" y="3200400"/>
            <a:ext cx="151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строени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752480"/>
            <a:ext cx="833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иркулем измеряем отрезок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центром в точке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водим дугу радиус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 = a. SA –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комый отрезо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40240" y="3200400"/>
            <a:ext cx="77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н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00760" y="6019920"/>
            <a:ext cx="160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 -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ком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8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1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" dur="5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5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8" dur="5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0"/>
                            </p:stCondLst>
                            <p:childTnLst>
                              <p:par>
                                <p:cTn id="5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762120" y="380880"/>
            <a:ext cx="701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П10. Построить прямую, проходящую через данную точку Р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араллельную данной прямой АВ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пособ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31520" y="2743200"/>
            <a:ext cx="151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строени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80160" y="1219320"/>
            <a:ext cx="8202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центром в точке Р и радиусом, большим расстояния от Р до прямой АВ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водим дугу, пересекающую АВ точках М 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з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м же радиусо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писываем вторую дугу. С центром в Р строим третью дугу радиусом 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на пересечет вторую дугу в точке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. PQ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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752480" y="4648320"/>
            <a:ext cx="457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981080" y="5562720"/>
            <a:ext cx="457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flipH="1" flipV="1">
            <a:off x="3148920" y="3508920"/>
            <a:ext cx="2361600" cy="2294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29" y="7787"/>
                </a:moveTo>
                <a:arcTo wR="10800" hR="10800" stAng="-9828098" swAng="8604576"/>
                <a:lnTo>
                  <a:pt x="10800" y="10800"/>
                </a:lnTo>
                <a:close/>
              </a:path>
              <a:path fill="none" w="21600" h="21600">
                <a:moveTo>
                  <a:pt x="429" y="7787"/>
                </a:moveTo>
                <a:arcTo wR="10800" hR="10800" stAng="-9828098" swAng="8604576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343400" y="464832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345200" y="41911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278160" y="5562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954680" y="55627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flipH="1" flipV="1">
            <a:off x="2348280" y="4343400"/>
            <a:ext cx="2361600" cy="2294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079" y="16327"/>
                </a:moveTo>
                <a:arcTo wR="10800" hR="10800" stAng="1846818" swAng="7332094"/>
                <a:lnTo>
                  <a:pt x="10800" y="10800"/>
                </a:lnTo>
                <a:close/>
              </a:path>
              <a:path fill="none" w="21600" h="21600">
                <a:moveTo>
                  <a:pt x="20079" y="16327"/>
                </a:moveTo>
                <a:arcTo wR="10800" hR="10800" stAng="1846818" swAng="7332094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439720" y="426708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H="1" flipV="1">
            <a:off x="2742480" y="3469680"/>
            <a:ext cx="2361960" cy="229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9247" y="4070"/>
                </a:moveTo>
                <a:arcTo wR="10800" hR="10800" stAng="-2312766" swAng="5335396"/>
                <a:lnTo>
                  <a:pt x="10800" y="10800"/>
                </a:lnTo>
                <a:close/>
              </a:path>
              <a:path fill="none" w="21600" h="21600">
                <a:moveTo>
                  <a:pt x="19247" y="4070"/>
                </a:moveTo>
                <a:arcTo wR="10800" hR="10800" stAng="-2312766" swAng="5335396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2" dur="indefinite" restart="never" nodeType="tmRoot">
          <p:childTnLst>
            <p:seq>
              <p:cTn id="643" dur="indefinite" nodeType="mainSeq">
                <p:childTnLst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48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5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54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57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" fill="hold">
                            <p:stCondLst>
                              <p:cond delay="500"/>
                            </p:stCondLst>
                            <p:childTnLst>
                              <p:par>
                                <p:cTn id="659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661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2" fill="hold">
                            <p:stCondLst>
                              <p:cond delay="2500"/>
                            </p:stCondLst>
                            <p:childTnLst>
                              <p:par>
                                <p:cTn id="663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665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6" fill="hold">
                            <p:stCondLst>
                              <p:cond delay="4500"/>
                            </p:stCondLst>
                            <p:childTnLst>
                              <p:par>
                                <p:cTn id="66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69" dur="3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fill="hold">
                            <p:stCondLst>
                              <p:cond delay="7500"/>
                            </p:stCondLst>
                            <p:childTnLst>
                              <p:par>
                                <p:cTn id="671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673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fill="hold">
                            <p:stCondLst>
                              <p:cond delay="8500"/>
                            </p:stCondLst>
                            <p:childTnLst>
                              <p:par>
                                <p:cTn id="675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677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9500"/>
                            </p:stCondLst>
                            <p:childTnLst>
                              <p:par>
                                <p:cTn id="67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81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fill="hold">
                            <p:stCondLst>
                              <p:cond delay="11500"/>
                            </p:stCondLst>
                            <p:childTnLst>
                              <p:par>
                                <p:cTn id="68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85" dur="3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6" fill="hold">
                            <p:stCondLst>
                              <p:cond delay="14500"/>
                            </p:stCondLst>
                            <p:childTnLst>
                              <p:par>
                                <p:cTn id="68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89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" fill="hold">
                            <p:stCondLst>
                              <p:cond delay="15000"/>
                            </p:stCondLst>
                            <p:childTnLst>
                              <p:par>
                                <p:cTn id="69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93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762120" y="380880"/>
            <a:ext cx="701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П10. Построить прямую, проходящую через данную точку Р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араллельную данной прямой АВ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пособ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28600" y="1219320"/>
            <a:ext cx="8637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центром в точке Р и радиусом, большим расстояния от Р до прямой АВ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водим дугу, пересекающую АВ точках 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 центром в точке М тем ж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диусом проводим дугу, пересекающую прямую АВ в точке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центром в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тем же радиусом проводим дугу, пересекающую первую дугу в точке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Q –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комая прямая, параллельная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431520" y="2743200"/>
            <a:ext cx="151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строени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752480" y="4648320"/>
            <a:ext cx="457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981080" y="5562720"/>
            <a:ext cx="457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H="1" flipV="1">
            <a:off x="3145680" y="3510720"/>
            <a:ext cx="2363400" cy="2293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526" y="16334"/>
                </a:moveTo>
                <a:arcTo wR="10800" hR="10800" stAng="8950491" swAng="8148397"/>
                <a:lnTo>
                  <a:pt x="10800" y="10800"/>
                </a:lnTo>
                <a:close/>
              </a:path>
              <a:path fill="none" w="21600" h="21600">
                <a:moveTo>
                  <a:pt x="1526" y="16334"/>
                </a:moveTo>
                <a:arcTo wR="10800" hR="10800" stAng="8950491" swAng="8148397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343400" y="464832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345200" y="41911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031000" y="56386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326280" y="55627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5091840" y="4343400"/>
            <a:ext cx="2360880" cy="2294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079" y="16327"/>
                </a:moveTo>
                <a:arcTo wR="10800" hR="10800" stAng="1846818" swAng="4054166"/>
                <a:lnTo>
                  <a:pt x="10800" y="10800"/>
                </a:lnTo>
                <a:close/>
              </a:path>
              <a:path fill="none" w="21600" h="21600">
                <a:moveTo>
                  <a:pt x="20079" y="16327"/>
                </a:moveTo>
                <a:arcTo wR="10800" hR="10800" stAng="1846818" swAng="4054166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411520" y="419112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H="1" flipV="1">
            <a:off x="3999600" y="4341240"/>
            <a:ext cx="2361960" cy="2297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23" y="14414"/>
                </a:moveTo>
                <a:arcTo wR="10800" hR="10800" stAng="9626896" swAng="2803828"/>
                <a:lnTo>
                  <a:pt x="10800" y="10800"/>
                </a:lnTo>
                <a:close/>
              </a:path>
              <a:path fill="none" w="21600" h="21600">
                <a:moveTo>
                  <a:pt x="623" y="14414"/>
                </a:moveTo>
                <a:arcTo wR="10800" hR="10800" stAng="9626896" swAng="2803828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4" dur="indefinite" restart="never" nodeType="tmRoot">
          <p:childTnLst>
            <p:seq>
              <p:cTn id="695" dur="indefinite" nodeType="mainSeq">
                <p:childTnLst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00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1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03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06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09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0" fill="hold">
                            <p:stCondLst>
                              <p:cond delay="500"/>
                            </p:stCondLst>
                            <p:childTnLst>
                              <p:par>
                                <p:cTn id="711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13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4" fill="hold">
                            <p:stCondLst>
                              <p:cond delay="2500"/>
                            </p:stCondLst>
                            <p:childTnLst>
                              <p:par>
                                <p:cTn id="715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17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8" fill="hold">
                            <p:stCondLst>
                              <p:cond delay="4500"/>
                            </p:stCondLst>
                            <p:childTnLst>
                              <p:par>
                                <p:cTn id="71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21" dur="3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2" fill="hold">
                            <p:stCondLst>
                              <p:cond delay="7500"/>
                            </p:stCondLst>
                            <p:childTnLst>
                              <p:par>
                                <p:cTn id="723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25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6" fill="hold">
                            <p:stCondLst>
                              <p:cond delay="8500"/>
                            </p:stCondLst>
                            <p:childTnLst>
                              <p:par>
                                <p:cTn id="72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29" dur="3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0" fill="hold">
                            <p:stCondLst>
                              <p:cond delay="11500"/>
                            </p:stCondLst>
                            <p:childTnLst>
                              <p:par>
                                <p:cTn id="731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33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fill="hold">
                            <p:stCondLst>
                              <p:cond delay="12500"/>
                            </p:stCondLst>
                            <p:childTnLst>
                              <p:par>
                                <p:cTn id="73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37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8" fill="hold">
                            <p:stCondLst>
                              <p:cond delay="14500"/>
                            </p:stCondLst>
                            <p:childTnLst>
                              <p:par>
                                <p:cTn id="73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41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fill="hold">
                            <p:stCondLst>
                              <p:cond delay="15000"/>
                            </p:stCondLst>
                            <p:childTnLst>
                              <p:par>
                                <p:cTn id="74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45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306720" y="380880"/>
            <a:ext cx="823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П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построить прямоугольный треугольник по гипотенузе и острому угл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06000" y="1143000"/>
            <a:ext cx="8768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произвольной прямой от произвольно взятой на ней точки А откладывае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резок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=a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лее строим угол, равный данному углу 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На другую сторон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гла опускаем перпендикуляр из второго конца гипотенузы – точки В. Получа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ршину С прямого угла искомого треугольника АВ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145160" y="2743200"/>
            <a:ext cx="77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н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297440" y="32004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85800" y="502920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685800" y="4191120"/>
            <a:ext cx="1828800" cy="838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09480" y="3581280"/>
            <a:ext cx="17528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525680" y="457200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488920" y="2819520"/>
            <a:ext cx="151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строени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411880" y="434340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038480" y="4724280"/>
            <a:ext cx="4038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952880" y="4724280"/>
            <a:ext cx="17528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802400" y="48769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554880" y="48769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4952880" y="4038120"/>
            <a:ext cx="144792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400800" y="4038480"/>
            <a:ext cx="30492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6174000" y="36576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716800" y="4724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5295240" y="4466880"/>
            <a:ext cx="227880" cy="1029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68" y="5916"/>
                </a:moveTo>
                <a:arcTo wR="10800" hR="10800" stAng="-9186703" swAng="2631342"/>
                <a:lnTo>
                  <a:pt x="10800" y="10800"/>
                </a:lnTo>
                <a:close/>
              </a:path>
              <a:path fill="none" w="21600" h="21600">
                <a:moveTo>
                  <a:pt x="1168" y="5916"/>
                </a:moveTo>
                <a:arcTo wR="10800" hR="10800" stAng="-9186703" swAng="2631342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4952880" y="3580920"/>
            <a:ext cx="243864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6" dur="indefinite" restart="never" nodeType="tmRoot">
          <p:childTnLst>
            <p:seq>
              <p:cTn id="747" dur="indefinite" nodeType="mainSeq">
                <p:childTnLst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52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55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60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63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2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74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83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88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9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91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2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94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97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8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00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05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6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808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813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4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816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821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2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824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915840" y="380880"/>
            <a:ext cx="763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П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Построить прямоугольный треугольник по гипотенузе и катет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30040" y="914400"/>
            <a:ext cx="8776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произвольной прямой от произвольной точки А откладываем отрезок АС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точке А восстанавливаем перпендикуляр к АС. С центром в точке С проводи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угу пересекающую построенный перпендикуляр в точке В. АВС – искомы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840240" y="2438280"/>
            <a:ext cx="77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н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33520" y="36576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992520" y="2895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068840" y="3352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33520" y="3276720"/>
            <a:ext cx="2209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267080" y="5486400"/>
            <a:ext cx="3810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488920" y="2438280"/>
            <a:ext cx="151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строени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V="1">
            <a:off x="5029200" y="2895480"/>
            <a:ext cx="0" cy="3200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726080" y="54864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29200" y="5486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5564520" y="5562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5029200" y="3657600"/>
            <a:ext cx="1371600" cy="1828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326280" y="54864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50120" y="35812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5716800" y="43434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5" dur="indefinite" restart="never" nodeType="tmRoot">
          <p:childTnLst>
            <p:seq>
              <p:cTn id="826" dur="indefinite" nodeType="mainSeq">
                <p:childTnLst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31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36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41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2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44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5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47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8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50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1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53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58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861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2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864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5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867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8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870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1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873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4" fill="hold">
                            <p:stCondLst>
                              <p:cond delay="2000"/>
                            </p:stCondLst>
                            <p:childTnLst>
                              <p:par>
                                <p:cTn id="87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77" dur="2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882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3" nodeType="with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885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6" nodeType="with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888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305280" y="380880"/>
            <a:ext cx="853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П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Построить касательную к окружности, проходящую через данную точк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лучай1. Точка Р лежит на окруж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05280" y="1295280"/>
            <a:ext cx="807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оводим луч СР, где С – центр окружности. В точке Р восстанавливае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ерпендикуляр АВ к лучу СР. Прямая АВ – искомая касательна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514600" y="3581280"/>
            <a:ext cx="1981080" cy="1981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505320" y="3581280"/>
            <a:ext cx="759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505320" y="457200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354480" y="48769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3125880" y="31240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flipV="1">
            <a:off x="3505320" y="2590560"/>
            <a:ext cx="0" cy="19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371600" y="358128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830600" y="32004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716800" y="32004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898000" y="2133720"/>
            <a:ext cx="151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строени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9" dur="indefinite" restart="never" nodeType="tmRoot">
          <p:childTnLst>
            <p:seq>
              <p:cTn id="890" dur="indefinite" nodeType="mainSeq">
                <p:childTnLst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95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0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0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08" dur="2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11" dur="2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14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5" fill="hold">
                            <p:stCondLst>
                              <p:cond delay="2000"/>
                            </p:stCondLst>
                            <p:childTnLst>
                              <p:par>
                                <p:cTn id="91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18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9" fill="hold">
                            <p:stCondLst>
                              <p:cond delay="2500"/>
                            </p:stCondLst>
                            <p:childTnLst>
                              <p:par>
                                <p:cTn id="92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2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3" fill="hold">
                            <p:stCondLst>
                              <p:cond delay="3000"/>
                            </p:stCondLst>
                            <p:childTnLst>
                              <p:par>
                                <p:cTn id="92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26" dur="2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31" dur="2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34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5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37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305280" y="380880"/>
            <a:ext cx="853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П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Построить касательную к окружности, проходящую через данную точк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лучай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Точка Р лежит вне данной окруж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276720" y="4343400"/>
            <a:ext cx="1981080" cy="1981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267080" y="297180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230720" y="52974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116600" y="56386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345200" y="28195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4267080" y="2742840"/>
            <a:ext cx="0" cy="259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04560" y="1295280"/>
            <a:ext cx="8466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роим отрезок СР, С – центр окружности. Делим СР пополам, получаем 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центром в Е, с радиусом ЕС=ЕР, строим дугу, пересекающую окружность 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 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водим прямые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M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431520" y="2209680"/>
            <a:ext cx="151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строени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898720" y="3733920"/>
            <a:ext cx="2742840" cy="2742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66" y="4447"/>
                </a:moveTo>
                <a:arcTo wR="10800" hR="10800" stAng="-8638126" swAng="6561036"/>
                <a:lnTo>
                  <a:pt x="10800" y="10800"/>
                </a:lnTo>
                <a:close/>
              </a:path>
              <a:path fill="none" w="21600" h="21600">
                <a:moveTo>
                  <a:pt x="2066" y="4447"/>
                </a:moveTo>
                <a:arcTo wR="10800" hR="10800" stAng="-8638126" swAng="6561036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27480" y="41148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2901960" y="1828800"/>
            <a:ext cx="2745000" cy="2742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9748" y="16847"/>
                </a:moveTo>
                <a:arcTo wR="10800" hR="10800" stAng="2042938" swAng="6794342"/>
                <a:lnTo>
                  <a:pt x="10800" y="10800"/>
                </a:lnTo>
                <a:close/>
              </a:path>
              <a:path fill="none" w="21600" h="21600">
                <a:moveTo>
                  <a:pt x="19748" y="16847"/>
                </a:moveTo>
                <a:arcTo wR="10800" hR="10800" stAng="2042938" swAng="6794342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2209680" y="414828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2896920" y="2587680"/>
            <a:ext cx="2741040" cy="2742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9328" y="17426"/>
                </a:moveTo>
                <a:arcTo wR="10800" hR="10800" stAng="2270732" swAng="6622514"/>
                <a:lnTo>
                  <a:pt x="10800" y="10800"/>
                </a:lnTo>
                <a:close/>
              </a:path>
              <a:path fill="none" w="21600" h="21600">
                <a:moveTo>
                  <a:pt x="19328" y="17426"/>
                </a:moveTo>
                <a:arcTo wR="10800" hR="10800" stAng="2270732" swAng="6622514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H="1">
            <a:off x="2819160" y="2819520"/>
            <a:ext cx="1523880" cy="32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4114800" y="2743200"/>
            <a:ext cx="1676520" cy="342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2973600" y="48769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5259600" y="48769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68880" y="38098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8" dur="indefinite" restart="never" nodeType="tmRoot">
          <p:childTnLst>
            <p:seq>
              <p:cTn id="939" dur="indefinite" nodeType="mainSeq">
                <p:childTnLst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44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4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52" dur="2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55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58" dur="2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9" fill="hold">
                            <p:stCondLst>
                              <p:cond delay="2000"/>
                            </p:stCondLst>
                            <p:childTnLst>
                              <p:par>
                                <p:cTn id="96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6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3" fill="hold">
                            <p:stCondLst>
                              <p:cond delay="2500"/>
                            </p:stCondLst>
                            <p:childTnLst>
                              <p:par>
                                <p:cTn id="96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66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7" fill="hold">
                            <p:stCondLst>
                              <p:cond delay="3000"/>
                            </p:stCondLst>
                            <p:childTnLst>
                              <p:par>
                                <p:cTn id="96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70" dur="2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73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78" dur="2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81" dur="2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2" fill="hold">
                            <p:stCondLst>
                              <p:cond delay="2000"/>
                            </p:stCondLst>
                            <p:childTnLst>
                              <p:par>
                                <p:cTn id="98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85" dur="2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6" fill="hold">
                            <p:stCondLst>
                              <p:cond delay="4000"/>
                            </p:stCondLst>
                            <p:childTnLst>
                              <p:par>
                                <p:cTn id="98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89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0" fill="hold">
                            <p:stCondLst>
                              <p:cond delay="4500"/>
                            </p:stCondLst>
                            <p:childTnLst>
                              <p:par>
                                <p:cTn id="99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93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98" dur="2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01" dur="2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04" dur="2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09" dur="3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12" dur="3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1072080" y="380880"/>
            <a:ext cx="645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П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Построение четвертого пропорциональног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рез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459000" y="1905120"/>
            <a:ext cx="7884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вершиной в произвольной точке О строим угол, на стороне которог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кладываем отрезки, входящие в левую часть пропорции. На друг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ороне угла откладываем ОС=с. Проводим прямую АС. Через точку 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водим прямую, параллельную АС, которая пересекает ОС в точке 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Х=х – искомы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5" name=""/>
              <p:cNvSpPr txBox="1"/>
              <p:nvPr/>
            </p:nvSpPr>
            <p:spPr>
              <a:xfrm>
                <a:off x="3809880" y="838080"/>
                <a:ext cx="1136880" cy="109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06" name=""/>
          <p:cNvSpPr/>
          <p:nvPr/>
        </p:nvSpPr>
        <p:spPr>
          <a:xfrm>
            <a:off x="3886200" y="5562720"/>
            <a:ext cx="46483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 flipV="1">
            <a:off x="3886200" y="4191120"/>
            <a:ext cx="426708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5410080" y="5522760"/>
            <a:ext cx="7164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6629400" y="5522760"/>
            <a:ext cx="712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334120" y="5068800"/>
            <a:ext cx="712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6477120" y="4684680"/>
            <a:ext cx="712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324480" y="3809880"/>
            <a:ext cx="533520" cy="274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5105520" y="3886200"/>
            <a:ext cx="533160" cy="274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719520" y="559908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5107320" y="57150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6783480" y="57150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6783480" y="39625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878720" y="47242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764280" y="3657600"/>
            <a:ext cx="77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н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04920" y="49528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916200" y="4114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992520" y="4572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80880" y="457200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04920" y="548640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992160" y="51055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4574520" y="3352680"/>
            <a:ext cx="151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строени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3" dur="indefinite" restart="never" nodeType="tmRoot">
          <p:childTnLst>
            <p:seq>
              <p:cTn id="1014" dur="indefinite" nodeType="mainSeq">
                <p:childTnLst>
                  <p:par>
                    <p:cTn id="1015" fill="hold">
                      <p:stCondLst>
                        <p:cond delay="indefinite"/>
                      </p:stCondLst>
                      <p:childTnLst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19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0" fill="hold">
                            <p:stCondLst>
                              <p:cond delay="500"/>
                            </p:stCondLst>
                            <p:childTnLst>
                              <p:par>
                                <p:cTn id="102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23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27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8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30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33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4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36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7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39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0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42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3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45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6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48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9" fill="hold">
                            <p:stCondLst>
                              <p:cond delay="1500"/>
                            </p:stCondLst>
                            <p:childTnLst>
                              <p:par>
                                <p:cTn id="105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52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57" dur="2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8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0" dur="2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1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3" dur="2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4" fill="hold">
                      <p:stCondLst>
                        <p:cond delay="indefinite"/>
                      </p:stCondLst>
                      <p:childTnLst>
                        <p:par>
                          <p:cTn id="1065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68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71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74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77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80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83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4" fill="hold">
                            <p:stCondLst>
                              <p:cond delay="500"/>
                            </p:stCondLst>
                            <p:childTnLst>
                              <p:par>
                                <p:cTn id="108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87" dur="3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8" fill="hold">
                            <p:stCondLst>
                              <p:cond delay="3500"/>
                            </p:stCondLst>
                            <p:childTnLst>
                              <p:par>
                                <p:cTn id="108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91" dur="3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2" fill="hold">
                            <p:stCondLst>
                              <p:cond delay="6500"/>
                            </p:stCondLst>
                            <p:childTnLst>
                              <p:par>
                                <p:cTn id="109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95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6" fill="hold">
                            <p:stCondLst>
                              <p:cond delay="7000"/>
                            </p:stCondLst>
                            <p:childTnLst>
                              <p:par>
                                <p:cTn id="109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99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04920" y="38088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П2. Отложить от данного луча в данную полуплоскость угол, равный данному углу А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412600" y="2895480"/>
            <a:ext cx="151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строени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64280" y="2895480"/>
            <a:ext cx="77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н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4920" y="1295280"/>
            <a:ext cx="8534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центром в точке О проводим дугу произвольного радиуса, пересекающую стороны угла в точках М 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центром в точке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м же радиусом проводим дугу в заданной полуплоскости. Пусть она пересекает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F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точке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’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иркулем измеряем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N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откладываем ее от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’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построенной ранее дуге с центром в точке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учаем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’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гол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’SN’ –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комы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09480" y="4191120"/>
            <a:ext cx="17528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609480" y="3352320"/>
            <a:ext cx="1828800" cy="838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-482760" y="3174120"/>
            <a:ext cx="2184120" cy="2134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246" y="1474"/>
                </a:moveTo>
                <a:arcTo wR="10800" hR="10800" stAng="-3582972" swAng="5801263"/>
                <a:lnTo>
                  <a:pt x="10800" y="10800"/>
                </a:lnTo>
                <a:close/>
              </a:path>
              <a:path fill="none" w="21600" h="21600">
                <a:moveTo>
                  <a:pt x="16246" y="1474"/>
                </a:moveTo>
                <a:arcTo wR="10800" hR="10800" stAng="-3582972" swAng="5801263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440080" y="31240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364120" y="39625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678320" y="42670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525680" y="32004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78320" y="365760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648320" y="3580920"/>
            <a:ext cx="1828800" cy="838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556080" y="3402720"/>
            <a:ext cx="2184120" cy="2134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246" y="1474"/>
                </a:moveTo>
                <a:arcTo wR="10800" hR="10800" stAng="-3582972" swAng="5801263"/>
                <a:lnTo>
                  <a:pt x="10800" y="10800"/>
                </a:lnTo>
                <a:close/>
              </a:path>
              <a:path fill="none" w="21600" h="21600">
                <a:moveTo>
                  <a:pt x="16246" y="1474"/>
                </a:moveTo>
                <a:arcTo wR="10800" hR="10800" stAng="-3582972" swAng="5801263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402600" y="41911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716800" y="44956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716800" y="388620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648320" y="441972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88200" y="35053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554880" y="33526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8640" y="434340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497480" y="44956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5255640" y="3960720"/>
            <a:ext cx="1067400" cy="1143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3654" y="2702"/>
                </a:moveTo>
                <a:arcTo wR="10800" hR="10800" stAng="-7885540" swAng="7951567"/>
                <a:lnTo>
                  <a:pt x="10800" y="10800"/>
                </a:lnTo>
                <a:close/>
              </a:path>
              <a:path fill="none" w="21600" h="21600">
                <a:moveTo>
                  <a:pt x="3654" y="2702"/>
                </a:moveTo>
                <a:arcTo wR="10800" hR="10800" stAng="-7885540" swAng="7951567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3" dur="3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1" dur="3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9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5" dur="3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1907640" y="380880"/>
            <a:ext cx="52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П3. Построить треугольник по трем сторон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28600" y="1219320"/>
            <a:ext cx="8679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произвольной прямой откладываем отрезок АВ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центром в точке 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роим дугу радиусом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С центром в точке В – дугу, радиусом а. Пересеч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уг дает точку С – вершину искомого треугольни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488920" y="2438280"/>
            <a:ext cx="151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строени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40240" y="2438280"/>
            <a:ext cx="77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н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85800" y="32004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33520" y="37339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426708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992520" y="2895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068840" y="3429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068120" y="39625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038480" y="4343400"/>
            <a:ext cx="4038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952880" y="4343400"/>
            <a:ext cx="17528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802400" y="44956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554880" y="44956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4952880" y="3809880"/>
            <a:ext cx="1143000" cy="5335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95880" y="3809880"/>
            <a:ext cx="609840" cy="5335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869080" y="34290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868720" y="44197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59600" y="3733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326640" y="3809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658680" y="3124080"/>
            <a:ext cx="2585520" cy="2514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938" y="1"/>
                </a:moveTo>
                <a:arcTo wR="10800" hR="10800" stAng="-5356082" swAng="4920324"/>
                <a:lnTo>
                  <a:pt x="10800" y="10800"/>
                </a:lnTo>
                <a:close/>
              </a:path>
              <a:path fill="none" w="21600" h="21600">
                <a:moveTo>
                  <a:pt x="10938" y="1"/>
                </a:moveTo>
                <a:arcTo wR="10800" hR="10800" stAng="-5356082" swAng="4920324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5868360" y="3505320"/>
            <a:ext cx="167508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3223" y="3104"/>
                </a:moveTo>
                <a:arcTo wR="10800" hR="10800" stAng="-8073105" swAng="7227635"/>
                <a:lnTo>
                  <a:pt x="10800" y="10800"/>
                </a:lnTo>
                <a:close/>
              </a:path>
              <a:path fill="none" w="21600" h="21600">
                <a:moveTo>
                  <a:pt x="3223" y="3104"/>
                </a:moveTo>
                <a:arcTo wR="10800" hR="10800" stAng="-8073105" swAng="7227635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5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2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5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3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6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9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2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3" dur="3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6" dur="3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456840" y="304920"/>
            <a:ext cx="728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П4. Построить треугольник по двум сторонам и углу межд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и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30920" y="1219320"/>
            <a:ext cx="7971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произвольной прямой откладываем отрезок АВ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пользуя ОП2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роим угол 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На второй построенной стороне этого угла откладыва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резок ВА = с и получаем третью вершину искомого треугольни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488920" y="2438280"/>
            <a:ext cx="151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строени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40240" y="2438280"/>
            <a:ext cx="77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н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33520" y="36576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992520" y="2895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068840" y="3352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80880" y="4724280"/>
            <a:ext cx="17528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380880" y="3886200"/>
            <a:ext cx="1828800" cy="838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411880" y="39625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038480" y="4343400"/>
            <a:ext cx="4038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952880" y="4343400"/>
            <a:ext cx="17528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802400" y="44956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554880" y="44956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4952880" y="3809880"/>
            <a:ext cx="1143000" cy="5335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095880" y="3809880"/>
            <a:ext cx="609840" cy="5335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869080" y="34290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259600" y="3733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716800" y="43434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658680" y="3124080"/>
            <a:ext cx="2585520" cy="2514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7607" y="2415"/>
                </a:moveTo>
                <a:arcTo wR="10800" hR="10800" stAng="-3055840" swAng="2620082"/>
                <a:lnTo>
                  <a:pt x="10800" y="10800"/>
                </a:lnTo>
                <a:close/>
              </a:path>
              <a:path fill="none" w="21600" h="21600">
                <a:moveTo>
                  <a:pt x="17607" y="2415"/>
                </a:moveTo>
                <a:arcTo wR="10800" hR="10800" stAng="-3055840" swAng="2620082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5295240" y="4086360"/>
            <a:ext cx="227880" cy="1028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68" y="5916"/>
                </a:moveTo>
                <a:arcTo wR="10800" hR="10800" stAng="-9186703" swAng="2631342"/>
                <a:lnTo>
                  <a:pt x="10800" y="10800"/>
                </a:lnTo>
                <a:close/>
              </a:path>
              <a:path fill="none" w="21600" h="21600">
                <a:moveTo>
                  <a:pt x="1168" y="5916"/>
                </a:moveTo>
                <a:arcTo wR="10800" hR="10800" stAng="-9186703" swAng="2631342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04920" y="327672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221120" y="426708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4952880" y="3200040"/>
            <a:ext cx="243864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4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4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2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5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8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81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8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89" dur="3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5" dur="3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0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0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1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1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1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80880" y="304920"/>
            <a:ext cx="80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П5. Построить треугольник по стороне и двум прилежащим угл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41360" y="1219320"/>
            <a:ext cx="7835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произвольной прямой откладываем отрезок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C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пользуя ОП2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роим угол 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Затем строим угол 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Построенные лучи пересекутся 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ршине искомого треугольни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602360" y="2666880"/>
            <a:ext cx="77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н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754640" y="3352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914400" y="480060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914400" y="4114440"/>
            <a:ext cx="152388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066680" y="3733920"/>
            <a:ext cx="17528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525680" y="434340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2120" y="601992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762120" y="5105520"/>
            <a:ext cx="45720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991800" y="556272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259600" y="426708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00600" y="464832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650120" y="48006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402600" y="48006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174000" y="35812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564520" y="46483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5143320" y="4391280"/>
            <a:ext cx="227160" cy="1028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68" y="5916"/>
                </a:moveTo>
                <a:arcTo wR="10800" hR="10800" stAng="-9186703" swAng="2631342"/>
                <a:lnTo>
                  <a:pt x="10800" y="10800"/>
                </a:lnTo>
                <a:close/>
              </a:path>
              <a:path fill="none" w="21600" h="21600">
                <a:moveTo>
                  <a:pt x="1168" y="5916"/>
                </a:moveTo>
                <a:arcTo wR="10800" hR="10800" stAng="-9186703" swAng="2631342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4800600" y="3504960"/>
            <a:ext cx="243828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657600" y="4648320"/>
            <a:ext cx="403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021000" y="419112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201720" y="4397400"/>
            <a:ext cx="855360" cy="806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05" y="6961"/>
                </a:moveTo>
                <a:arcTo wR="10800" hR="10800" stAng="-9550629" swAng="2995269"/>
                <a:lnTo>
                  <a:pt x="10800" y="10800"/>
                </a:lnTo>
                <a:close/>
              </a:path>
              <a:path fill="none" w="21600" h="21600">
                <a:moveTo>
                  <a:pt x="705" y="6961"/>
                </a:moveTo>
                <a:arcTo wR="10800" hR="10800" stAng="-9550629" swAng="2995269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 flipV="1">
            <a:off x="6019560" y="3200400"/>
            <a:ext cx="53316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296760" y="4397760"/>
            <a:ext cx="856080" cy="805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05" y="6961"/>
                </a:moveTo>
                <a:arcTo wR="10800" hR="10800" stAng="-9550629" swAng="2169575"/>
                <a:lnTo>
                  <a:pt x="10800" y="10800"/>
                </a:lnTo>
                <a:close/>
              </a:path>
              <a:path fill="none" w="21600" h="21600">
                <a:moveTo>
                  <a:pt x="705" y="6961"/>
                </a:moveTo>
                <a:arcTo wR="10800" hR="10800" stAng="-9550629" swAng="2169575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412600" y="2743200"/>
            <a:ext cx="151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строени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8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86" dur="3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89" dur="3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92" dur="3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97" dur="3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00" dur="3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03" dur="3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06" dur="3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3000"/>
                            </p:stCondLst>
                            <p:childTnLst>
                              <p:par>
                                <p:cTn id="40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15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380880" y="45720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П6. Построить биссектрису данного неразвернутого угла (разделить данный угол пополам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431520" y="2971800"/>
            <a:ext cx="151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строени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80880" y="1295280"/>
            <a:ext cx="84582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 центром в вершине О данного угла произвольным радиусом проводи дугу, пересекающую стороны угла в точках А и В. Не изменяя радиуса, строим еще две дуги с центрами в точках А и В, которые пересекаются в точке 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Е – искомая биссектри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971800" y="5562720"/>
            <a:ext cx="35053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201480" y="510552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2971800" y="3504960"/>
            <a:ext cx="1981080" cy="2057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905480" y="4407840"/>
            <a:ext cx="2285280" cy="2242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665" y="162"/>
                </a:moveTo>
                <a:arcTo wR="10800" hR="10800" stAng="-4803416" swAng="6579798"/>
                <a:lnTo>
                  <a:pt x="10800" y="10800"/>
                </a:lnTo>
                <a:close/>
              </a:path>
              <a:path fill="none" w="21600" h="21600">
                <a:moveTo>
                  <a:pt x="12665" y="162"/>
                </a:moveTo>
                <a:arcTo wR="10800" hR="10800" stAng="-4803416" swAng="6579798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583080" y="41911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268880" y="57150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591280" y="3726720"/>
            <a:ext cx="2285280" cy="2144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8855" y="3605"/>
                </a:moveTo>
                <a:arcTo wR="10800" hR="10800" stAng="-2506391" swAng="3717050"/>
                <a:lnTo>
                  <a:pt x="10800" y="10800"/>
                </a:lnTo>
                <a:close/>
              </a:path>
              <a:path fill="none" w="21600" h="21600">
                <a:moveTo>
                  <a:pt x="18855" y="3605"/>
                </a:moveTo>
                <a:arcTo wR="10800" hR="10800" stAng="-2506391" swAng="371705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896560" y="4452840"/>
            <a:ext cx="2283840" cy="2143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3829" y="433"/>
                </a:moveTo>
                <a:arcTo wR="10800" hR="10800" stAng="-4422825" swAng="3103808"/>
                <a:lnTo>
                  <a:pt x="10800" y="10800"/>
                </a:lnTo>
                <a:close/>
              </a:path>
              <a:path fill="none" w="21600" h="21600">
                <a:moveTo>
                  <a:pt x="13829" y="433"/>
                </a:moveTo>
                <a:arcTo wR="10800" hR="10800" stAng="-4422825" swAng="3103808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2971800" y="4114800"/>
            <a:ext cx="358128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878720" y="42670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5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3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3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39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44" dur="3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47" dur="3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50" dur="3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5" dur="3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8" dur="3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1" dur="3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3000"/>
                            </p:stCondLst>
                            <p:childTnLst>
                              <p:par>
                                <p:cTn id="463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6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533520" y="533520"/>
            <a:ext cx="78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П7. Построить серединный перпендикуляр данного отрез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аналогично выполняется построение середины данного отрезк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04920" y="160020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центрами в точках А и В и радиусом, большим половины отрезка АВ, строим две дуги, пересекающиеся в точках С 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. CD –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комый серединный перпендикуля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355200" y="2666880"/>
            <a:ext cx="151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строени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523880" y="4724280"/>
            <a:ext cx="533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429000" y="472428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278520" y="48769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564520" y="48769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866960" y="3049920"/>
            <a:ext cx="3276360" cy="3351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463" y="20"/>
                </a:moveTo>
                <a:arcTo wR="10800" hR="10800" stAng="-5188671" swAng="9402412"/>
                <a:lnTo>
                  <a:pt x="10800" y="10800"/>
                </a:lnTo>
                <a:close/>
              </a:path>
              <a:path fill="none" w="21600" h="21600">
                <a:moveTo>
                  <a:pt x="11463" y="20"/>
                </a:moveTo>
                <a:arcTo wR="10800" hR="10800" stAng="-5188671" swAng="9402412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038480" y="3049560"/>
            <a:ext cx="3273480" cy="3350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516" y="21089"/>
                </a:moveTo>
                <a:arcTo wR="10800" hR="10800" stAng="6462071" swAng="8957773"/>
                <a:lnTo>
                  <a:pt x="10800" y="10800"/>
                </a:lnTo>
                <a:close/>
              </a:path>
              <a:path fill="none" w="21600" h="21600">
                <a:moveTo>
                  <a:pt x="7516" y="21089"/>
                </a:moveTo>
                <a:arcTo wR="10800" hR="10800" stAng="6462071" swAng="8957773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572000" y="3048120"/>
            <a:ext cx="0" cy="32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116600" y="3276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649760" y="57913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573440" y="441972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7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75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78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83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8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89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9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500"/>
                            </p:stCondLst>
                            <p:childTnLst>
                              <p:par>
                                <p:cTn id="49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96" dur="3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3500"/>
                            </p:stCondLst>
                            <p:childTnLst>
                              <p:par>
                                <p:cTn id="49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00" dur="3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6500"/>
                            </p:stCondLst>
                            <p:childTnLst>
                              <p:par>
                                <p:cTn id="50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04" dur="3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9500"/>
                            </p:stCondLst>
                            <p:childTnLst>
                              <p:par>
                                <p:cTn id="50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08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10000"/>
                            </p:stCondLst>
                            <p:childTnLst>
                              <p:par>
                                <p:cTn id="51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1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10500"/>
                            </p:stCondLst>
                            <p:childTnLst>
                              <p:par>
                                <p:cTn id="51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16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838080" y="380880"/>
            <a:ext cx="688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П9. Построить прямую, проходящую через данную точку Р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ерпендикулярную данной прям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84720" y="990720"/>
            <a:ext cx="681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лучай 1. Данная точка лежит вне прямой, то есть из точки 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еобходимо опустить перпендикуляр на данную прямую А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67652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центром в точке Р радиусом, большим расстояния от Р до прямой АВ проводим дугу, пересекающую прямую в точках М 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м же радиусо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M=PN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центрами в точках М 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роим еще две дуги, пересекающиеся в точке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. PQ –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комый перпендикуляр к прямой А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905120" y="525780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343400" y="3505320"/>
            <a:ext cx="0" cy="2666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135520" y="48006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631200" y="48006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506760" y="52578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802400" y="52578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581280" y="4111920"/>
            <a:ext cx="1447560" cy="1450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805" y="6733"/>
                </a:moveTo>
                <a:arcTo wR="10800" hR="10800" stAng="-1327189" swAng="12999141"/>
                <a:lnTo>
                  <a:pt x="10800" y="10800"/>
                </a:lnTo>
                <a:close/>
              </a:path>
              <a:path fill="none" w="21600" h="21600">
                <a:moveTo>
                  <a:pt x="20805" y="6733"/>
                </a:moveTo>
                <a:arcTo wR="10800" hR="10800" stAng="-1327189" swAng="12999141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4343400" y="472428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64320" y="45720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000960" y="4684320"/>
            <a:ext cx="1446480" cy="1451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534" y="11992"/>
                </a:moveTo>
                <a:arcTo wR="10800" hR="10800" stAng="380071" swAng="5337317"/>
                <a:lnTo>
                  <a:pt x="10800" y="10800"/>
                </a:lnTo>
                <a:close/>
              </a:path>
              <a:path fill="none" w="21600" h="21600">
                <a:moveTo>
                  <a:pt x="21534" y="11992"/>
                </a:moveTo>
                <a:arcTo wR="10800" hR="10800" stAng="380071" swAng="5337317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183560" y="4615200"/>
            <a:ext cx="1447560" cy="1437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968" y="21380"/>
                </a:moveTo>
                <a:arcTo wR="10800" hR="10800" stAng="4705026" swAng="5595969"/>
                <a:lnTo>
                  <a:pt x="10800" y="10800"/>
                </a:lnTo>
                <a:close/>
              </a:path>
              <a:path fill="none" w="21600" h="21600">
                <a:moveTo>
                  <a:pt x="12968" y="21380"/>
                </a:moveTo>
                <a:arcTo wR="10800" hR="10800" stAng="4705026" swAng="5595969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344840" y="601992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660120" y="3048120"/>
            <a:ext cx="151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строени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2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26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2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3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3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40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43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4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49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54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5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0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65" dur="3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8" dur="3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71" dur="3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fill="hold">
                            <p:stCondLst>
                              <p:cond delay="3000"/>
                            </p:stCondLst>
                            <p:childTnLst>
                              <p:par>
                                <p:cTn id="57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75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838080" y="380880"/>
            <a:ext cx="688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П9. Построить прямую, проходящую через данную точку Р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ерпендикулярную данной прям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87240" y="1143000"/>
            <a:ext cx="458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лучай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Данная точка лежит на прям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33520" y="144792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центром в точке Р радиусом, большим расстояния от Р до прямой АВ проводим дугу, пересекающую прямую в точках М 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м же радиусо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M=PN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центрами в точках М 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роим еще две дуги, пересекающиеся в точке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. PQ –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комый перпендикуляр к прямой А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523880" y="4724280"/>
            <a:ext cx="533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429000" y="472428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125880" y="48769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640480" y="48006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866960" y="3051360"/>
            <a:ext cx="3276360" cy="3351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5995" y="1332"/>
                </a:moveTo>
                <a:arcTo wR="10800" hR="10800" stAng="-3674821" swAng="7888563"/>
                <a:lnTo>
                  <a:pt x="10800" y="10800"/>
                </a:lnTo>
                <a:close/>
              </a:path>
              <a:path fill="none" w="21600" h="21600">
                <a:moveTo>
                  <a:pt x="15995" y="1332"/>
                </a:moveTo>
                <a:arcTo wR="10800" hR="10800" stAng="-3674821" swAng="7888563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038480" y="3049200"/>
            <a:ext cx="3273480" cy="3351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516" y="21089"/>
                </a:moveTo>
                <a:arcTo wR="10800" hR="10800" stAng="6462071" swAng="7965038"/>
                <a:lnTo>
                  <a:pt x="10800" y="10800"/>
                </a:lnTo>
                <a:close/>
              </a:path>
              <a:path fill="none" w="21600" h="21600">
                <a:moveTo>
                  <a:pt x="7516" y="21089"/>
                </a:moveTo>
                <a:arcTo wR="10800" hR="10800" stAng="6462071" swAng="7965038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572000" y="3048120"/>
            <a:ext cx="0" cy="32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116600" y="32767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650120" y="57913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650120" y="42670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3429000" y="3506400"/>
            <a:ext cx="2285280" cy="2360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767" y="6641"/>
                </a:moveTo>
                <a:arcTo wR="10800" hR="10800" stAng="-1359054" swAng="13419863"/>
                <a:lnTo>
                  <a:pt x="10800" y="10800"/>
                </a:lnTo>
                <a:close/>
              </a:path>
              <a:path fill="none" w="21600" h="21600">
                <a:moveTo>
                  <a:pt x="20767" y="6641"/>
                </a:moveTo>
                <a:arcTo wR="10800" hR="10800" stAng="-1359054" swAng="13419863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602000" y="48006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554880" y="48006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4572000" y="4647960"/>
            <a:ext cx="0" cy="759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888720" y="2666880"/>
            <a:ext cx="151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строени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6" dur="indefinite" restart="never" nodeType="tmRoot">
          <p:childTnLst>
            <p:seq>
              <p:cTn id="577" dur="indefinite" nodeType="mainSeq">
                <p:childTnLst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82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85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88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91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96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9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02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0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08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1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fill="hold">
                            <p:stCondLst>
                              <p:cond delay="500"/>
                            </p:stCondLst>
                            <p:childTnLst>
                              <p:par>
                                <p:cTn id="61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5" dur="3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6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18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21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fill="hold">
                            <p:stCondLst>
                              <p:cond delay="3500"/>
                            </p:stCondLst>
                            <p:childTnLst>
                              <p:par>
                                <p:cTn id="62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25" dur="3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6500"/>
                            </p:stCondLst>
                            <p:childTnLst>
                              <p:par>
                                <p:cTn id="62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29" dur="3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fill="hold">
                            <p:stCondLst>
                              <p:cond delay="9500"/>
                            </p:stCondLst>
                            <p:childTnLst>
                              <p:par>
                                <p:cTn id="63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33" dur="3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fill="hold">
                            <p:stCondLst>
                              <p:cond delay="12500"/>
                            </p:stCondLst>
                            <p:childTnLst>
                              <p:par>
                                <p:cTn id="63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3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3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41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Администратор</cp:lastModifiedBy>
  <dcterms:modified xsi:type="dcterms:W3CDTF">2008-01-09T12:12:08Z</dcterms:modified>
  <cp:revision>6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