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4406-632C-4462-90C8-D31F5E764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24E4-A395-4244-B8A6-87E4CD844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072E-70B5-439C-ADF4-4D016F53E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3A72-FAD2-4EFA-97FF-4F4A4192F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53C3C-9806-4775-8CA4-D4694D7EC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6410E-C69E-4633-8C6B-1A10EB64B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27B6A-B63F-44E4-B8E8-2E2A8DC39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7B7E3-0634-4B95-95F8-48CC8A0A5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41839-EC4E-494B-B530-AC2B5352D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FF4F5-8C50-4DC7-97E5-0E8F18D3B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B1596-46F0-49A5-BDEA-EFC56E8C5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F151-230B-4A21-9166-0381FE421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B15BD-B1F0-4120-9972-7AE8A9E56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D38AB-855B-4C3E-AC78-D343C6D80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7F029-2141-433B-BDCE-53428A445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3B5F3-D78A-4FB2-B5EF-E34F07B5E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A743C-3FD7-41BF-A793-63D61CC8E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74506B-DC49-4439-8D4B-3DEFB0C13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F5B654-7699-4BDA-AA72-E9AB7210C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6E7475-97AF-4CBE-A18C-0964AD18B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E6C2DC-63F8-49C5-A248-988E55D9F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A2B15D-ED6C-4C70-BB5D-20A0E0A40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4E64-0DF9-4339-BAE0-6FF84F721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A52424-FADE-4BA7-8047-3A2D9C24B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8C3B97-F067-41D1-89C6-A4F1C1E0C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1A2EC7-A9EC-4363-B224-989F72F09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F9FC72-2602-4114-96B5-08E7199D9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ABB7D4-8715-45BB-B730-16663F18E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AD516F-5D73-4D43-BD6D-204AF0B4D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00B622-EC76-4C7F-AD53-F27BA5F41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D03C0A-8009-4A98-B887-E93F015B5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E8EE3A-368B-4FCD-A0D6-975531202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A4E767-244F-42C3-A3B8-42C9A0D2B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5868-33BF-4AAA-9468-87820B7C4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6EA0DB-751B-4907-986B-EE3E3AF3D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A3B428-204B-4B08-8EEE-D080D8245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D5094E-DDFF-45AC-B4A0-63548B943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5DA6E1-14C7-4146-8033-738AE345F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86B5A4-EEAA-48A7-8BE2-E352F8E53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42EDB6-D61E-499B-9982-FCF7605CE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3B18E2-A8B4-4DB2-AEC4-FD77F5E14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226103-ED08-441B-AF8B-22F0716D6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F03AB1-E931-4819-8643-10684FD2C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A5111D-40FF-4AA1-9D6C-8714F9C32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3804-7499-4FCA-A7EF-10D155B22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A55949-C86E-4FCE-93DE-0B1C52F49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9B5AE0-B702-4A7F-9631-61504C8D6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09B2D3-11AF-438F-AAB4-E77DD6C80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782372-D22C-44BC-ACBC-1FCAC5F63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8DEFEA-E7C8-456F-921E-44D9CE246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147377-9740-44E7-8CDD-0544972CF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535716-507D-41F3-94B3-6E02A4587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627D02-829C-4401-A3AF-399024CDD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381D5F-88DE-4141-9ABD-CD093BD58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C4FE37-1A67-49F1-A415-E6670A7AC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9F0E-FD3D-4367-87F5-871A2CC80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0CC0CF-6E61-4279-9BAA-B498128B9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9D6A610-C8A5-4368-8958-42EC9E435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9703B2-05C3-4F70-880C-5045B4276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0A5FA2-7663-4607-AABC-E741C9D11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811E6A4-8A6B-4FB4-B6C0-39884F92B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D131F06-413C-4AB6-B3B4-2C353A283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433865-25F9-4203-93F9-1AC32DC72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25469B5-3E01-4ED7-821F-0B7C9A0F5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1A390E-210F-4055-9D5C-C843769B4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9B79749-2A15-4221-ABD0-08739BD9D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87AF-7F6C-44EC-8941-D4FBF6EC5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131FDE5-BE7D-4C33-8845-B609A3F1E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C3F5090-641F-4F8F-8131-9720EF41F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D68F722-6EE6-4877-BFED-796AC5C39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4ED1183-A1BA-4359-A5B5-4A7523BEF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EA7BDF3-5178-4008-8AA5-BD8F62749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F458F04-929C-4708-8347-22E1E0A48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4B00758-27D8-4797-8A3C-66880B856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1178FF7-0056-4D7E-A1F9-9B0490BFF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705BEE9-1BC5-4F30-A8B3-F54D08EAC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CC45A28-869B-460E-8C57-88E40D4CA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8593-0C91-4FBE-BEC8-420235C33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95F8CBD-D956-425A-9C31-6D68F7F2A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580CE01-E8FA-4C0B-8746-CAA28E6F3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30DC34F-07C5-429F-9C7D-AF049C80B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55D7792-75BE-4250-9353-F83EE9BDD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89A643B-D63A-4943-98EF-A84417800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CD6E-A0CA-459F-AD01-192159BEB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9BB35-86AB-4288-AB7C-334AF7076CB3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Прямая соединительная линия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Прямоугольник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Овал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Овал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Овал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Овал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C958A-72B7-4785-BBC9-1519FC7ED78A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C4470-D7DD-4218-860B-217F91984112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Овал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Овал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Овал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Прямая соединительная линия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D390B-4A26-4888-9812-11D0FDEA2E7F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47354-8163-4ABC-A108-3822613D452B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Прямая соединительная линия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Прямая соединительная линия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Прямая соединительная линия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Прямоугольник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Прямая соединительная линия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Овал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A2CD1-83FA-4FD7-902B-659769C8AF02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Овал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Прямая соединительная линия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Прямая соединительная линия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75641-87EC-4ABA-9A2F-B2685F9D21F9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75f6d"/>
                </a:solidFill>
                <a:latin typeface="Century Schoolbook"/>
              </a:rPr>
              <a:t>КУЛЬТУРА </a:t>
            </a:r>
            <a:r>
              <a:rPr b="1" lang="en-US" sz="4000" spc="-1" strike="noStrike">
                <a:solidFill>
                  <a:srgbClr val="575f6d"/>
                </a:solidFill>
                <a:latin typeface="Century Schoolbook"/>
              </a:rPr>
              <a:t>XX</a:t>
            </a:r>
            <a:r>
              <a:rPr b="1" lang="ru-RU" sz="4000" spc="-1" strike="noStrike">
                <a:solidFill>
                  <a:srgbClr val="575f6d"/>
                </a:solidFill>
                <a:latin typeface="Century Schoolbook"/>
              </a:rPr>
              <a:t> ВЕКА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f6d"/>
                </a:solidFill>
                <a:latin typeface="Century Schoolbook"/>
              </a:rPr>
              <a:t>Выполнил</a:t>
            </a: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: </a:t>
            </a:r>
            <a:r>
              <a:rPr b="1" lang="ru-RU" sz="1800" spc="-1" strike="noStrike">
                <a:solidFill>
                  <a:srgbClr val="575f6d"/>
                </a:solidFill>
                <a:latin typeface="Century Schoolbook"/>
              </a:rPr>
              <a:t>Билецкий П.А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3. ТЕАТР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6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Современная театральная система сложилась к середине 20-х гг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В 30-е гг. создается принципиально новый подход к задачам театра: Брехт  пользуется приемами отчуждения и создает психологический театр.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Страстный и убежденный антифашизм послевоенных годов породил итальянский неореализм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В 50-е гг. появляется «театр абсурда»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В 60-х гг. в театр пришел документализм, политическая документальная драма: сложилось понятие «политический театр», охватывающее как явления драматургии, так и постановки, основанные на импровизационной структуре, зрелища типа эстрадных обозрений. Из многих источников, из которых формировался политический театр, надо отметить советский агитационный, политический театр 20-х гг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С 70-х гг. развитие и сцены, и драмы определяют не стили, общие для многих стран, а участники театрального процесса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3. КИНЕМАТОГРАФ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7200" y="1600200"/>
            <a:ext cx="475776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Кинематограф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(киноискусство) - вид синтетического, пространственно-временного искусства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пецифика кинематографического синтеза искусств связана с особенностями кинообраза, включающего в себя пластическое воспроизведение реальных событий с помощью таких выразительных средств, как киноизбражение и монтаж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8" name="Picture 2" descr="C:\Users\павел\Desktop\Fratelli_Lumiere.jpg"/>
          <p:cNvPicPr/>
          <p:nvPr/>
        </p:nvPicPr>
        <p:blipFill>
          <a:blip r:embed="rId1"/>
          <a:stretch/>
        </p:blipFill>
        <p:spPr>
          <a:xfrm>
            <a:off x="5286240" y="642960"/>
            <a:ext cx="339120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3. КИНЕМАТОГРАФ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1600200"/>
            <a:ext cx="51148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entury Schoolbook"/>
              </a:rPr>
              <a:t>Развитие кинематографа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entury Schoolbook"/>
              </a:rPr>
              <a:t>Благодаря звуку (1927 г.) в кинематографе появляются такие жанры, как: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70000"/>
              </a:lnSpc>
              <a:spcBef>
                <a:spcPts val="37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entury Schoolbook"/>
              </a:rPr>
              <a:t>гангстерский фильм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70000"/>
              </a:lnSpc>
              <a:spcBef>
                <a:spcPts val="37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entury Schoolbook"/>
              </a:rPr>
              <a:t>фильм ужасов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70000"/>
              </a:lnSpc>
              <a:spcBef>
                <a:spcPts val="37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entury Schoolbook"/>
              </a:rPr>
              <a:t>Вестерн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entury Schoolbook"/>
              </a:rPr>
              <a:t>С 30-х гг. начинается золотой век Голливуда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entury Schoolbook"/>
              </a:rPr>
              <a:t>1920-1940-е гг. - время расцвета французского кино (Ж. Ренуар, Р. Клер) 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entury Schoolbook"/>
              </a:rPr>
              <a:t>английский кинематограф в довоенные годы прославили А. Корда и А. Хичкок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entury Schoolbook"/>
              </a:rPr>
              <a:t>немецкий представляют имена режиссеров Ф. Ланга, Л. Рифеншталь и актрис М. Дитрих, М. Рокк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entury Schoolbook"/>
              </a:rPr>
              <a:t>В Советский кинематограф пришли Г. Александров, И. Пырьев, в годы войны получила развитие советская кинодокументалистика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entury Schoolbook"/>
              </a:rPr>
              <a:t>В послевоенные годы кино стало осознавать себя как новый вид искусства со своей спецификой.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1" name="Picture 2" descr="C:\Users\павел\Desktop\6ea5385c1851.jpg"/>
          <p:cNvPicPr/>
          <p:nvPr/>
        </p:nvPicPr>
        <p:blipFill>
          <a:blip r:embed="rId1"/>
          <a:stretch/>
        </p:blipFill>
        <p:spPr>
          <a:xfrm>
            <a:off x="5457960" y="1333440"/>
            <a:ext cx="325728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3. МУЗЫК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57200" y="1599840"/>
            <a:ext cx="5114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Музыка ХХ века точно отражала эмоциональную и духовную жизнь людей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Трагические повороты истории обусловили ключевую тему музыки – противостояние жизни и смерти. 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Новое в музыке: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70000"/>
              </a:lnSpc>
              <a:spcBef>
                <a:spcPts val="425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entury Schoolbook"/>
              </a:rPr>
              <a:t>атональная музыка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70000"/>
              </a:lnSpc>
              <a:spcBef>
                <a:spcPts val="425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entury Schoolbook"/>
              </a:rPr>
              <a:t>необыкновенные звучания: для передачи образов современной жизни использовали необычные звуковые эффекты (лязг и скрежет металла, «промышленные» звуки)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70000"/>
              </a:lnSpc>
              <a:spcBef>
                <a:spcPts val="425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entury Schoolbook"/>
              </a:rPr>
              <a:t>эксперименты с традиционными инструментами 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Развитие традиционного: 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70000"/>
              </a:lnSpc>
              <a:spcBef>
                <a:spcPts val="425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entury Schoolbook"/>
              </a:rPr>
              <a:t>аутентичное исполнение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70000"/>
              </a:lnSpc>
              <a:spcBef>
                <a:spcPts val="425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entury Schoolbook"/>
              </a:rPr>
              <a:t>неофольклоризм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Изменилось и отношение к исполнительскому искусству:  важны понимание композиторского замысла, умение играть эмоционально, а не виртуозность.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4" name="Picture 2" descr="C:\Users\павел\Desktop\26387-289337-19-obl-l.jpg"/>
          <p:cNvPicPr/>
          <p:nvPr/>
        </p:nvPicPr>
        <p:blipFill>
          <a:blip r:embed="rId1"/>
          <a:stretch/>
        </p:blipFill>
        <p:spPr>
          <a:xfrm>
            <a:off x="5619600" y="785880"/>
            <a:ext cx="309564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4. ЛИТЕРАТУРА 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XX </a:t>
            </a: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ВЕК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 период 1910-1920-х гг. модернизм формируется в художественную систему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 произведениях модернистов выражено мировосприятие людей сложной общественно-исторической эпохи, наполненной множеством масштабных событий и перемен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Характерные черты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Поиск новых приемов и средств самовыражения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Раскрытие своего «я», психологии своих современников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Обращение к внутренней жизни человека, миру его чувств, особенностям восприятия окружающего, к работе памяти и сознания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4.</a:t>
            </a:r>
            <a:r>
              <a:rPr b="0" lang="ru-RU" sz="3200" spc="-1" strike="noStrike">
                <a:solidFill>
                  <a:srgbClr val="575f6d"/>
                </a:solidFill>
                <a:latin typeface="Century Schoolbook"/>
              </a:rPr>
              <a:t> АВАНГАРДИСТСКИЕ ТЕЧЕНИЯ 10-20-Х ГГ. И МОДЕРНИЗМ</a:t>
            </a:r>
            <a:r>
              <a:rPr b="0" lang="en-US" sz="3200" spc="-1" strike="noStrike">
                <a:solidFill>
                  <a:srgbClr val="575f6d"/>
                </a:solidFill>
                <a:latin typeface="Century Schoolbook"/>
              </a:rPr>
              <a:t> 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едставители модернизма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в английской и ирландской литературе – Дж. Джойс, В. Вульф, Т. Стернз Элиот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во французской литературе – М.  Пруст, А. Жид, П. Валери, А. Камю, Ж.-П. Сартр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в немецкоязычной литературе – Ф. Кафка, Г. Гейм, Г. Тракль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9" name="Picture 4" descr="Дж"/>
          <p:cNvPicPr/>
          <p:nvPr/>
        </p:nvPicPr>
        <p:blipFill>
          <a:blip r:embed="rId1"/>
          <a:stretch/>
        </p:blipFill>
        <p:spPr>
          <a:xfrm>
            <a:off x="1857240" y="3929040"/>
            <a:ext cx="1690920" cy="196380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8" descr="Кафка Франц"/>
          <p:cNvPicPr/>
          <p:nvPr/>
        </p:nvPicPr>
        <p:blipFill>
          <a:blip r:embed="rId2"/>
          <a:stretch/>
        </p:blipFill>
        <p:spPr>
          <a:xfrm>
            <a:off x="5429160" y="3929040"/>
            <a:ext cx="145116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4.</a:t>
            </a:r>
            <a:r>
              <a:rPr b="0" lang="ru-RU" sz="3200" spc="-1" strike="noStrike">
                <a:solidFill>
                  <a:srgbClr val="575f6d"/>
                </a:solidFill>
                <a:latin typeface="Century Schoolbook"/>
              </a:rPr>
              <a:t> ЛИТЕРАТУРА ЕВРОПЫ ПЕРВОЙ ПОЛОВИНЫ </a:t>
            </a:r>
            <a:r>
              <a:rPr b="0" lang="en-US" sz="3200" spc="-1" strike="noStrike">
                <a:solidFill>
                  <a:srgbClr val="575f6d"/>
                </a:solidFill>
                <a:latin typeface="Century Schoolbook"/>
              </a:rPr>
              <a:t>XX</a:t>
            </a:r>
            <a:r>
              <a:rPr b="0" lang="ru-RU" sz="3200" spc="-1" strike="noStrike">
                <a:solidFill>
                  <a:srgbClr val="575f6d"/>
                </a:solidFill>
                <a:latin typeface="Century Schoolbook"/>
              </a:rPr>
              <a:t> ВЕКА</a:t>
            </a: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142560" y="1571400"/>
            <a:ext cx="5786280" cy="48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Литература Франции. 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Характерные черты: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70000"/>
              </a:lnSpc>
              <a:spcBef>
                <a:spcPts val="4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создание «романов-потоков», в которых в особой технике «потока сознания» передается внутренний монолог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70000"/>
              </a:lnSpc>
              <a:spcBef>
                <a:spcPts val="4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постепенное нарастание иррационалистических тенденций во французской модернистской литературе первой трети ХХ в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70000"/>
              </a:lnSpc>
              <a:spcBef>
                <a:spcPts val="4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все более последовательный отход от традиций реалистической литературы, а подчас и разрыв с ними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Немецкоязычная литература.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 Представлена: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70000"/>
              </a:lnSpc>
              <a:spcBef>
                <a:spcPts val="4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миром Ф. Кафки и «кафкианством»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70000"/>
              </a:lnSpc>
              <a:spcBef>
                <a:spcPts val="4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Э.М. Ремарком как представителем писателей «потерянного поколения»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70000"/>
              </a:lnSpc>
              <a:spcBef>
                <a:spcPts val="4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творчеством Т. Манна от «Размышлений аполитичного» к созданию «интеллектуальных романов» с философско-исторической проблематикой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70000"/>
              </a:lnSpc>
              <a:spcBef>
                <a:spcPts val="4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исторической тематикой романов Л. Фейхтвангера и С. Цвейга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70000"/>
              </a:lnSpc>
              <a:spcBef>
                <a:spcPts val="4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традициями немецкого романтизма в творчестве Г. Гессе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70000"/>
              </a:lnSpc>
              <a:spcBef>
                <a:spcPts val="4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антивоенной и антифашистской темой Б. Брехта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3" name="Picture 2" descr="C:\Users\павел\Desktop\f9b595a2aa34.jpg"/>
          <p:cNvPicPr/>
          <p:nvPr/>
        </p:nvPicPr>
        <p:blipFill>
          <a:blip r:embed="rId1"/>
          <a:stretch/>
        </p:blipFill>
        <p:spPr>
          <a:xfrm>
            <a:off x="6000840" y="1143000"/>
            <a:ext cx="26953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4.</a:t>
            </a:r>
            <a:r>
              <a:rPr b="0" lang="ru-RU" sz="3200" spc="-1" strike="noStrike">
                <a:solidFill>
                  <a:srgbClr val="575f6d"/>
                </a:solidFill>
                <a:latin typeface="Century Schoolbook"/>
              </a:rPr>
              <a:t> ЛИТЕРАТУРА ЕВРОПЫ ПЕРВОЙ ПОЛОВИНЫ </a:t>
            </a:r>
            <a:r>
              <a:rPr b="0" lang="en-US" sz="3200" spc="-1" strike="noStrike">
                <a:solidFill>
                  <a:srgbClr val="575f6d"/>
                </a:solidFill>
                <a:latin typeface="Century Schoolbook"/>
              </a:rPr>
              <a:t>XX</a:t>
            </a:r>
            <a:r>
              <a:rPr b="0" lang="ru-RU" sz="3200" spc="-1" strike="noStrike">
                <a:solidFill>
                  <a:srgbClr val="575f6d"/>
                </a:solidFill>
                <a:latin typeface="Century Schoolbook"/>
              </a:rPr>
              <a:t> ВЕКА 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Английская и ирландская литература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8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«энциклопедия модернистского искусства» – роман ирландца Дж. Джойса «Улисс»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80000"/>
              </a:lnSpc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Он стремится к всеобъемлющим формам изображения основных законов бытия, к созданию «универсалии» жизни с извечно присущим ей взаимодействием страстей, импульсов, побуждений, инстинктов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80000"/>
              </a:lnSpc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Как основной прием он утверждает «поток сознания» экспериментирует в передаче его движения, проникает в тайники подсознания: передача потока сознания, перебои мысли, параллельное и перекрещивающееся движение нескольких потоков мыслей, фрагментарность, монтаж, словотворчество.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8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Материалисты: Беннет, Уэлс, Голсуорси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8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Спиритуалистам: Джойс, Лоуренс, Вульф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ажное место в литературе ХХ века занимает антиутопия (Хаксли, Оруэлл)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4. </a:t>
            </a:r>
            <a:r>
              <a:rPr b="0" lang="ru-RU" sz="3200" spc="-1" strike="noStrike">
                <a:solidFill>
                  <a:srgbClr val="575f6d"/>
                </a:solidFill>
                <a:latin typeface="Century Schoolbook"/>
              </a:rPr>
              <a:t>ЛИТЕРАТУРА ВТОРОЙ ПОЛОВИНЫ </a:t>
            </a:r>
            <a:r>
              <a:rPr b="0" lang="en-US" sz="3200" spc="-1" strike="noStrike">
                <a:solidFill>
                  <a:srgbClr val="575f6d"/>
                </a:solidFill>
                <a:latin typeface="Century Schoolbook"/>
              </a:rPr>
              <a:t>XX</a:t>
            </a:r>
            <a:r>
              <a:rPr b="0" lang="ru-RU" sz="3200" spc="-1" strike="noStrike">
                <a:solidFill>
                  <a:srgbClr val="575f6d"/>
                </a:solidFill>
                <a:latin typeface="Century Schoolbook"/>
              </a:rPr>
              <a:t> ВЕКА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Английская литература: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80000"/>
              </a:lnSpc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Грин, Сноу, И. Во;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80000"/>
              </a:lnSpc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«сердитые молодые писатели» Осборн, Силлитоу, С. Чаплин, Болт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80000"/>
              </a:lnSpc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Голдинг и его философско-аллегорические романы-притчи;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80000"/>
              </a:lnSpc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философско-психологические романы А. Мердока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80000"/>
              </a:lnSpc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обращение к теме обретения самосознания как необходимого условия свободы в творчестве Дж. Фаулза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Американская литература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80000"/>
              </a:lnSpc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провозглашается культ свободы от социально-политических условностей в движении битников и молодежной «контркультуре»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80000"/>
              </a:lnSpc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в контексте контркультуры Сэлинджер передает обостренное ощущение разлада с окружающей жизнью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80000"/>
              </a:lnSpc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появляются новые жанры: “новый журнализм” и документальные жанры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Picture 2" descr="C:\Users\павел\Desktop\gachev_124h.jpg"/>
          <p:cNvPicPr/>
          <p:nvPr/>
        </p:nvPicPr>
        <p:blipFill>
          <a:blip r:embed="rId1"/>
          <a:stretch/>
        </p:blipFill>
        <p:spPr>
          <a:xfrm>
            <a:off x="285840" y="357120"/>
            <a:ext cx="3238560" cy="242892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3" descr="C:\Users\павел\Desktop\moris2.jpg"/>
          <p:cNvPicPr/>
          <p:nvPr/>
        </p:nvPicPr>
        <p:blipFill>
          <a:blip r:embed="rId2"/>
          <a:stretch/>
        </p:blipFill>
        <p:spPr>
          <a:xfrm>
            <a:off x="3786120" y="642960"/>
            <a:ext cx="3238560" cy="242892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4" descr="C:\Users\павел\Desktop\picture.jpg"/>
          <p:cNvPicPr/>
          <p:nvPr/>
        </p:nvPicPr>
        <p:blipFill>
          <a:blip r:embed="rId3"/>
          <a:stretch/>
        </p:blipFill>
        <p:spPr>
          <a:xfrm>
            <a:off x="928800" y="3786120"/>
            <a:ext cx="3108240" cy="233208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5" descr="C:\Users\павел\Desktop\bulich_03-052.jpg"/>
          <p:cNvPicPr/>
          <p:nvPr/>
        </p:nvPicPr>
        <p:blipFill>
          <a:blip r:embed="rId4"/>
          <a:stretch/>
        </p:blipFill>
        <p:spPr>
          <a:xfrm>
            <a:off x="5143680" y="3500280"/>
            <a:ext cx="2786040" cy="27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575f6d"/>
                </a:solidFill>
                <a:latin typeface="Century Schoolbook"/>
              </a:rPr>
              <a:t>ПЛАН</a:t>
            </a:r>
            <a:endParaRPr b="0" lang="en-US" sz="4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1. Проявление и характеризация культуры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XX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ек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2. Живопись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XX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век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3. Театр, кинематограф, музык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4. Литература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XX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ек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5. Архитектура ХХ век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5. АРХИТЕКТУРА ХХ ВЕК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Зародившиеся в конце 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XIX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 в. идеи  рационализма и конструктивизма (когда архитекторы ориентировались на физические свойства материалов и конструкций, и все это находило отражение в форме зданий) получили мощные стимулы и  развились в новое направление – </a:t>
            </a: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функционализм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Внешний облик  «функциональной» постройки отражал не только ее конструкцию, но и внутреннюю планировку, которая определялась практическим назначением (функцией)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Функционализм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. 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Признавая только утилитарность, то есть пользу и целесообразность, функционализм считал излишними декоративные мотивы, отвергал национальные традиции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5. </a:t>
            </a:r>
            <a:r>
              <a:rPr b="0" lang="ru-RU" sz="3200" spc="-1" strike="noStrike">
                <a:solidFill>
                  <a:srgbClr val="575f6d"/>
                </a:solidFill>
                <a:latin typeface="Century Schoolbook"/>
                <a:ea typeface="Times New Roman"/>
              </a:rPr>
              <a:t>ЗАПАДНАЯ АРХИТЕКТУРА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456840" y="1599840"/>
            <a:ext cx="59007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Архитекторы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entury Schoolbook"/>
              </a:rPr>
              <a:t>Вальтер Гропиус</a:t>
            </a:r>
            <a:r>
              <a:rPr b="1" lang="en-US" sz="1700" spc="-1" strike="noStrike">
                <a:solidFill>
                  <a:srgbClr val="000000"/>
                </a:solidFill>
                <a:latin typeface="Century Schoolbook"/>
              </a:rPr>
              <a:t>: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1" lang="ru-RU" sz="1700" spc="-1" strike="noStrike">
                <a:solidFill>
                  <a:srgbClr val="000000"/>
                </a:solidFill>
                <a:latin typeface="Century Schoolbook"/>
              </a:rPr>
              <a:t>создатель «Баухауза», провозгласивший идею воссоединения искусства, науки, техники и науки. 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entury Schoolbook"/>
              </a:rPr>
              <a:t>Людвиг Мис ван дер Роэ</a:t>
            </a:r>
            <a:r>
              <a:rPr b="1" lang="en-US" sz="1700" spc="-1" strike="noStrike">
                <a:solidFill>
                  <a:srgbClr val="000000"/>
                </a:solidFill>
                <a:latin typeface="Century Schoolbook"/>
              </a:rPr>
              <a:t>: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1" lang="ru-RU" sz="1700" spc="-1" strike="noStrike">
                <a:solidFill>
                  <a:srgbClr val="000000"/>
                </a:solidFill>
                <a:latin typeface="Century Schoolbook"/>
              </a:rPr>
              <a:t>В 1927 г.  возглавил Международную выставку в Штутгарте «Современное жилище» (участвовали В.Гропиус, Ле Корбюзье и др. архитекторы-функционалисты (Международный, интернациональный стиль) 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entury Schoolbook"/>
              </a:rPr>
              <a:t>Ле Корбюзье</a:t>
            </a:r>
            <a:r>
              <a:rPr b="1" lang="en-US" sz="1700" spc="-1" strike="noStrike">
                <a:solidFill>
                  <a:srgbClr val="000000"/>
                </a:solidFill>
                <a:latin typeface="Century Schoolbook"/>
              </a:rPr>
              <a:t>: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1" lang="ru-RU" sz="1700" spc="-1" strike="noStrike">
                <a:solidFill>
                  <a:srgbClr val="000000"/>
                </a:solidFill>
                <a:latin typeface="Century Schoolbook"/>
              </a:rPr>
              <a:t>живописец, дизайнери теоретик, построивший много разнообразных зданий в разных концах света, сформулировавший знаменитые «пять пунктов» архитектуры, изобретший модулор и выступивший против им же самим провозглашенного лозунга: «Дом - это машина для жилья».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6" name="Picture 1" descr="38"/>
          <p:cNvPicPr/>
          <p:nvPr/>
        </p:nvPicPr>
        <p:blipFill>
          <a:blip r:embed="rId1"/>
          <a:stretch/>
        </p:blipFill>
        <p:spPr>
          <a:xfrm>
            <a:off x="6357960" y="2000160"/>
            <a:ext cx="238428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5. </a:t>
            </a:r>
            <a:r>
              <a:rPr b="0" lang="ru-RU" sz="2800" spc="-1" strike="noStrike">
                <a:solidFill>
                  <a:srgbClr val="575f6d"/>
                </a:solidFill>
                <a:latin typeface="Century Schoolbook"/>
                <a:ea typeface="Times New Roman"/>
              </a:rPr>
              <a:t>ЗАПАДНАЯ АРХИТЕКТУРА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457200" y="1600200"/>
            <a:ext cx="382896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entury Schoolbook"/>
              </a:rPr>
              <a:t>Оскар Нимейер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Виднейший бразильский зодчий; спроектировал центральную ось города Бразилия с правительственными и общественными зданиями. Лучшие из них - президентский дворец, Национальный конгресс и т.д., официальное открытие которого состоялось 21 апреля 1960 г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9" name="Picture 2" descr="C:\Users\павел\Desktop\8da95ef0d8527c8412338d531b72d16b_full.jpg"/>
          <p:cNvPicPr/>
          <p:nvPr/>
        </p:nvPicPr>
        <p:blipFill>
          <a:blip r:embed="rId1"/>
          <a:stretch/>
        </p:blipFill>
        <p:spPr>
          <a:xfrm>
            <a:off x="4071960" y="1857240"/>
            <a:ext cx="464328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СПИСОК ЛИТЕРАТУРЫ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ikipedia.org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e.ifmo.ru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Yandex.ru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Google.ru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Энциклопедия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: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Культурологический справочник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1. ПРОЯВЛЕНИЕ И ХАРАКТЕРИЗАЦИЯ КУЛЬТУРЫ 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XX </a:t>
            </a: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ВЕК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Культура ХХ в. - это радикально новые и прежде неизвестные типы художественного и философского выражения: технические виды искусств (кино, позднее дигитальные искусства), фундаментальные научные теории, глубочайшим образом преображающие философские методы и художественное мышление. В структуре и типологии культуры ХХ в. не менее показательны и "зияния", то есть исчезновение либо маргинализация видов, типов, жанров искусства и мышления, которые прежде играли в системе культуры чрезвычайно существенную роль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2. ЖИВОПИСЬ 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XX</a:t>
            </a: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 ВЕК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XX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ек для живописи был фактически новым этапом развития, более сбалансированным в  сфере культуры и общества. Были приняты многие течения, которые раньше не могли являться частью искусства и получать положительные отголоски высшего свет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9" name="Picture 3" descr="C:\Users\павел\Desktop\io4f015_thedeathofmattathias.jpg"/>
          <p:cNvPicPr/>
          <p:nvPr/>
        </p:nvPicPr>
        <p:blipFill>
          <a:blip r:embed="rId1"/>
          <a:stretch/>
        </p:blipFill>
        <p:spPr>
          <a:xfrm>
            <a:off x="1500120" y="3857760"/>
            <a:ext cx="5286600" cy="28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2.НАПРАВЛЕНИЯ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Фовизм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Экспрессионизм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Кубизм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Футуризм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Метафизическая живопись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Дадаизм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юрреализм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оп-арт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Гиперреализм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Концептуализм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оц-арт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п-арт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2" name="Picture 2" descr="C:\Users\павел\Desktop\1226659628_michael_whelan_thesummerqueen.jpg"/>
          <p:cNvPicPr/>
          <p:nvPr/>
        </p:nvPicPr>
        <p:blipFill>
          <a:blip r:embed="rId1"/>
          <a:stretch/>
        </p:blipFill>
        <p:spPr>
          <a:xfrm>
            <a:off x="5500800" y="738360"/>
            <a:ext cx="321948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2. КУБИЗМ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6840" y="1600200"/>
            <a:ext cx="42577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Художник не следует видимой реальности, а творит новую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Этапы кубизма: сезанновский, аналитический, синтетический, рокайльный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Представители: П. Пикассо, Ж. Брак, Х. Грис, Ф. Леже, Р. Делоне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5" name="Picture 3" descr="C:\Users\павел\Desktop\47803157_picasso2.jpg"/>
          <p:cNvPicPr/>
          <p:nvPr/>
        </p:nvPicPr>
        <p:blipFill>
          <a:blip r:embed="rId1"/>
          <a:stretch/>
        </p:blipFill>
        <p:spPr>
          <a:xfrm>
            <a:off x="4786200" y="500040"/>
            <a:ext cx="392904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2. ФУТУРИЗМ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142560" y="1571400"/>
            <a:ext cx="4257720" cy="48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39720" indent="-272880">
              <a:lnSpc>
                <a:spcPct val="80000"/>
              </a:lnSpc>
              <a:spcBef>
                <a:spcPts val="451"/>
              </a:spcBef>
              <a:buClr>
                <a:srgbClr val="fe8637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Человеческие чувства, идеалы любви, счастья, добра – слабости. Прославление урбанистической цивилизации, индустриализации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80000"/>
              </a:lnSpc>
              <a:spcBef>
                <a:spcPts val="451"/>
              </a:spcBef>
              <a:buClr>
                <a:srgbClr val="fe8637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Представители: У. Боччони, К.К. Балла, Дж. Балла, Л. Руссоло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8" name="Picture 2" descr="C:\Users\павел\Desktop\20080605_futurism.jpg"/>
          <p:cNvPicPr/>
          <p:nvPr/>
        </p:nvPicPr>
        <p:blipFill>
          <a:blip r:embed="rId1"/>
          <a:stretch/>
        </p:blipFill>
        <p:spPr>
          <a:xfrm>
            <a:off x="4714920" y="285840"/>
            <a:ext cx="4000320" cy="54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2. ОП-АРТ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57200" y="1600200"/>
            <a:ext cx="37576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художественное течение, использующее различные оптические иллюзии, основанные на особенностях восприятия плоских и пространственных фигур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Представители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: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 Бриджит Райли, Виктор Вазарели, Демарко Морелле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1" name="Picture 2" descr="C:\Users\павел\Desktop\ru28.jpg"/>
          <p:cNvPicPr/>
          <p:nvPr/>
        </p:nvPicPr>
        <p:blipFill>
          <a:blip r:embed="rId1"/>
          <a:stretch/>
        </p:blipFill>
        <p:spPr>
          <a:xfrm>
            <a:off x="4143240" y="469800"/>
            <a:ext cx="4572000" cy="517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3. ТЕАТР, КИНЕМАТОГРАФ, МУЗЫКА</a:t>
            </a:r>
            <a:br>
              <a:rPr sz="3000"/>
            </a:b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Если говорить в общем из этих трех направлений, то можно сказать, что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театр стал новым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“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институтом экспериментов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”;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кинематограф нащел множество новых идей и замыслов, которые очень скоро стали появляться на свет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музыка если не полностью, то частично могла отразить веяние того времени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6T16:51:45Z</dcterms:created>
  <dc:creator>павел</dc:creator>
  <dc:description/>
  <dc:language>en-US</dc:language>
  <cp:lastModifiedBy>павел</cp:lastModifiedBy>
  <dcterms:modified xsi:type="dcterms:W3CDTF">2009-12-26T18:44:15Z</dcterms:modified>
  <cp:revision>13</cp:revision>
  <dc:subject/>
  <dc:title>Культура XX века</dc:title>
</cp:coreProperties>
</file>