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  <p:sldId id="260" r:id="rId28"/>
    <p:sldId id="261" r:id="rId29"/>
    <p:sldId id="262" r:id="rId30"/>
    <p:sldId id="263" r:id="rId31"/>
    <p:sldId id="264" r:id="rId32"/>
    <p:sldId id="265" r:id="rId33"/>
    <p:sldId id="26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slide" Target="slides/slide5.xml"/><Relationship Id="rId29" Type="http://schemas.openxmlformats.org/officeDocument/2006/relationships/slide" Target="slides/slide6.xml"/><Relationship Id="rId30" Type="http://schemas.openxmlformats.org/officeDocument/2006/relationships/slide" Target="slides/slide7.xml"/><Relationship Id="rId31" Type="http://schemas.openxmlformats.org/officeDocument/2006/relationships/slide" Target="slides/slide8.xml"/><Relationship Id="rId32" Type="http://schemas.openxmlformats.org/officeDocument/2006/relationships/slide" Target="slides/slide9.xml"/><Relationship Id="rId33" Type="http://schemas.openxmlformats.org/officeDocument/2006/relationships/slide" Target="slides/slide10.xml"/><Relationship Id="rId34" Type="http://schemas.openxmlformats.org/officeDocument/2006/relationships/slide" Target="slides/slide1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98F4-FFBD-4EC3-96E2-A4A4D4AED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6E7F-DD0B-4871-AB09-E184BB51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C92DB-8A14-4037-9974-8F89DDA76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90E17-0DE4-4B75-A85B-E9475662B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DBB38-B793-455E-92CD-E65DE2507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EE85B-ECF1-42E9-8B4B-541F1BE0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7A24BD-B18F-4B20-8796-E74CEFA0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A4C325-45B6-4C93-A332-BC4F2D64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A0F02-3756-4DBB-99B7-DE6A3477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CB9B9-3C36-4EB0-9F10-001ECF024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715BC-E412-4EC5-BE52-1D176ADF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D08CB-C2C0-49F8-923D-C8325E102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95EC-6E86-4B65-A154-F6D75785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487993-1A0E-45DE-90CB-BE4BD8CA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CE066-B15B-4D5D-B127-F2852FFF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61EAA-4E89-407F-B8E4-459FEFAA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DF2E50-C2A9-417E-B8DB-E4B841230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AFAAC-8B10-423F-8BAD-831F96C02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DAB2D7-DF74-484F-AAC7-948489440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28854D-1846-43B7-A890-4FDE9001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CD42D5-A4EC-4A9D-825E-8DA6C3BA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A791A-EB8A-461A-904F-ED5C71C7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06FFE-56E4-4452-9877-7F4D57E5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68D35-CB05-40B6-A9EA-8FD1436C4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7956A1-AC33-4253-A44C-664BA404A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801C8A-3900-4D5F-961A-71DC9F71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850818-27CA-4FAB-AC3A-2670B1DC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F8CF8-02E7-4B71-9244-B42CC38B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46EA6-940F-4F90-8F5D-4E4ADB043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1248C-FA3C-4DBC-896A-F3AAA04B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308EF-8E62-49FE-B4B7-70FB1C14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1DB31-CE6C-4CC2-A934-79D406AE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052AA-3CFF-4E3E-A00D-108139F6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E7D18-A38F-4A1D-84E6-39FB80F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61C94-BE33-4C8E-8839-F90E261E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04CC3E-A9B1-43E3-9F5B-D23A6911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B49281-4194-4416-B0B6-78418065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CA38C-DFBF-48C0-9755-3530741A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0DA92E-9FE0-44F3-83ED-14EE4EBB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9CE083-13B0-4793-8752-D3A95EE1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F4BADB-A842-42BE-BB84-58A6DFDA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1BD4C9-21E8-4528-9A41-2A57305A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DA562-BED0-4C54-9B1C-125232E0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FED87F-3802-4D0D-9C50-EECF2AC8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0AC5AF-4BA0-4CFE-AE0D-D1F855AD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8D16-6725-4F6C-8D4A-F5A49355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41EE1-B1C7-40E4-BD5F-1C8BC2D7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26DD9-210F-4D4A-8895-A984A90F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048737-0C5D-4556-BFA8-37FE9839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3AA252-A28C-4FFC-89F7-23E0ECD4C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B4A72C-3D1C-432D-B9B1-9CEF56C89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4FAE2C-84F2-4723-90F8-82BD63A9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AC5C3-4E02-40E7-B67E-BA1B1F60C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8D9AEB-9BB5-4F44-A8CD-5F41BDF1D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5D1E3-CE6C-4382-85FA-7442D5F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EA360-81B6-4870-97AA-CE4388A4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6058-6D35-41F6-94FE-71345C75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56DD36-7185-4BAB-8AE4-0E51D20C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0C4F53-1909-423F-981E-76A149B9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59739-7550-4419-90DD-848774E6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B95EE8-8CAA-491C-B9EF-9D76068E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36382-4DF6-4B06-9F8C-7222CD98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06C4D5-B428-4294-8BE4-6C29DA494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1BFAB-E554-44C0-886E-307F5389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AA3846-350C-4133-AD50-5285BC78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2979BB-A132-4A5F-BAA3-58C614E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79DA9F6-302E-4D75-A15C-0F05A6901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D7CE-6F16-4B49-BB4B-A93E7124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4C7D6B-B8EA-41E0-9AE4-CF7CBDE8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8734069-7393-4E99-8E35-568987DFA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A3DF5F-7EAD-45FE-A5FF-E6754E6D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C3978CC-8342-4682-B13F-C29D41EF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B10C2FB-6285-44EB-BE1E-5AD97DFE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FBDEFA-E287-46B0-9FA3-1F871203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83E9474-5849-40F0-99E2-D0A3327A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31B9BF-20E4-40CF-AF51-84B99FD3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0F2C50-6C5F-4F28-9C32-7F8DCF85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47E5CA-0895-4D01-9435-DB2F7070C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19DD-846A-40A0-ACB8-86E36B60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009BE-1123-4A18-B7A7-30D6A0D0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06B700-1924-469F-9A18-13805A76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037E73-CC03-4A1A-9D42-F7197BA0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096495-EE85-44BE-8F3A-1E099B45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F7EED2-621F-4D87-A6FD-6F5B81A5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D5E88-D5AD-458B-8D85-B1117489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EE6257-7334-4022-8916-8411796A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FE197-80A3-4C61-B706-6E98457A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F96596-2638-4236-93A6-3BAD7B83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982875-5CF4-42C9-A99F-C841F8AC1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50A6-9922-48B9-A62F-548E561F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FD4C4D-FA27-4F0B-B017-DBAD241B6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ED8E0-363E-4D7B-B893-37CCFCA4A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9F41F8-C8C7-4460-A34E-772CCA01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D92AB-DFE7-46EE-B69A-35E973CD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16DCFD-6E56-4F3C-B116-F23BBE876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2C04D-7189-420A-B593-E3C049C6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EC57B-50B5-4DD0-BFBF-9130F23FA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21FB8F-86FA-4789-89B4-1916D7CA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E3DFF-325C-45AF-9F4B-2F15EF57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4D76C5-CD9F-4F1D-B775-4F2D0392F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C06B-63EE-47B1-8542-8E3FEDAE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7868A6-2EE8-4526-AAEE-440DF1DE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A52FBB-7A1E-41DF-91EA-7B1455214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2A491D-5442-4A2B-A35A-0BABE75B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3562DC-C564-412C-89BD-D5DF06149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541CE1-BBDD-4F61-9ED4-EE991D8E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B70EAC-0DE4-4BC8-85CF-30CDC11A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B423D0-8A51-4DF1-AE4C-49F309AB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41584-501B-45B9-A139-69568D3D9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11E4FB-6036-4797-97E4-84D55D49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B85BC-9699-4EF0-9365-782D87DF4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F52D-D5FC-4538-84B2-2622C396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799D-CE33-4863-866C-00D3A454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BF2D3C-04F7-4DE4-9D93-FF700AD5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3A996B-8020-4B87-938A-58FB2BA9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665E78-C011-4826-9A16-20F7D8ECD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168A3E-58A5-455C-BF18-5FFD57BA2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D53AFB-8C19-4C64-BF0B-50CD3F102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ECF892-CA8A-41D0-B5DC-41B7AE876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F961B6-764B-4580-84A2-C96069F7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0C0F78-8045-4C9A-84C3-720B5B77D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D42985-5A28-467E-9546-57B0D4C78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09C728-2DA9-4573-91AC-7EB8943C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B35B-DBE5-4F5B-A57E-0FD71BEC9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11052-426A-4A36-BD44-5D1DBB38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C2625A-F5C8-45B4-AE72-C9D50A13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34502-A51E-4E79-B612-2DC5E07F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EE3372-9A03-443D-A042-44C7F8F2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45195D-D3CD-4BC2-982A-3268DAAD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253BFE-FF80-4B23-A5E0-EF472F98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116B0-0652-431D-A5C5-08B4BC55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29958A-6487-46F4-8577-C486D757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D661377-EBE9-4A0A-AA74-EFF31A69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52CF17D-B59E-4C17-97D5-7B14D381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5CE6D-2594-4DD1-AB97-8FD34198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E6CD3C-26C4-4B98-9129-97961229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78F538D-E2E7-4674-8709-38B3CEAF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DE79D75-CF8F-43FD-B008-3744B08D5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108ECE2-97AF-495B-808A-9AD74C9D6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2FEEB208-A75C-4BE4-BE2D-41DFE613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BCD6237A-74B8-41E0-8F0A-F78823C2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92B0F0B-3BA2-4120-B5F4-B12D0F80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BD4C3DD-0E03-440B-BE2F-AE85569E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3F8BB216-33BF-4904-9D41-63F7C46CC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11D7E4-E6B5-4BFB-855E-22D6CB776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EB14-266F-451C-BE16-103180C1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D2F1E9-2221-49FC-8D33-D7F68E99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A9021D-1CF0-40F1-AC16-31BE6925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C84D93-9D2A-40D0-B620-82708878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77F11F-2244-4EF6-9E68-5115AD7DF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173327-686F-48C9-BF01-AC58ECC68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FB8031-B173-4AA7-9316-42E1EEE3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1D0315-769D-4F18-AEED-AFB38B7D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26D3E-0121-4680-8EFC-B6D2EB1C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A09704-DD8A-45F1-8DCC-50942CA51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F33E8B-C75B-4DBA-818A-4F1053E2F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66F9-0666-4790-92C3-10F1FC5DF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AA584B-19B4-4144-AF2D-4B69B93D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E7306F-9614-4704-8C5C-40EAF975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04A61-E45F-42D8-8017-8AB1343E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CF9714-B0C5-4610-AF43-0B3DBB4C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89DC8-06EE-4AB5-885C-F28F38CDA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8EEFF9-9DB3-4983-B9FE-7DC966ED0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DB03A5-47D4-4026-AE64-CA921D67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5512FF-3617-4F11-B949-50BF67C39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741502-F057-40BE-B4F4-F7B65F02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B895AA-00D7-4EEB-84FA-8F7C19EE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4EB3F-F00B-4AFC-BC5B-1A0A6E652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A2DA26-0714-4A69-B0FA-37E93D95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F72380-0CA6-4F76-9F16-1D003643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83992F-DAD3-4744-B1E9-D97108CD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A10199-C68C-48AF-8AC0-B67436986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87CDCF-4BC0-4310-98D3-41456271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7D3582-572F-48E9-8CE7-34782F91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70E1FE-7B6B-4268-AA3E-C59527EC3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4E76D8-A8E5-4ECC-A84C-DD8A27057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C6666EE-EBA0-4C48-8911-88544D5C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809673-9B6A-4D53-81FD-1EAF38CDD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48144-013B-4B4F-ADEB-AC855957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833D7F-A341-42E4-AC3C-675869B4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3FBDCC-C442-48CA-972C-94694EB9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459523-4C4A-4409-B4A0-4EFDF0F4E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B485B3-1E2C-4318-8C6D-8E552149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51C520-10D7-4CF9-B413-28B78D62B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EEEEE-B7A2-4E90-B875-D30DBADA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EBAD4-79CB-4F93-8796-21F3E7FE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5DA4-6B30-41EA-8297-E9968F6A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5C07-F444-4C4F-ACBB-3BF4215A8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BAF7B-12C1-4B60-8729-E0907DB6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872D-83CA-4931-B30C-39E1E240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99788-0516-4CC0-B344-3C7380C7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A104F-BCA8-492F-8860-3D83C490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4EB93-BBE9-4CB9-AB4D-5A000823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C0775-2FFE-443B-B324-A3471110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9404-CAD7-46FB-A93D-AE565DF1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CFCA2-EEBE-45B9-AE49-5789F50A2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C39AD-9CAE-41D2-BAF3-1725AF4EC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6AF6D-C5A4-4745-AF01-36B01A62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E25-3A1F-44A8-99CA-785FF0BE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93F12-B8FE-4422-AF98-21187546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B993-4AC4-40DE-A70B-5D673A4FC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87578-0AAE-496E-9766-9462C6223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D103FC-521D-4D8C-ABFB-82EAE53C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7A3E-4FB7-41DD-B3A4-F91A6F135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4368E-7B52-4BE6-978D-8F2FF076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EC6A4-0742-45F3-8467-A831B4F8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1C1C-F2E6-4413-BE8C-05D40B47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7CDE-C1F1-406C-8BEF-38824E568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D3694-8E74-4746-B9CB-AF0D3C0A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2C17-4E88-4379-8E07-E83F1847B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C4EC2-DC32-4D20-871A-1FAEC1F5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9993D-E812-456C-866D-A92F5F08F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6E94A-F426-4326-8F65-4A8B35E8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A3D4C-8237-4D92-A671-D747A15A6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CF11A-C104-4BF6-B562-814C31FE0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A8535-DBD3-420B-BFFF-D348CEF4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5A3B7-A220-465F-8E6E-773C7F3DF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A958E-9FFD-49DC-8BE2-F6BED22F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1371E-45CD-49C8-9C3D-9466C7C5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39DA9-10B7-4795-AAD2-4BB9C6AB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D866-B960-43B0-B74B-89C2C590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F5E7D-F365-4A1A-8CA4-C7EE047B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866C1-6B6A-479E-87D8-E7F8A709E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2430A-6D68-40EF-827A-8652B572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9383F-ACDC-4FB6-828C-D17CFF418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DA846-1CAF-4A0B-BD25-F9658599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12B03-B4D0-46E4-9429-5CEADB26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D776E-745A-4A84-89B1-F468A2F9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4FA5D-598B-445B-8B37-3F41886F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57E83-9208-4CDA-8868-0D913C0E5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104883-2CAF-47AD-A6B7-55B4C3CB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BB58-66F0-48B7-BFF7-FEAF951F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588985-F466-4FB6-8EB1-880CBCF8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E92AFE-4A7C-4EA1-A1AE-248F113C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0B558-1921-4673-A220-8F0E1085D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9849C-35D3-441A-8F53-1B8A13AF1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86B174-AB66-4573-829C-2EA48D16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5D0545-9F47-4169-90A4-DF226E3DA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A5A20-73DA-4CDB-A36C-BE6E87DC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E5E71-EFBF-4528-812C-129A78A1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EC134-232E-42D5-9F5F-C9A7ACD5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F82A-BCF4-466A-9FB7-AA3D4A34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4F5F-20AA-4323-8C67-4AB54ACC8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EFFD8B-FC7C-49D2-9CAA-55D0FC8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11B5C-3FAD-4C47-BAFB-1536F355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7837F-FA95-4F33-A45B-7BBA6838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17CA3-5956-4AC4-A9C5-1EE1B100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CFEC3-BCC6-433A-A8EB-74E831E0D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D1AB17-5042-447A-ACBB-ED82F3E2A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DF596-74B2-464B-B156-28D3AC736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7F9DA1-3F5F-4B2F-9D26-8872D75B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AB9AD-C38D-4732-AFA2-8472DDD5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36801-2BA1-4DF5-9548-52DA4456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047-BB5D-433A-BAFE-B6265F23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135E77-F8A3-4861-B623-7FB6FEF0A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07EF13-DB29-4B52-BBB6-7313BC15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D914C-D8CC-4539-80A8-14C7CE54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98FFB-9E11-489E-856C-CBC47658D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B08BC-0500-4AE2-ADC2-A7E3846D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91049-BF95-4D89-913C-1D03B047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D53DC-9447-4187-B247-93738861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D273E-F356-4665-BFD9-70F697EA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9202A-4CCB-4959-86B3-1E724F97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7894F-0D85-4C3B-B0C4-466B46E0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0C075-2A3E-40F6-B694-2979532FD82B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761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762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767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768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dt" idx="28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ftr" idx="29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0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2802-4805-4E7C-A5C2-8CB96DD013FA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4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15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 type="dt" idx="3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 type="ftr" idx="3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1B5D4-5787-4E29-A485-E5AA5BCF590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89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925" name="PlaceHolder 1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5CEC-1154-4448-A6CE-3753429EFE6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23E-FE24-4092-9AA0-6D2FEE5856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2E61-5A00-4887-B6DA-4652D0B86F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04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dt" idx="43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ftr" idx="44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sldNum" idx="4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26086-D215-428F-99A2-BCC9EBF664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09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dt" idx="46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 type="ftr" idx="47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 type="sldNum" idx="4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7CF01-1EE6-4A6A-926F-0D0FE529A9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14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15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15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9431-98D8-4381-B302-8D2FB326D3D1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4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225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237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238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102B-1761-4810-93B9-8E36E907789A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dt" idx="55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 type="sldNum" idx="56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F4D7-D957-473F-A3D1-8B16BA9EFD0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0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0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31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31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57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260A-69D3-48FD-A1B6-136A287EBE2F}" type="slidenum">
              <a:rPr b="0" lang="ru-RU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35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35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36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dt" idx="58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ftr" idx="59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sldNum" idx="60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730E-A175-443B-9CD9-9CA7BE82E8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0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48713-8CD4-492D-B436-8DC18D6FC49B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46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5C07-DB4C-4292-9D95-7A4E30946958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1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1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3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81EA-D23F-452E-8641-4279173413D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8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19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9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1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7EECE-3391-4E3A-9FCF-2DBB35D26CF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265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66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grpSp>
              <p:nvGrpSpPr>
                <p:cNvPr id="268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269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274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275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8f8f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276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4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5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6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7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8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9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0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1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2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313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314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6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7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19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0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2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3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4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326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0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1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2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3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4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5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6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7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8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9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0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1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2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3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4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5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6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7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8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9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0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1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2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3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4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5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6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7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8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9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0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1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62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363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grpSp>
              <p:nvGrpSpPr>
                <p:cNvPr id="365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75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376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grpSp>
            <p:nvGrpSpPr>
              <p:cNvPr id="382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383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88" name="PlaceHolder 1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CA97-67E4-4693-9645-61971D7CF5C7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430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grpSp>
              <p:nvGrpSpPr>
                <p:cNvPr id="433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434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7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438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8f8f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9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440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8f8f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441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442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3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4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5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6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7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8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9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0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1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2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3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4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5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6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7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8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9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0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1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2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3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4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5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6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7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8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9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0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1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2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3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4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5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6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7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78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479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0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2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6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7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8f8f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1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2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3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4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5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6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7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8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99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0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1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2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3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4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5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6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0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1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2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3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4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5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6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7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8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19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0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1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2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3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4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5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526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8f8f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527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528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grpSp>
              <p:nvGrpSpPr>
                <p:cNvPr id="530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531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8f8f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40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541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548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8f8f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62865-3B5C-41B4-B6E2-03A26888D4C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9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5859-D35F-41A8-9194-4E4DDDE544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65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E6B49-C4A1-4528-BB2F-3ED294CD54D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6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707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grpSp>
          <p:nvGrpSpPr>
            <p:cNvPr id="709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710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8f8f8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2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26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2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72F2-6C3D-4270-8F4B-6E1666AEDF3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7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Исследование морских глубин.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16" name=""/>
          <p:cNvSpPr/>
          <p:nvPr/>
        </p:nvSpPr>
        <p:spPr>
          <a:xfrm>
            <a:off x="539640" y="3357720"/>
            <a:ext cx="125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1403280" y="2409840"/>
            <a:ext cx="1297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395280" y="2133720"/>
            <a:ext cx="43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Человек начал осваивать подводный мир ещё в глубокой древности. Опытные, хорошо тренированные ныряльщики (собиратели жемчуга),задерживая дыхание на 1-2 мин, погружались без всяких приспособлений на глубину 20-30 (а иногда и более) метров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19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3919680" cy="293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1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"/>
          <p:cNvSpPr/>
          <p:nvPr/>
        </p:nvSpPr>
        <p:spPr>
          <a:xfrm>
            <a:off x="0" y="476280"/>
            <a:ext cx="5148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"/>
              </a:rPr>
              <a:t>Батисферу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опускают с надводного судна с помощью троса. Впервые она была использована итальянцем Бальзамелло в 1892 г. Глубина погружения тогда составляла 165 м; впоследствии она превысила 1 км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37" name="" descr=""/>
          <p:cNvPicPr/>
          <p:nvPr/>
        </p:nvPicPr>
        <p:blipFill>
          <a:blip r:embed="rId1"/>
          <a:srcRect l="-6438" t="46965" r="6182" b="25696"/>
          <a:stretch/>
        </p:blipFill>
        <p:spPr>
          <a:xfrm>
            <a:off x="5156280" y="1916280"/>
            <a:ext cx="3987720" cy="435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"/>
          <p:cNvSpPr/>
          <p:nvPr/>
        </p:nvSpPr>
        <p:spPr>
          <a:xfrm>
            <a:off x="0" y="476280"/>
            <a:ext cx="4788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Батискаф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не связан  тросом с кораблем и представляет собой автономный (самоходный) аппарат. Первый батискаф был построен и испытан швейцарским ученым О. Пиккаром в1948 г. В январе 1960 г. сын ученого Ж. Пиккар вместе с Д. Уолшем достигли на батискафе дна Марианского желоба в Тихом океане. Его максинальная глубина (измеренная в 1957 г. советским исследовательским судном «Витязь») составляет 11 022 м.  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39" name="" descr=""/>
          <p:cNvPicPr/>
          <p:nvPr/>
        </p:nvPicPr>
        <p:blipFill>
          <a:blip r:embed="rId1"/>
          <a:srcRect l="0" t="69951" r="0" b="0"/>
          <a:stretch/>
        </p:blipFill>
        <p:spPr>
          <a:xfrm>
            <a:off x="4859280" y="1413000"/>
            <a:ext cx="3760920" cy="4530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"/>
          <p:cNvSpPr/>
          <p:nvPr/>
        </p:nvSpPr>
        <p:spPr>
          <a:xfrm>
            <a:off x="755640" y="83664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826920" y="765000"/>
            <a:ext cx="7632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Для увеличения времени пребывания под водой люди вначале использовали дыхательные трубки из тростника, кожаные мешки с запасом воздуха, а также «водолазный колокол» (в верхней части которого при погружении в воду образовывалась «воздушная подушка», из которой человек получал воздух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 больших глубинах разность между давлением воды, сжимающим грудную клетку, и давлением воздуха внутри её возрастает настолько, что у человека уже не хватает сил увеличивать объем грудной клетки при вдохе и наполнять свежим воздухом легки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 глубине, превышающей 1,5 м, можно дышать только таким воздухом, который сжат до давления, равного давлению воды на данной глубин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"/>
          <p:cNvSpPr/>
          <p:nvPr/>
        </p:nvSpPr>
        <p:spPr>
          <a:xfrm>
            <a:off x="324000" y="404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В 1943 г  французами Ж. Кусто и Э. Ганьяном был изобретен </a:t>
            </a:r>
            <a:r>
              <a:rPr b="0" i="1" lang="en-US" sz="2400" spc="-1" strike="noStrike">
                <a:solidFill>
                  <a:srgbClr val="f8f8f8"/>
                </a:solidFill>
                <a:latin typeface="Arial"/>
              </a:rPr>
              <a:t>акваланг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- специальный аппарат со сжатым воздухом, предназначенный для дыхания человека под водой. Благодаря этому изобретению плавание под водой стало увлекательным и распространенным видом спорта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25" name="" descr=""/>
          <p:cNvPicPr/>
          <p:nvPr/>
        </p:nvPicPr>
        <p:blipFill>
          <a:blip r:embed="rId1"/>
          <a:stretch/>
        </p:blipFill>
        <p:spPr>
          <a:xfrm>
            <a:off x="2987640" y="2349360"/>
            <a:ext cx="3311640" cy="430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"/>
          <p:cNvSpPr/>
          <p:nvPr/>
        </p:nvSpPr>
        <p:spPr>
          <a:xfrm>
            <a:off x="395280" y="1628640"/>
            <a:ext cx="8352000" cy="50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Акваланг позволяет находиться под водой от нескольких минут (на глубине около 40 м) до часа и более (на небольших глубинах). Спуски с аквалангом на глубины более 40 м не рекомендуются т.к. вдыхание воздуха, сжатого до большого давления, может привести к азотному наркозу. У человека нарушается координация движений, мутится сознание</a:t>
            </a:r>
            <a:r>
              <a:rPr b="0" lang="en-US" sz="2400" spc="-1" strike="noStrike">
                <a:solidFill>
                  <a:srgbClr val="f8f8f8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"/>
          <p:cNvSpPr/>
          <p:nvPr/>
        </p:nvSpPr>
        <p:spPr>
          <a:xfrm>
            <a:off x="395280" y="549360"/>
            <a:ext cx="4824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При подводных работах на разных глубинах используют специальные </a:t>
            </a:r>
            <a:r>
              <a:rPr b="0" i="1" lang="en-US" sz="2800" spc="-1" strike="noStrike">
                <a:solidFill>
                  <a:srgbClr val="f8f8f8"/>
                </a:solidFill>
                <a:latin typeface="Arial"/>
              </a:rPr>
              <a:t>водолазные скафандры. </a:t>
            </a: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Если скафандр мягкий (резиновый), то глубина погружения обычно не превосходит нескольких десятков метров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28" name="" descr=""/>
          <p:cNvPicPr/>
          <p:nvPr/>
        </p:nvPicPr>
        <p:blipFill>
          <a:blip r:embed="rId2"/>
          <a:stretch/>
        </p:blipFill>
        <p:spPr>
          <a:xfrm>
            <a:off x="4789440" y="1557360"/>
            <a:ext cx="4354560" cy="4319640"/>
          </a:xfrm>
          <a:prstGeom prst="rect">
            <a:avLst/>
          </a:prstGeom>
          <a:ln w="0">
            <a:noFill/>
          </a:ln>
        </p:spPr>
      </p:pic>
      <p:sp>
        <p:nvSpPr>
          <p:cNvPr id="1529" name=""/>
          <p:cNvSpPr/>
          <p:nvPr/>
        </p:nvSpPr>
        <p:spPr>
          <a:xfrm>
            <a:off x="6372360" y="4437000"/>
            <a:ext cx="504720" cy="2160720"/>
          </a:xfrm>
          <a:prstGeom prst="upArrow">
            <a:avLst>
              <a:gd name="adj1" fmla="val 50000"/>
              <a:gd name="adj2" fmla="val 107026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"/>
          <p:cNvSpPr/>
          <p:nvPr/>
        </p:nvSpPr>
        <p:spPr>
          <a:xfrm>
            <a:off x="250920" y="692280"/>
            <a:ext cx="453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Arial"/>
              </a:rPr>
              <a:t>На больших глубинах человек может работать только в жестком («панцирном») скафандре. В этом случае глубина погружения может доходить до 300 м.</a:t>
            </a:r>
            <a:endParaRPr b="0" lang="en-US" sz="28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31" name="" descr=""/>
          <p:cNvPicPr/>
          <p:nvPr/>
        </p:nvPicPr>
        <p:blipFill>
          <a:blip r:embed="rId1"/>
          <a:stretch/>
        </p:blipFill>
        <p:spPr>
          <a:xfrm>
            <a:off x="4716360" y="404640"/>
            <a:ext cx="3838680" cy="6143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0" y="476280"/>
            <a:ext cx="529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Arial"/>
              </a:rPr>
              <a:t>Для исследования морей и океанов на больших глубинах используют батисферы и батискафы.</a:t>
            </a:r>
            <a:endParaRPr b="0" lang="en-US" sz="3200" spc="-1" strike="noStrike">
              <a:solidFill>
                <a:srgbClr val="f8f8f8"/>
              </a:solidFill>
              <a:latin typeface="Arial"/>
            </a:endParaRPr>
          </a:p>
        </p:txBody>
      </p:sp>
      <p:pic>
        <p:nvPicPr>
          <p:cNvPr id="1533" name="" descr=""/>
          <p:cNvPicPr/>
          <p:nvPr/>
        </p:nvPicPr>
        <p:blipFill>
          <a:blip r:embed="rId1"/>
          <a:stretch/>
        </p:blipFill>
        <p:spPr>
          <a:xfrm>
            <a:off x="6372360" y="189000"/>
            <a:ext cx="1990440" cy="6669000"/>
          </a:xfrm>
          <a:prstGeom prst="rect">
            <a:avLst/>
          </a:prstGeom>
          <a:ln w="0">
            <a:noFill/>
          </a:ln>
        </p:spPr>
      </p:pic>
      <p:sp>
        <p:nvSpPr>
          <p:cNvPr id="1534" name=""/>
          <p:cNvSpPr/>
          <p:nvPr/>
        </p:nvSpPr>
        <p:spPr>
          <a:xfrm flipV="1">
            <a:off x="4932360" y="4724280"/>
            <a:ext cx="216072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4932360" y="5445000"/>
            <a:ext cx="1944720" cy="50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8f8f8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9:47:09Z</dcterms:created>
  <dc:creator>ученик</dc:creator>
  <dc:description/>
  <dc:language>en-US</dc:language>
  <cp:lastModifiedBy> A1yudushkin</cp:lastModifiedBy>
  <dcterms:modified xsi:type="dcterms:W3CDTF">2008-02-27T14:33:58Z</dcterms:modified>
  <cp:revision>5</cp:revision>
  <dc:subject/>
  <dc:title>Исследование морских глубин.</dc:title>
</cp:coreProperties>
</file>