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D2BB-7FA9-43C8-9658-6A95E574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0BA9-648F-40E9-9A8C-45D6079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5E85-8159-43C8-9242-867AFBB0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5A9D-5D85-4388-8F09-960679A5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C032-82E1-4246-84B5-4E6E33A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954-299D-4F92-A5A7-D6E5B96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FFEE-40F8-4EA2-BC8B-A64FF88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0897-0DE2-424D-8780-B89C7D7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5738-219A-4121-A712-E3A9FB0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9E15-B5B2-428D-9F7A-4E319D1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EEF-5E9C-465E-A64E-F9C6E26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A9BE-B5D1-498C-9588-53D2A8C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31E7-1C34-40BB-8CD5-A7D0A650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117F-C47B-484B-B1B0-1EE5D06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C2EA-943A-4823-9274-C028129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FAE-C050-4FF3-BC35-3D15A24D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A04-E537-400A-B04F-F73995FB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104B-0422-4437-93F2-389193CE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C2F0-9867-491F-96BA-3531722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6142-9830-4D2A-B384-D90A8B6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EA25-9FAF-493B-87CF-E638F314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64CA-4F50-46FE-93AE-0EA5F6C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41F1-B14B-4941-98E8-997335F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24BD-B506-499D-8C81-70AC98E9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699-38DD-4E79-9223-A874CACC94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3FC-394D-4322-8305-C0019E1A3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964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Тема: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Значение газа и перспективы развития газовой отрасли в Казахстане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835280" y="3024360"/>
          <a:ext cx="5460840" cy="35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024360"/>
                    <a:ext cx="5460840" cy="35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Действующие перерабатывающие мощности по производству газ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828800"/>
            <a:ext cx="771192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в республике действуют три газоперерабатывающих завода (ГПЗ) общей проектной мощностью переработки 6,85 млрд. 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газа в год (Табл. 2). К 2010 году предполагается общее увеличение мощностей переработки газа до уровня 28 млрд. куб.м в год за счет реконструкций и нового строительства объектов переработк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3357720"/>
          <a:ext cx="8069400" cy="3209760"/>
        </p:xfrm>
        <a:graphic>
          <a:graphicData uri="http://schemas.openxmlformats.org/drawingml/2006/table">
            <a:tbl>
              <a:tblPr/>
              <a:tblGrid>
                <a:gridCol w="1811160"/>
                <a:gridCol w="1043280"/>
                <a:gridCol w="1042920"/>
                <a:gridCol w="1042920"/>
                <a:gridCol w="1042920"/>
                <a:gridCol w="1042920"/>
                <a:gridCol w="1043280"/>
              </a:tblGrid>
              <a:tr h="461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ГП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ная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ически выработано в 2002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ая мощность после реконстру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. газа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жиж. газа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прир. газу млн.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сжиж. газу млн. м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кий ГПЗ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адный Казахс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сматривается технологическая модернизация без расширения мощности переработ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нгиз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ырау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64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ан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т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нажолский ГПЗ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юбинская обл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"/>
          <p:cNvSpPr/>
          <p:nvPr/>
        </p:nvSpPr>
        <p:spPr>
          <a:xfrm>
            <a:off x="611280" y="2997360"/>
            <a:ext cx="7632720" cy="287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def6"/>
                </a:solidFill>
                <a:latin typeface="Arial"/>
              </a:rPr>
              <a:t>Таблица 2: Характеристика действующих газоперерабатывающих заводов Р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намика производства и потребления сжиженного газа с учетом прогнозных показателей до 2010 года, тыс. тонн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65120" y="1600200"/>
          <a:ext cx="82137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ранспортировка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798984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ранспортировка природного газа осуществляется по системе магистральных газопроводов, которые проходят по территории восьми областей Казахст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щая протяженность магистральных газопроводов: около 10 тыс. км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4 году общий объем транспортировки газа по магистральным трубопроводам составил более 110 млрд. м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величение объемов международного транзита и рационального использования внутренних ресурсов газа за счет развития мощностей по транспортировке и переработке газ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ближайшие годы планируется построить семь новых магистральных трубопроводов, в том числе, для экспорта газа из недр казахстанского шельфа Каспийского мор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ерспективы развития газовой отрасли в Казахстан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В ближайшие годы планируется достижение следующих целей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безаварийного и бесперебойного снабжения населения и промышленных предприятий природным газом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Достижение энергетической независимости страны по поставкам электроэнергии, природного и сжиженного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Развитие транзитных мощностей газотранспортных магистралей республики для обеспечения возрастающих объемов транзита природного газа и более эффективное использование имеющихся активов трубопроводной системы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Обеспечение максимальной утилизации попутно добываемого газа на месторождениях и создание возможностей для дальнейшего наращивания мощностей по добыче нефти и газового конденсата с обеспечением необходимых экологических требований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экспортного потенциала страны по поставкам природного и сжиженного газа, а также сопутствующих компонентов добываемого газа и продуктов глубокой переработки газа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налоговых поступлений в бюджет республики (в настоящее время налоговые поступления от нефтегазового сектора составляют около 40%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25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Увеличение занятости населения и обеспечение газовой отрасли квалифицированным кадровым персонало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Выполнил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: </a:t>
            </a:r>
            <a:r>
              <a:rPr b="0" lang="ru-RU" sz="3600" spc="-1" strike="noStrike">
                <a:solidFill>
                  <a:srgbClr val="dcdce8"/>
                </a:solidFill>
                <a:latin typeface="Arial"/>
              </a:rPr>
              <a:t>Абдрахманов Бауржан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 !!!!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з- источник энергии и экспортный то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м добычи и основные месторождения газа в Казахст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нспортировка г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спективы развития газовой отрасли в Казахст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риродный газ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родный газ является смесью углеводородов, состоящей главным образом из представителей метанового ряда и содержащей небольшие добавки других газов, таких, как азот, двуокись углерода, сероводород и иногда гелий. Обычно основным в природном газе является метан, однако иногда имеются значительные примеси этана и, в меньшей степени, более тяжелых углеводородов. В природе встречаются газы, почти целиком состоящие из двуокиси углерода, однако такие газы не обладают свойством горюче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личают два типа природных горючих газов – сухие и влаж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ух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стоят в основном из метана и иногда содержат также этан и пропан, однако они не содержат более тяжелых углеводородов, которые могут конденсироваться при сжа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лажные горючие газ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одержат различные количества природного газолина, пропана и бутана, которые можно извлечь посредством сжатия или экстрагир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Области применения природного газ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152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 используется в производственных и бытовы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ыту газ используется для отопления жилых домов, приготовление пищи, заправки т/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нных целях газ используется в различных технологических процессах (в доменных печах, ТЭС, и т.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е значение имеет использование природного газа и сопутствующих элементов добываемого газ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электроэнергетике (в развитых странах до 35% электроэнергетических ресурсов вырабатывается с использованием природного газа; в Казахстане планируется к 2010 году увеличить долю газа в потребляемом топливе с 13,4% до уровня 2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фтехимической промышленности (газ, добываемый попутно с нефтью, представляет собой ценное химическое сырье для производства, к примеру, каучука, аммиака, этилового спирта и других синтетических продук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полиэтиленовых труб и других изделий из пластмасс (так, в тенгизском газе содержание этана, необходимого для получения этанола и полиэтилена, содержится до 11%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роизводстве элементарной серы и минеральных азотных удобрений (сера и азот являются сопутствующими элементами добываемого газ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спортно-ориентированность добычи газа в Казахстане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83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аз как стратегический товар для Казахстана является экспортно-ориентированн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дукция нефтегазового сектора экспортируется сегодня в десятки стран по всему Евразийскому континенту и стабильно остается основной статьей казахстанского экспорта: ее доля в общем объеме экспорта страны в настоящее время составила более 40%. Крупнейшими импортерами казахстанской нефти, газа и продуктов переработки нефти являются Россия, Великобритания, Украина, Швейцария и Итал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спектив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ращивание экспортного потенциала от реализации природного и сжиженного газа, а также продуктов их перераб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тегия развития Республики Казахстан до 2030 года содержит четко выраженный энергетический уклон. В ней говорится о необходимости "быстрого увеличения добычи и экспорта нефти и газа с целью получить доходы, которые будут способствовать устойчивому экономическому росту и улучшению жизни народа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захстан планирует в ближайшие годы стать третьим по объему экспорта газа поставщиком в бывшем СС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, по окончанию строительства газоперерабатывающего завода в Оренбурге, Казахстан будет способен экспортировать около 3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иродного газа в г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2010 году экспортный потенциал может возрасти на сумму около 110,6 млрд. тен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ходя из заявления министра энергетики и минеральных ресурсов Казахстана В. Школьника к 2015 году планируется добыть 40 млрд. 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, с возможным увеличением экспортных поставок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24000" y="404640"/>
            <a:ext cx="849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Запасы газа в Казахстан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5120" y="1628640"/>
            <a:ext cx="41338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По последним оценкам международных экспертов 37,6%  доказанных мировых запасов природного газа (147,5 трлн. куб. м.) сосредоточено на территории бывшего Советского Союза. При этом Казахстан по разведанным запасам и прогнозным ресурсам природного газа находится в числе 4-х ведущих стран СНГ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Объемы разведанных запасов природного газа в Казахстане составляют 1,8 трлн. куб. м. Однако на основание обновленных данных и Государственного баланса запасов полезных ископаемых по состоянию на 1 января 2002 года с учетом оцененных запасов газа по месторождениям казахстанского сектора Каспийского моря, суммарные запасы составляют около 3,3 трлн. куб. м. При этом перспективные и прогнозные ресурсы газа оцениваются в 6,0 – 8,0  трлн. куб. м., что связано в основном с освоением ресурсов Каспийского моря (рис. 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643280" y="1484280"/>
          <a:ext cx="3990960" cy="42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484280"/>
                    <a:ext cx="39909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4859280" y="4508640"/>
            <a:ext cx="36036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2720" y="4365720"/>
            <a:ext cx="309564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таточные запасы на суш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4797360"/>
            <a:ext cx="331164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ценочные запасы на Каспийском шельф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19640" y="5229360"/>
            <a:ext cx="3168720" cy="35856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гноз суммарных ресур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869000"/>
            <a:ext cx="360360" cy="21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59280" y="5300640"/>
            <a:ext cx="360360" cy="216000"/>
          </a:xfrm>
          <a:prstGeom prst="rect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Месторождения газ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по всем категориям месторождений зарегистрировано около 130 месторождений с разрабатываемыми и предварительно оцененными запасами газа, из ни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1 газов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 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нефтегазоконденсатны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1- нефтегазовые и прочие с малыми содержаниями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этом, в разработке находятся 44 месторождения, содержащие более 80% извлекаемых запасов углеводородных газ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авляющая часть месторождений находится на западе страны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зовые месторождения в Кызылординской, Жамбылской и Южно-Казахстанской областях имеют при сравнительно небольших запасах газа большое локальное значение для газификации местных территор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0,4% всех запасов свободного газа сосредоточено на месторождении Карачаган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324000" y="260280"/>
          <a:ext cx="86169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6169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быча природного газа в Казахстане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 последние годы отмечен значительный рост добычи газа в Казахстане. Если до 2000 года объемы добычи не превышали 10 млрд. куб. м газа в год, то в 2004 г. в стране было добыто 20,5 млрд. куб. м га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Внутреннее потребление составляет около 5 млрд. куб.м ежегодн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50920" y="4076640"/>
          <a:ext cx="8497800" cy="2265480"/>
        </p:xfrm>
        <a:graphic>
          <a:graphicData uri="http://schemas.openxmlformats.org/drawingml/2006/table">
            <a:tbl>
              <a:tblPr/>
              <a:tblGrid>
                <a:gridCol w="1914120"/>
                <a:gridCol w="732600"/>
                <a:gridCol w="729720"/>
                <a:gridCol w="732600"/>
                <a:gridCol w="731160"/>
                <a:gridCol w="732600"/>
                <a:gridCol w="729720"/>
                <a:gridCol w="732600"/>
                <a:gridCol w="731520"/>
                <a:gridCol w="7311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dedd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душу населения, млрд. м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468360" y="3645000"/>
            <a:ext cx="7488360" cy="288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блица 1: Объемы добычи естественного газа в Казахст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44:12Z</dcterms:created>
  <dc:creator>BaurZHAN</dc:creator>
  <dc:description/>
  <dc:language>en-US</dc:language>
  <cp:lastModifiedBy>BaurZHAN</cp:lastModifiedBy>
  <dcterms:modified xsi:type="dcterms:W3CDTF">2005-12-12T19:24:55Z</dcterms:modified>
  <cp:revision>5</cp:revision>
  <dc:subject/>
  <dc:title>Тема: Значение газа и перспективы развития газовой отрасли в Казахстане.</dc:title>
</cp:coreProperties>
</file>