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CAD3-C7E8-4CA6-BBD6-07CE8253A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d4d9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4d9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4d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A53D-9282-4AF0-9629-36B8FEF9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d4d9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4d9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4d9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4d99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4d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99A7-EEE9-415D-8C69-C7F0AC20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d4d9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4d99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4d99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4d99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4d99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4d99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4d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6145-10EF-4067-9980-CC4D26FE8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d4d9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4d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611C-6467-404B-B8FE-2DBE8267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d4d9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4d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8145-B200-4969-B6BC-5AF085B1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d4d9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4d99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4d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988B-BF33-43AF-A013-69AAA3FC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d4d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16D9-4767-42E2-BCE7-41CCD14D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4d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6CB6-277B-4C90-84B9-23C2E5D4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d4d9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4d99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4d99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4d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C001-AA8B-4FBE-BDCE-1B2AC285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d4d9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4d9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4d9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4d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9BCC-A0E8-4BA4-92D2-BDBFECA0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d4d9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4d9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4d9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4d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3EB1-CCFB-4DFF-B70A-D22F4BEA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4d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4d9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d4d9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d4d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d4d9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d4d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d4d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d4d9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d4d9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d4d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d4d9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d4d9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d4d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d4d9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d4d9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d4d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d4d9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d4d9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7d4d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d4d9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d4d9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7d4d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d4d9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d4d9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d4d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d4d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a96b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9FF9-1954-480A-81C9-F4E8D843452F}" type="slidenum">
              <a:rPr b="0" lang="ru-RU" sz="1200" spc="-1" strike="noStrike">
                <a:solidFill>
                  <a:srgbClr val="aa96b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99"/>
                </a:solidFill>
                <a:latin typeface="Comic Sans MS"/>
              </a:rPr>
              <a:t>ИНТЕРЕСНЫЕ ФАКТЫ О НАСЕКОМЫХ</a:t>
            </a:r>
            <a:endParaRPr b="0" lang="en-US" sz="4400" spc="-1" strike="noStrike">
              <a:solidFill>
                <a:srgbClr val="7d4d99"/>
              </a:solidFill>
              <a:latin typeface="Calibri"/>
            </a:endParaRPr>
          </a:p>
        </p:txBody>
      </p:sp>
      <p:pic>
        <p:nvPicPr>
          <p:cNvPr id="42" name="Picture 4" descr="st001_88"/>
          <p:cNvPicPr/>
          <p:nvPr/>
        </p:nvPicPr>
        <p:blipFill>
          <a:blip r:embed="rId1"/>
          <a:stretch/>
        </p:blipFill>
        <p:spPr>
          <a:xfrm>
            <a:off x="2987640" y="1484280"/>
            <a:ext cx="2873520" cy="51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99"/>
                </a:solidFill>
                <a:latin typeface="Comic Sans MS"/>
              </a:rPr>
              <a:t>— </a:t>
            </a:r>
            <a:r>
              <a:rPr b="1" lang="ru-RU" sz="3200" spc="-1" strike="noStrike">
                <a:solidFill>
                  <a:srgbClr val="99ff99"/>
                </a:solidFill>
                <a:latin typeface="Comic Sans MS"/>
              </a:rPr>
              <a:t>По мнению ученых, муравьи и термиты составляют приблизительно 20% биомассы Земли.</a:t>
            </a:r>
            <a:endParaRPr b="0" lang="en-US" sz="3200" spc="-1" strike="noStrike">
              <a:solidFill>
                <a:srgbClr val="7d4d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99"/>
                </a:solidFill>
                <a:latin typeface="Comic Sans MS"/>
              </a:rPr>
              <a:t>— </a:t>
            </a:r>
            <a:r>
              <a:rPr b="1" lang="ru-RU" sz="3200" spc="-1" strike="noStrike">
                <a:solidFill>
                  <a:srgbClr val="99ff99"/>
                </a:solidFill>
                <a:latin typeface="Comic Sans MS"/>
              </a:rPr>
              <a:t>По отношению к телу, у муравья самый большой мозг среди живых существ.</a:t>
            </a:r>
            <a:endParaRPr b="0" lang="en-US" sz="3200" spc="-1" strike="noStrike">
              <a:solidFill>
                <a:srgbClr val="7d4d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d4d99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395280" y="3789360"/>
            <a:ext cx="87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cc"/>
                </a:solidFill>
                <a:latin typeface="Comic Sans MS"/>
              </a:rPr>
              <a:t>—</a:t>
            </a:r>
            <a:r>
              <a:rPr b="1" lang="ru-RU" sz="3200" spc="-1" strike="noStrike">
                <a:solidFill>
                  <a:srgbClr val="7d4d99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99ff99"/>
                </a:solidFill>
                <a:latin typeface="Comic Sans MS"/>
              </a:rPr>
              <a:t>Гусеница может поднять груз, приблизительно в 25 раз тяжелее от собственного веса, муравей в 100 раз, пиявка в 1500 раз.</a:t>
            </a:r>
            <a:endParaRPr b="0" lang="en-US" sz="3200" spc="-1" strike="noStrike">
              <a:solidFill>
                <a:srgbClr val="7d4d99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-360"/>
            <a:ext cx="91440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99ff"/>
                </a:solidFill>
                <a:latin typeface="Comic Sans MS"/>
              </a:rPr>
              <a:t>...пчелы - чемпионы по обонянию; они воспринимают и различают запахи в 1000 раз сильнее человека, чувствуют аромат цветов более чем за 1 км;</a:t>
            </a:r>
            <a:endParaRPr b="0" lang="en-US" sz="4000" spc="-1" strike="noStrike">
              <a:solidFill>
                <a:srgbClr val="7d4d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d4d99"/>
              </a:solidFill>
              <a:latin typeface="Calibri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46306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99ff"/>
                </a:solidFill>
                <a:latin typeface="Comic Sans MS"/>
              </a:rPr>
              <a:t>...чтобы приготовить 100 граммов меда, пчела иногда пролетает 46 тысяч километров, это тоже самое, что облететь весь земной шар по экватору; рабочая пчела успевает опылить за день до 7 000 цветков;</a:t>
            </a:r>
            <a:endParaRPr b="0" lang="en-US" sz="2800" spc="-1" strike="noStrike">
              <a:solidFill>
                <a:srgbClr val="7d4d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54356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…</a:t>
            </a: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жизнь цветков после удачного опыления их пчелами недолговечна – от нескольких часов до 2-3 дней, а затем они увядают; исключение составляют лишь некоторые растения, цветки которых выделяют нектар в течение 8-10 и более дней по мере его отбора пчелами;</a:t>
            </a:r>
            <a:endParaRPr b="0" lang="en-US" sz="3200" spc="-1" strike="noStrike">
              <a:solidFill>
                <a:srgbClr val="7d4d99"/>
              </a:solidFill>
              <a:latin typeface="Arial"/>
            </a:endParaRPr>
          </a:p>
        </p:txBody>
      </p:sp>
      <p:pic>
        <p:nvPicPr>
          <p:cNvPr id="48" name="Picture 7" descr="pchela"/>
          <p:cNvPicPr/>
          <p:nvPr/>
        </p:nvPicPr>
        <p:blipFill>
          <a:blip r:embed="rId1"/>
          <a:stretch/>
        </p:blipFill>
        <p:spPr>
          <a:xfrm>
            <a:off x="5219640" y="1341360"/>
            <a:ext cx="3430800" cy="3934080"/>
          </a:xfrm>
          <a:prstGeom prst="rect">
            <a:avLst/>
          </a:prstGeom>
          <a:ln w="9360">
            <a:solidFill>
              <a:srgbClr val="7d4d99"/>
            </a:solidFill>
            <a:miter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-360"/>
            <a:ext cx="822960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d4d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d4d99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ff66"/>
                </a:solidFill>
                <a:latin typeface="Comic Sans MS"/>
              </a:rPr>
              <a:t>...пчелы могут быть использованы для проверки багажа туристов или какого-либо груза на предмет взрывчатых и наркотических веществ, т.к. нюх у пчел даже более тонкий, чем у четвероногих друзей человека; </a:t>
            </a:r>
            <a:endParaRPr b="0" lang="en-US" sz="2800" spc="-1" strike="noStrike">
              <a:solidFill>
                <a:srgbClr val="7d4d99"/>
              </a:solidFill>
              <a:latin typeface="Calibri"/>
            </a:endParaRPr>
          </a:p>
        </p:txBody>
      </p:sp>
      <p:pic>
        <p:nvPicPr>
          <p:cNvPr id="50" name="Picture 4" descr="cwetok_p4ela"/>
          <p:cNvPicPr/>
          <p:nvPr/>
        </p:nvPicPr>
        <p:blipFill>
          <a:blip r:embed="rId1"/>
          <a:stretch/>
        </p:blipFill>
        <p:spPr>
          <a:xfrm>
            <a:off x="1979640" y="2708280"/>
            <a:ext cx="4392720" cy="365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Comic Sans MS"/>
              </a:rPr>
              <a:t>БОЛЕЗНИ ПЧЁЛ</a:t>
            </a:r>
            <a:endParaRPr b="0" lang="en-US" sz="4400" spc="-1" strike="noStrike">
              <a:solidFill>
                <a:srgbClr val="7d4d99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Comic Sans MS"/>
              </a:rPr>
              <a:t>Нектарный токсикоз наблюдается преимущественно у пчел-сборщиц в период медосбора, когда они берут взяток с растений, нектар которых ядовит. В этом случае при умеренной степени токсичности нектара пчелы заносят его в улей и в кормах накапливается много яда, что впоследствии вызывает токсикоз, который длится обычно 2-3 недели и приводит к массовой гибели пчелиной семьи, расплода, маток. Обычно это происходит в конце мая или начале июня.</a:t>
            </a:r>
            <a:endParaRPr b="0" lang="en-US" sz="2400" spc="-1" strike="noStrike">
              <a:solidFill>
                <a:srgbClr val="7d4d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ff"/>
                </a:solidFill>
                <a:latin typeface="Comic Sans MS"/>
              </a:rPr>
              <a:t>Аспергиллез. Грибковое заболевание, вызывающее гибель личинок, куколок и взрослых пчел с последующим их затвердением. </a:t>
            </a:r>
            <a:endParaRPr b="0" lang="en-US" sz="2800" spc="-1" strike="noStrike">
              <a:solidFill>
                <a:srgbClr val="7d4d9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d4d9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ff"/>
                </a:solidFill>
                <a:latin typeface="Comic Sans MS"/>
              </a:rPr>
              <a:t>Опасен для тутового и дубового шелкопряда, многих видов диких насекомых, теплокровных животных и человека. Грибковая пыль поражает слизистую глаза, дыхательных путей и легкие. </a:t>
            </a:r>
            <a:endParaRPr b="0" lang="en-US" sz="2800" spc="-1" strike="noStrike">
              <a:solidFill>
                <a:srgbClr val="7d4d9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d4d9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ff"/>
                </a:solidFill>
                <a:latin typeface="Comic Sans MS"/>
              </a:rPr>
              <a:t>Грибок прорастает на пустых сотах и в перге. Развитию болезни способствует большая влажность в местности, где размещена пасека, дождливая погода, большие запасы открытой перги в сотах, если они хранятся в сырых помещениях или в улье за затвором (вне гнезда пчел).</a:t>
            </a:r>
            <a:endParaRPr b="0" lang="en-US" sz="2800" spc="-1" strike="noStrike">
              <a:solidFill>
                <a:srgbClr val="7d4d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Comic Sans MS"/>
              </a:rPr>
              <a:t>И ЕЩЁ…</a:t>
            </a:r>
            <a:endParaRPr b="0" lang="en-US" sz="4400" spc="-1" strike="noStrike">
              <a:solidFill>
                <a:srgbClr val="7d4d99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9806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ff"/>
                </a:solidFill>
                <a:latin typeface="Comic Sans MS"/>
              </a:rPr>
              <a:t>Для получения одного килограмма меда пчелы должны сделать до 4500 вылетов и взять нектар с 6-10 млн цветков. Сильная семья может собрать в день 5- 10 кг меда (10- 20 кг нектара).</a:t>
            </a:r>
            <a:endParaRPr b="0" lang="en-US" sz="2800" spc="-1" strike="noStrike">
              <a:solidFill>
                <a:srgbClr val="7d4d99"/>
              </a:solidFill>
              <a:latin typeface="Calibri"/>
            </a:endParaRPr>
          </a:p>
        </p:txBody>
      </p:sp>
      <p:pic>
        <p:nvPicPr>
          <p:cNvPr id="56" name="Picture 4" descr="short"/>
          <p:cNvPicPr/>
          <p:nvPr/>
        </p:nvPicPr>
        <p:blipFill>
          <a:blip r:embed="rId1"/>
          <a:stretch/>
        </p:blipFill>
        <p:spPr>
          <a:xfrm>
            <a:off x="684360" y="3359160"/>
            <a:ext cx="7812000" cy="3498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3T05:47:47Z</dcterms:created>
  <dc:creator>Мастер</dc:creator>
  <dc:description/>
  <dc:language>en-US</dc:language>
  <cp:lastModifiedBy>Loner-XP</cp:lastModifiedBy>
  <dcterms:modified xsi:type="dcterms:W3CDTF">2010-01-14T04:22:26Z</dcterms:modified>
  <cp:revision>3</cp:revision>
  <dc:subject/>
  <dc:title>ИНТЕРЕСНЫЕ ФАКТЫ О НАСЕКОМЫХ</dc:title>
</cp:coreProperties>
</file>