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3.jpeg" ContentType="image/jpeg"/>
  <Override PartName="/ppt/media/image19.wmf" ContentType="image/x-wmf"/>
  <Override PartName="/ppt/media/image5.gif" ContentType="image/gif"/>
  <Override PartName="/ppt/media/image14.jpeg" ContentType="image/jpeg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2D7-F46E-4A24-92C6-48CA1BC8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BAD-1561-445A-8B19-3C05CD3D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C5F-3396-4A5A-9270-B6CE025A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4AE-1E07-43AB-9EAD-609F29F6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E76-9ED3-49BE-A50F-F8C41CEE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00A6-D7DE-47C3-AD50-E5218DFD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0BB2-D839-4817-B1AD-855BEAD2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39F2-2698-4D0D-A79B-2DA56EE1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F56-0F3C-407D-9CBE-8BEB9527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9BA6-9870-4341-B3E5-AE5079E5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D9BA-483F-4F01-9E5D-5AB628B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0F4-20AE-41B7-83EF-F4481D02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47A1-3D41-4245-86AB-9986968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EC9-D228-44F9-8A46-A99E37A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8998-93F9-466C-816C-BD949366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83F9-8296-453A-84EF-D127875A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FD29-0B4F-4867-91D3-E5C3C83A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FFB-AA6E-458D-97E9-69173D81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F71-A440-47E3-8617-2B18DD7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04F-42F6-493C-98B0-57AD6E22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C71-03D2-49B2-BD6D-C13062A5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EC7-3D90-40DF-BD6C-C9102CE9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106-9900-42DD-8832-C454CE7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A26-84ED-469F-AC7D-2F5313F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C916-A293-443D-9E93-829A97CD186C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94DE-A9FC-49BB-A233-12482B8A2284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Unicode MS"/>
              </a:rPr>
              <a:t>Материал предназначен для проведения открытого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Лагуто С. В. – учитель химии МОУ Климовская СОШ №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pic13"/>
          <p:cNvPicPr/>
          <p:nvPr/>
        </p:nvPicPr>
        <p:blipFill>
          <a:blip r:embed="rId1"/>
          <a:stretch/>
        </p:blipFill>
        <p:spPr>
          <a:xfrm>
            <a:off x="304920" y="3446640"/>
            <a:ext cx="4038480" cy="3038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2057400" y="1143000"/>
            <a:ext cx="563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Monotype Corsiva"/>
              </a:rPr>
              <a:t>Химические свойства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Monotype Corsiva"/>
              </a:rPr>
              <a:t>       </a:t>
            </a:r>
            <a:r>
              <a:rPr b="1" lang="ru-RU" sz="4800" spc="-1" strike="noStrike">
                <a:solidFill>
                  <a:srgbClr val="9900cc"/>
                </a:solidFill>
                <a:latin typeface="Monotype Corsiva"/>
              </a:rPr>
              <a:t>карбоновых кисло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J0287645"/>
          <p:cNvPicPr/>
          <p:nvPr/>
        </p:nvPicPr>
        <p:blipFill>
          <a:blip r:embed="rId1"/>
          <a:stretch/>
        </p:blipFill>
        <p:spPr>
          <a:xfrm>
            <a:off x="6742080" y="3200400"/>
            <a:ext cx="2401920" cy="3657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248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щается применять повышенное усилие при сборке приборов из стек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вставить стеклянную трубку в пробку, необходимо конец трубки смочить водой и вставлять, слегка проворачи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колки посуды, если она разбилась, необходимо убрать с помощью щетки и сов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агревания жидкостей необходимо использовать только тонкостенную посу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уду укреплять в зажимах штатива нужно осторо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олнять посуду нужно не более, чем на одну треть объ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агревании пробирок и стеклянных пластинок необходимо сначала равномерно прогреть весь предмет, а потом греть в одном 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2000" y="834120"/>
            <a:ext cx="9151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нструкция №2.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Правила работы с лабораторной посудой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324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вить спиртовку в удобное для вас по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ять крышку. Проверить, чтобы отверстие спиртовки было полностью закрыто предохранительным кольц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жечь спиртовку спичками и нагревать предмет. Нельзя зажигать спиртовку от другой спирт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нагревания запрещается наклоняться над спиртов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рстие нагреваемой пробирки должно быть направлено в сторону от товарищей и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нагревания закрыть спиртовку колпачком и закрутить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щается переносить горящую спиртовк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236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нструкция №3.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ры безопасности при работе со спиртовк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огонь (3)"/>
          <p:cNvPicPr/>
          <p:nvPr/>
        </p:nvPicPr>
        <p:blipFill>
          <a:blip r:embed="rId1"/>
          <a:stretch/>
        </p:blipFill>
        <p:spPr>
          <a:xfrm>
            <a:off x="7467480" y="4038480"/>
            <a:ext cx="122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нструкция №4.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Меры безопасности при работе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с  едкими веществам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5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 активные вещества – кислоты, щелочи, соли – при неосторожном обращении могут попасть на кожу, в рот, в глаза и вызвать ожоги, от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оказании первой помощи при попадании на кожу необходимо удалить вещество стряхиванием и снятием тампоном. Далее пораженный участок следует промыть под краном, глаза промывают из промывалки. Затем на пораженный участок накладывают тампон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йтрализующим раствором на 5-10 ми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падании веществ внутрь пострадавшему д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ить 4-5 стаканов теплой воды и вызывают рв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цию повторяют 2-3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рвоты делают промывание 1%- ным раств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сусной кислоты (против щелочей) или дают оксид маг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иде взвеси в воде (против кислот). При отравлен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использовать обволакивающие средства – моло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сель, сырой яичный бе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J0287641"/>
          <p:cNvPicPr/>
          <p:nvPr/>
        </p:nvPicPr>
        <p:blipFill>
          <a:blip r:embed="rId1"/>
          <a:stretch/>
        </p:blipFill>
        <p:spPr>
          <a:xfrm>
            <a:off x="7101000" y="3995640"/>
            <a:ext cx="20430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kolba"/>
          <p:cNvPicPr/>
          <p:nvPr/>
        </p:nvPicPr>
        <p:blipFill>
          <a:blip r:embed="rId1"/>
          <a:stretch/>
        </p:blipFill>
        <p:spPr>
          <a:xfrm>
            <a:off x="6629400" y="3105000"/>
            <a:ext cx="2514600" cy="1924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 –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 –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             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 = O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              /  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 –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ьная                гидрокс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                   каль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4640" y="834120"/>
            <a:ext cx="86947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Строение неорганических вещест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3240" y="834120"/>
            <a:ext cx="8618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адания к лабораторной работе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. Исследовать свойства выданных  карбоновых кисл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.Записать уравнения проделанных реакций в молекулярном, полном и сокращенном ионном виде; назвать полученные со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3.Сделать вывод о свойствах карбоновых кисл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4.Сравнить активность муравь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 уксусной кис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567"/>
          <p:cNvPicPr/>
          <p:nvPr/>
        </p:nvPicPr>
        <p:blipFill>
          <a:blip r:embed="rId1"/>
          <a:stretch/>
        </p:blipFill>
        <p:spPr>
          <a:xfrm>
            <a:off x="7394400" y="5249880"/>
            <a:ext cx="17496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Строение альдегид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/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–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\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J0287641"/>
          <p:cNvPicPr/>
          <p:nvPr/>
        </p:nvPicPr>
        <p:blipFill>
          <a:blip r:embed="rId1"/>
          <a:stretch/>
        </p:blipFill>
        <p:spPr>
          <a:xfrm>
            <a:off x="6248520" y="297180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24280" y="834120"/>
            <a:ext cx="8847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                        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Тест </a:t>
            </a:r>
            <a:br>
              <a:rPr sz="3600"/>
            </a:b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   «Свойства карбоновых кислот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(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OOK + 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 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C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2N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Na +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+Al(OH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ED00019_"/>
          <p:cNvPicPr/>
          <p:nvPr/>
        </p:nvPicPr>
        <p:blipFill>
          <a:blip r:embed="rId1"/>
          <a:stretch/>
        </p:blipFill>
        <p:spPr>
          <a:xfrm>
            <a:off x="7620120" y="15228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>
            <a:off x="762120" y="2286000"/>
            <a:ext cx="396216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4724280" y="2286000"/>
            <a:ext cx="441972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567"/>
          <p:cNvPicPr/>
          <p:nvPr/>
        </p:nvPicPr>
        <p:blipFill>
          <a:blip r:embed="rId2"/>
          <a:stretch/>
        </p:blipFill>
        <p:spPr>
          <a:xfrm>
            <a:off x="4038480" y="5249880"/>
            <a:ext cx="17496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Проверь себя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3922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6СН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ООН +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(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COOH + KO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COOK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CH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OH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CO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2361960"/>
            <a:ext cx="457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O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Na 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H +Al(OH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ED00019_"/>
          <p:cNvPicPr/>
          <p:nvPr/>
        </p:nvPicPr>
        <p:blipFill>
          <a:blip r:embed="rId1"/>
          <a:stretch/>
        </p:blipFill>
        <p:spPr>
          <a:xfrm>
            <a:off x="7543800" y="22860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2"/>
          <p:cNvSpPr/>
          <p:nvPr/>
        </p:nvSpPr>
        <p:spPr>
          <a:xfrm>
            <a:off x="990720" y="25909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762120" y="2362320"/>
            <a:ext cx="3809880" cy="4495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4"/>
          <p:cNvSpPr/>
          <p:nvPr/>
        </p:nvSpPr>
        <p:spPr>
          <a:xfrm>
            <a:off x="4572000" y="2362320"/>
            <a:ext cx="4572000" cy="4495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.109 - 112, таблица № 1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йти сведения о различных карбонов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ислот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исать 1-2 реакции, отражающие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«О чем поведала этикетка?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(Е-260, Е-200, Е-210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Домашнее задание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J0199465"/>
          <p:cNvPicPr/>
          <p:nvPr/>
        </p:nvPicPr>
        <p:blipFill>
          <a:blip r:embed="rId1"/>
          <a:stretch/>
        </p:blipFill>
        <p:spPr>
          <a:xfrm>
            <a:off x="6705720" y="304920"/>
            <a:ext cx="1844640" cy="147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опия Рисунок10"/>
          <p:cNvPicPr/>
          <p:nvPr/>
        </p:nvPicPr>
        <p:blipFill>
          <a:blip r:embed="rId2"/>
          <a:stretch/>
        </p:blipFill>
        <p:spPr>
          <a:xfrm>
            <a:off x="6443640" y="4635360"/>
            <a:ext cx="24084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Всем спасибо!</a:t>
            </a:r>
            <a:br>
              <a:rPr sz="4800"/>
            </a:b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           До новых встреч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Рисунок1"/>
          <p:cNvPicPr/>
          <p:nvPr/>
        </p:nvPicPr>
        <p:blipFill>
          <a:blip r:embed="rId1"/>
          <a:stretch/>
        </p:blipFill>
        <p:spPr>
          <a:xfrm>
            <a:off x="1905120" y="2590920"/>
            <a:ext cx="21826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Рисунок1"/>
          <p:cNvPicPr/>
          <p:nvPr/>
        </p:nvPicPr>
        <p:blipFill>
          <a:blip r:embed="rId1"/>
          <a:stretch/>
        </p:blipFill>
        <p:spPr>
          <a:xfrm>
            <a:off x="1676520" y="2971800"/>
            <a:ext cx="2030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Девиз урока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640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      </a:t>
            </a: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006600"/>
                </a:solidFill>
                <a:latin typeface="Monotype Corsiva"/>
              </a:rPr>
              <a:t>Посев научный взойд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006600"/>
                </a:solidFill>
                <a:latin typeface="Monotype Corsiva"/>
              </a:rPr>
              <a:t>для жатвы народной»</a:t>
            </a:r>
            <a:r>
              <a:rPr b="1" lang="ru-RU" sz="4800" spc="-1" strike="noStrike">
                <a:solidFill>
                  <a:srgbClr val="006666"/>
                </a:solidFill>
                <a:latin typeface="Monotype Corsiva"/>
              </a:rPr>
              <a:t>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Monotype Corsiva"/>
              </a:rPr>
              <a:t>                    </a:t>
            </a:r>
            <a:r>
              <a:rPr b="1" lang="ru-RU" sz="4000" spc="-1" strike="noStrike">
                <a:solidFill>
                  <a:srgbClr val="003300"/>
                </a:solidFill>
                <a:latin typeface="Monotype Corsiva"/>
              </a:rPr>
              <a:t>Д.И.Менделе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ramskoy16"/>
          <p:cNvPicPr/>
          <p:nvPr/>
        </p:nvPicPr>
        <p:blipFill>
          <a:blip r:embed="rId1"/>
          <a:stretch/>
        </p:blipFill>
        <p:spPr>
          <a:xfrm>
            <a:off x="5943600" y="3200400"/>
            <a:ext cx="30592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Оцените свой успе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2285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егодня на уроке вы можете получи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оценку «5» и благодарность учителя,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ли все верно выполните и будете актив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бота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оценку «4» и благодарность учителя,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допускаются 1-2 несущественны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шибки + активность (по желанию её  можно не ставить в журнал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оценку «3» и благодарность учителя,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если справились с работой более, чем наполовину</a:t>
            </a:r>
            <a:r>
              <a:rPr b="1" i="1" lang="ru-RU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( по желанию её можно не ставить в журнал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Старайтесь, у вас всё получится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42674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651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914400" y="2362320"/>
            <a:ext cx="8229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ru-RU" sz="5400" spc="-1" strike="noStrike">
                <a:solidFill>
                  <a:srgbClr val="336600"/>
                </a:solidFill>
                <a:latin typeface="Monotype Corsiva"/>
              </a:rPr>
              <a:t>Химические свойства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00"/>
                </a:solidFill>
                <a:latin typeface="Monotype Corsiva"/>
              </a:rPr>
              <a:t>                    </a:t>
            </a:r>
            <a:r>
              <a:rPr b="1" lang="ru-RU" sz="5400" spc="-1" strike="noStrike">
                <a:solidFill>
                  <a:srgbClr val="336600"/>
                </a:solidFill>
                <a:latin typeface="Monotype Corsiva"/>
              </a:rPr>
              <a:t>карбоновых кисло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Тема урока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Изображение 138"/>
          <p:cNvPicPr/>
          <p:nvPr/>
        </p:nvPicPr>
        <p:blipFill>
          <a:blip r:embed="rId1"/>
          <a:stretch/>
        </p:blipFill>
        <p:spPr>
          <a:xfrm>
            <a:off x="228600" y="2386080"/>
            <a:ext cx="2895480" cy="447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567"/>
          <p:cNvPicPr/>
          <p:nvPr/>
        </p:nvPicPr>
        <p:blipFill>
          <a:blip r:embed="rId2"/>
          <a:stretch/>
        </p:blipFill>
        <p:spPr>
          <a:xfrm>
            <a:off x="7010280" y="4876920"/>
            <a:ext cx="17496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imik"/>
          <p:cNvPicPr/>
          <p:nvPr/>
        </p:nvPicPr>
        <p:blipFill>
          <a:blip r:embed="rId1"/>
          <a:stretch/>
        </p:blipFill>
        <p:spPr>
          <a:xfrm>
            <a:off x="7572240" y="4876920"/>
            <a:ext cx="1571760" cy="180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76920" y="834120"/>
            <a:ext cx="8694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Правила техники безопасности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Изображение 127"/>
          <p:cNvPicPr/>
          <p:nvPr/>
        </p:nvPicPr>
        <p:blipFill>
          <a:blip r:embed="rId2"/>
          <a:stretch/>
        </p:blipFill>
        <p:spPr>
          <a:xfrm>
            <a:off x="1447920" y="2743200"/>
            <a:ext cx="2619360" cy="372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Изображение 126"/>
          <p:cNvPicPr/>
          <p:nvPr/>
        </p:nvPicPr>
        <p:blipFill>
          <a:blip r:embed="rId3"/>
          <a:stretch/>
        </p:blipFill>
        <p:spPr>
          <a:xfrm>
            <a:off x="4495680" y="2743200"/>
            <a:ext cx="2743200" cy="3724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1447920" y="2743200"/>
            <a:ext cx="266688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495680" y="2743200"/>
            <a:ext cx="274320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357560" y="2277360"/>
            <a:ext cx="2596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гревание в-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403520" y="2277360"/>
            <a:ext cx="274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бор жид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Правила техники безопасности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Изображение 125"/>
          <p:cNvPicPr/>
          <p:nvPr/>
        </p:nvPicPr>
        <p:blipFill>
          <a:blip r:embed="rId1"/>
          <a:stretch/>
        </p:blipFill>
        <p:spPr>
          <a:xfrm>
            <a:off x="990720" y="3200400"/>
            <a:ext cx="3504960" cy="260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Изображение 128"/>
          <p:cNvPicPr/>
          <p:nvPr/>
        </p:nvPicPr>
        <p:blipFill>
          <a:blip r:embed="rId2"/>
          <a:stretch/>
        </p:blipFill>
        <p:spPr>
          <a:xfrm>
            <a:off x="4876920" y="2971800"/>
            <a:ext cx="3593880" cy="3724200"/>
          </a:xfrm>
          <a:prstGeom prst="rect">
            <a:avLst/>
          </a:prstGeom>
          <a:ln w="0">
            <a:noFill/>
          </a:ln>
        </p:spPr>
      </p:pic>
      <p:sp>
        <p:nvSpPr>
          <p:cNvPr id="122" name="Line 12"/>
          <p:cNvSpPr/>
          <p:nvPr/>
        </p:nvSpPr>
        <p:spPr>
          <a:xfrm>
            <a:off x="990720" y="3200400"/>
            <a:ext cx="3504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990720" y="320040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990720" y="579132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495680" y="320040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296000" y="2359440"/>
            <a:ext cx="2530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бор сыпуч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4876920" y="297180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8458200" y="29718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876920" y="29718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876920" y="670572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4495680" y="2353680"/>
            <a:ext cx="4422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бор твердых вещест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himik"/>
          <p:cNvPicPr/>
          <p:nvPr/>
        </p:nvPicPr>
        <p:blipFill>
          <a:blip r:embed="rId1"/>
          <a:stretch/>
        </p:blipFill>
        <p:spPr>
          <a:xfrm>
            <a:off x="7467480" y="4876920"/>
            <a:ext cx="1571760" cy="180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605880" y="83412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Правила техники безопасности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1" descr="Изображение 119"/>
          <p:cNvPicPr/>
          <p:nvPr/>
        </p:nvPicPr>
        <p:blipFill>
          <a:blip r:embed="rId2"/>
          <a:stretch/>
        </p:blipFill>
        <p:spPr>
          <a:xfrm>
            <a:off x="1447920" y="2819520"/>
            <a:ext cx="2536560" cy="372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Изображение 121"/>
          <p:cNvPicPr/>
          <p:nvPr/>
        </p:nvPicPr>
        <p:blipFill>
          <a:blip r:embed="rId3"/>
          <a:stretch/>
        </p:blipFill>
        <p:spPr>
          <a:xfrm>
            <a:off x="4648320" y="281952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5"/>
          <p:cNvSpPr/>
          <p:nvPr/>
        </p:nvSpPr>
        <p:spPr>
          <a:xfrm>
            <a:off x="4648320" y="2819520"/>
            <a:ext cx="2666880" cy="3733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1447920" y="2819520"/>
            <a:ext cx="2514600" cy="3733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1127880" y="2277360"/>
            <a:ext cx="291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шив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2277360"/>
            <a:ext cx="361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запах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абинете химии запрещается принимать в пищу любые продукты 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 нельзя брать руками и пробовать на вк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ыяснении запаха нельзя подносить сосуд близко к лицу, а нужно ладонью сделать движение от отверстия сосуда к но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 указания учителя нельзя смешивать ве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ыполнении опыта нужно брать небольшие порции вещества. Если в описании работы рекомендуется брать немного вещества, то следует помнить, что твердого вещества требуется примерно четверть чайной ложки, а жидкости – 1-2 м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ую осторожность необходимо соблюдать при работе с кислотами и щелочами. При случайном попадании  кислоты или щелочи на руки или на одежду необходимо немедленно смыть их большим количеством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разбавлении кислот водой нужно помнить следующее правило: кислоту медленно тонкой струйкой при перемешивании льют в воду, а не наобор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бходимо пользоваться только чистой лабораторной посу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тки веществ не высыпать и не выливать обратно в сосуд с чистым веще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работы необходимо навести порядок на рабочем 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2360" y="834120"/>
            <a:ext cx="8542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нструкция №1.</a:t>
            </a:r>
            <a:br>
              <a:rPr sz="32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щие правила ТБ в кабинете хим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Изображение 138"/>
          <p:cNvPicPr/>
          <p:nvPr/>
        </p:nvPicPr>
        <p:blipFill>
          <a:blip r:embed="rId1"/>
          <a:stretch/>
        </p:blipFill>
        <p:spPr>
          <a:xfrm>
            <a:off x="7010280" y="0"/>
            <a:ext cx="1941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LKER</cp:lastModifiedBy>
  <dcterms:modified xsi:type="dcterms:W3CDTF">2009-03-05T16:17:2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