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1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53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09E3-5BE3-4EE6-ABAF-C7487D36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1585-1401-45A9-B045-BEDB5B8A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D962-7FE4-4BE4-86BE-5AD38140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5875-5533-430C-98CB-43415FE7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4549-C296-4646-AC7A-610F17DA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CC87-1646-4132-A255-AAC063B6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B152-C500-4F75-9E2F-22ACC78E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B035-B91B-4F34-B5AF-A074B85A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22CF-5F14-4FCB-BA22-2A90B669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D2B3-C5D4-40EC-86E7-247DCABD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355C-CBB4-41E6-B6A8-1D0C6B79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A287-EEAA-49A5-B978-F990354F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84C1-8D39-4604-97B7-072495E8A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А №5: ОКСОСОЕДИНЕНИЯ:  АЛЬДЕГИДЫ  И  КЕТОН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кция 5.1:  "Оксосоединения (альдегиды и кетоны)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04920" y="1600200"/>
          <a:ext cx="8534160" cy="34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53416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85800" y="1447920"/>
          <a:ext cx="8001000" cy="363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0100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609480" y="685800"/>
          <a:ext cx="8077320" cy="304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68580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80880" y="1752480"/>
          <a:ext cx="845820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84582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04920" y="1143000"/>
          <a:ext cx="815328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1532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04920" y="1828800"/>
          <a:ext cx="8381880" cy="266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83818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04920" y="907920"/>
          <a:ext cx="8458200" cy="42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07920"/>
                    <a:ext cx="8458200" cy="42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МИЧЕСКИЕ  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9152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С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=О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    R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=O      R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 =O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I)                (II)                     (II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24000" y="692280"/>
          <a:ext cx="8424720" cy="237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92280"/>
                    <a:ext cx="842472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84360" y="1628640"/>
          <a:ext cx="792468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28640"/>
                    <a:ext cx="7924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95280" y="2060640"/>
          <a:ext cx="83059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060640"/>
                    <a:ext cx="83059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276720" y="731160"/>
            <a:ext cx="293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еакции 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304920" y="685800"/>
          <a:ext cx="8534160" cy="41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85341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льдегиды и кетон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ьдегиды и кетоны представляют собой производные углеводородов, в молекулах которых име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рбонильная групп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называемая также карбонилом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gt;С=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Альдегидами называют соединения с карбонильной группой, в которых атом углерода этой группы связан, по крайней мере, с одним атомом водорода. Кетонами называют  карбонилсоединения, в которых углерод карбонильной группы связан с двумя углеводородными радикал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99960" y="838080"/>
          <a:ext cx="8115480" cy="42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838080"/>
                    <a:ext cx="8115480" cy="42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533520" y="533520"/>
          <a:ext cx="8229600" cy="51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838080" y="228600"/>
          <a:ext cx="7620120" cy="106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"/>
                    <a:ext cx="76201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99960" y="1409760"/>
          <a:ext cx="8439120" cy="5200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960" y="1409760"/>
                    <a:ext cx="843912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80880" y="990720"/>
          <a:ext cx="8229600" cy="554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8229600" cy="55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28600" y="914400"/>
          <a:ext cx="8553600" cy="493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55360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838080" y="1143000"/>
          <a:ext cx="7620120" cy="281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76201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09480" y="1371600"/>
          <a:ext cx="8001000" cy="289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80010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99960" y="628560"/>
          <a:ext cx="8229600" cy="46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628560"/>
                    <a:ext cx="822960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609480" y="914400"/>
          <a:ext cx="7772400" cy="386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14400"/>
                    <a:ext cx="777240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85800" y="762120"/>
          <a:ext cx="7677000" cy="447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62120"/>
                    <a:ext cx="767700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-48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ение альдегидов и кетонов можно представить следующим общими формул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R—C—H  альдегид,                     R—C—R'    кетон .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I                                                    II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                                                  O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ное для альдегидов сочетание карбонильной группы с водородом      —С—Н,  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ощенно     —СН=О,    называют   альдегид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ппой, а карбонильную группу кетонов –   С=О                  кетогруппой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32720" y="3470400"/>
            <a:ext cx="28728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59640" y="357336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77080" y="436572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6876720" y="458136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47680" y="628560"/>
          <a:ext cx="8001000" cy="758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628560"/>
                    <a:ext cx="8001000" cy="758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4358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ем в результате соединения трех молекул альдимина (с разрывом в них двойных связей) получается альдегидаммиаки, имеющие циклическое строение: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H                                                 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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—CH         CH—R                R—HC        CH—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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H        NH                              HN        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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                                                  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                                                    R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ьдегидамми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ьдегидаммиаки разлагаются при действии разбавленных минеральных кислот, вновь выделяя исходные альдеги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етоны с аммиаком претерпевают другие превра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227640" y="220500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59640" y="2205000"/>
            <a:ext cx="288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2360" y="3429000"/>
            <a:ext cx="215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804000" y="342900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1066680"/>
          <a:ext cx="8001000" cy="373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0010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609480" y="1066680"/>
          <a:ext cx="7772400" cy="289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77724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914400" y="2266920"/>
          <a:ext cx="7048440" cy="243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66920"/>
                    <a:ext cx="704844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57200" y="971640"/>
          <a:ext cx="8305920" cy="323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971640"/>
                    <a:ext cx="830592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914400" y="990720"/>
          <a:ext cx="7467480" cy="373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90720"/>
                    <a:ext cx="746748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57200" y="914400"/>
          <a:ext cx="8229600" cy="521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822960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85800" y="1371600"/>
          <a:ext cx="779148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914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838080" y="685800"/>
          <a:ext cx="7696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85800"/>
                    <a:ext cx="76964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609480" y="609480"/>
          <a:ext cx="784872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09480"/>
                    <a:ext cx="78487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48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международной номенклатуре карбонильная группа называется также  оксогруппой, а альдегиды и кетоны – соответственно оксосоединениями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ая формула 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ьдегиды и кетоны отличаются по целому ряду свойств, однако, благодаря наличию в тех и в других карбонильной группы, в их свойствах есть много общего. Мы опишем эти соединения в одной главе, рассматривая их сходство и различ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609480" y="1981080"/>
          <a:ext cx="7925040" cy="259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79250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80880" y="1219320"/>
          <a:ext cx="855360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55360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762120" y="1447920"/>
          <a:ext cx="7696080" cy="358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76960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533520" y="762120"/>
          <a:ext cx="8076960" cy="434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62120"/>
                    <a:ext cx="80769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838080" y="1447920"/>
          <a:ext cx="7620120" cy="190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76201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609480" y="380880"/>
          <a:ext cx="7925040" cy="175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792504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533520" y="2209680"/>
          <a:ext cx="8076960" cy="3657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09680"/>
                    <a:ext cx="80769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457200" y="1447920"/>
          <a:ext cx="8229600" cy="167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304920" y="609480"/>
          <a:ext cx="8286480" cy="31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8286480" cy="31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380880" y="685800"/>
          <a:ext cx="8439120" cy="582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8439120" cy="58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304920" y="380880"/>
          <a:ext cx="843912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0880"/>
                    <a:ext cx="84391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оменклатура и изомерия альдегид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13616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иболее употребительны русские и международные тривиальные названия альдегидов, происходящие от соответствующих тривиальных названий кислот, в которые альдегиды переходят при окислении. Простейший альдегид содержит один атом углерода, он называется муравьиным альдегидом или формальдегидом. Его состав и строение выражаются формулам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—С—Н   или      Н—СН=О   или        СН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О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    муравьиный альдеги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формальдеги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685800" y="609480"/>
          <a:ext cx="792468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79246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7200" y="1219320"/>
          <a:ext cx="7677000" cy="436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767700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609480" y="1523880"/>
          <a:ext cx="800100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80010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609480" y="1143000"/>
          <a:ext cx="7772400" cy="325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43000"/>
                    <a:ext cx="777240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990720" y="1219320"/>
          <a:ext cx="7315200" cy="385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19320"/>
                    <a:ext cx="7315200" cy="38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914400" y="990720"/>
          <a:ext cx="7391520" cy="289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90720"/>
                    <a:ext cx="73915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609480" y="533520"/>
          <a:ext cx="784872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33520"/>
                    <a:ext cx="7848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ьдегид, содержащий в молекуле два углеродных атома, называется уксусным альдегидом или ацетальдегидом; следующий гомолог содержит три углеродных атома и называется пропионовым альдегидом или пропиональдегидо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С—Н                        С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С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С—Н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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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  уксусный альдегид               О (ацетальдегид, этаналь)          пропионовый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ьдегид (пропаналь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ьдегиды с четырьмя углеродными атомами, состав которых можно представить формулой 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СН=О, называются масляными альдегидами, они существуют в виде двух изомеров, различающихся строением углеродного скелета: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С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С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С—Н    С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СН—С—Н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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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                     С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ляный альдегид    изомасляный альдегид (бутиральдегид, бутаналь)(изобутиральдегид, изобутаналь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62120" y="2666880"/>
          <a:ext cx="761976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66880"/>
                    <a:ext cx="761976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1447920"/>
          <a:ext cx="8686800" cy="434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6868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04920" y="5029200"/>
          <a:ext cx="8420040" cy="186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5029200"/>
                    <a:ext cx="84200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06:36:15Z</dcterms:created>
  <dc:creator>Comp</dc:creator>
  <dc:description/>
  <dc:language>en-US</dc:language>
  <cp:lastModifiedBy>Mihaluk</cp:lastModifiedBy>
  <dcterms:modified xsi:type="dcterms:W3CDTF">2005-04-13T08:10:42Z</dcterms:modified>
  <cp:revision>5</cp:revision>
  <dc:subject/>
  <dc:title>ТЕМА №5: ОКСОСОЕДИНЕНИЯ:  АЛЬДЕГИДЫ  И  КЕТОНЫ </dc:title>
</cp:coreProperties>
</file>