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7C2-2489-45E7-ACE3-DFA00CB0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FE6-B9DB-4236-9044-766023D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C6D-73D2-483D-86D8-37C74408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A65-378C-4821-8750-8283334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B92-B2FA-4E10-8970-4B04DDF2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957-02BA-4582-A5FB-9B45112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21BE-220F-401C-B7D3-4B345077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5BD5-592F-41EB-B76A-95BCDD3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3D1-2C72-4055-B72A-B594BF5D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ED94-D9AE-4C9D-B079-A7AAA805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05B0-587C-43A3-95FD-22DA9E01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713-75DE-4352-BBDB-8B329F6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11BE-79EF-430A-9CD3-8B503A7A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AB9B-13AA-4D9F-B266-C97EC9B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56D-EB6F-4B21-A64C-D9DA9031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1AD5-AD51-4100-B742-5D6F74BC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F4A-07EA-4B94-9EBA-94C1DD7B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0F47-DA85-4F24-A14E-798D721F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15F9-3F53-452A-A900-00E537C2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DF94-470D-4E20-8284-3C61CF9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3707-7376-4C3F-A75F-36AF139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24A9-74F6-4F95-8A03-DBFD51E4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54D-CD2C-47D1-A54D-533264D6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2FA2-8151-4BF8-9D5F-51D34DB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597B-927A-4772-B5AD-F66E81E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C8761-536E-4D64-9CEB-72F552EA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DCD4-07A3-4CEE-84C1-A2D8754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13B15-FFC0-40BE-A2E4-C7CA17A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3CBC-3F52-468D-BA7C-5025B84C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30CA-081B-4BA2-BC0D-1F65E1F8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6650-89D7-41FC-BEDD-7F8C2AD0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596B-EAF6-4210-B7B9-8DCFB31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4313-F849-47EA-B2B6-3635A36E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EA7-054C-4947-BB4C-3D304590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BB44-789A-4D31-BF87-C487AE0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6059-CC79-4835-BCBB-434A47A0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94CB-3F46-4672-81B6-0AE2E15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F449-2613-4AC1-9AC3-47AAAF9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5F4C-AD58-453E-AD8E-C739B55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AE23-41F8-474B-9199-A412497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7741-78BF-41A2-BC73-F202A97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3FD5-B675-435E-B73A-E75A454D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4A2A-B9CA-413C-A154-F53F4FB8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19CC-8828-4019-BE93-4B772A61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38C-AE82-42E6-8A9B-034CDCD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4887-B475-4156-86CE-4B3D455B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EFD6-85BE-4792-A334-C4EDC586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3D2DF-483C-4CAC-BE52-793FF61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894D-BFD1-463C-9192-37302FE4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A19D-3CD8-408B-B498-8372629D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2454-6162-4279-9F64-A66A19B0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357A-F454-4206-8505-A70283E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81267-EA03-41CF-952E-F6903CA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302D-30A2-44ED-BA0C-29D103F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4B8E-C8EB-4AE5-87A0-BD940F14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9F3-8369-449B-9B05-AE4CB4EA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23E3-5B35-492E-8232-FD2A5E60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5A06-D300-4A1E-BE9B-1322FE05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BE209-6643-4A76-B382-9DBE5474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64A9-0678-47D3-9328-10DCF03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7961-D13B-4E09-BA95-684429D2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66F5-EA4B-42D5-BFD2-2845CCD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69FB-F2B2-4BBE-BBB2-31EEA6E8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7831F-DD6F-4F75-A6A9-1FE18FD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251F5-F270-42B0-8E28-9383B07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AACE-2398-4C4C-A5F6-E14A43A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575-CFAF-48D3-A883-4FF32B4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ECA6A-B7F6-450D-BE10-CB88E32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BCFC-CEFB-4689-B834-0625994D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289D-A3CC-462D-9055-C8B88FDF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76CDF-E9E1-44EC-93D5-54BE210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48BD-2E3F-4963-B83C-4F80681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BF6B-4729-4CC2-B6BD-2CDB45C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4E96-97C7-4276-A992-DB88EDA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4EF82-E4C7-4043-9B16-738271BA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BF3A-A04B-42AD-8DD8-FF5B7A0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1991-2B8A-4B29-B4BE-82696970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394-8A66-4027-B960-A0024C2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0450B-B0DC-472D-A4ED-12A81E61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012A-4CBA-41F6-BDE5-1EEDE2D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DB85-4708-48A0-B3CD-BE98CD7A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8F35-592B-4412-A536-AC1DB129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EB5B-708B-46D4-A416-3E2B156F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0B25-89D1-4B36-A085-3E14E197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FB7D-2F8D-4A57-88FF-47AB655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F223-16D8-4222-BAEE-DFDFFB1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A0B1-9053-4582-9088-8F5513FB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C8B8F-EE15-44E2-AE17-405EF19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901-5F0D-47BC-BCC5-37FFFF0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515E8-D17D-4E26-AA44-DB436C2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58EFB-C5A8-4135-8B51-7EC14A0B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1E57E-E35D-40DA-838F-104327C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B39A-2840-45A1-90DA-853B8A1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A27DD-03F6-4B12-A2F0-62CFC700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74A69-1BFF-499B-AF18-5E79185F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B70B-2B7E-4B39-A905-F0A42370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661-E4F6-4E00-94DE-2004EA591A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71E0-61D8-479E-B188-C29F901D78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205-06C6-4DE4-9092-20E4DB815A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6149-122C-4186-9591-376E926A58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428C-9B21-4050-BAC9-0CD9AF4C1E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6A3-7E24-4EA5-A5C7-93F15FA6B5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6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CB65-7814-49FB-8A68-F559BFDD85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7A6-377F-4834-B1C5-53BE9AFB1D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екула представляет собой конфигурацию атомов, совершающих малые колебания около определенных положении равновесия, соответствующих минимуму потенциальной энергии их взаимодействия. Последняя имеет при этом в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98720" y="3692520"/>
                <a:ext cx="31672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, 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ОЛ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73600" y="586080"/>
            <a:ext cx="8546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я свободной энерг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тся сумма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132000" y="1773360"/>
                <a:ext cx="2955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 l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-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4006800" y="2851560"/>
            <a:ext cx="746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.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700360" y="3500280"/>
                <a:ext cx="3674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ℏ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121840" y="4217400"/>
            <a:ext cx="113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7928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нормальных колебаний дает в своем классическом предельном случае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&gt;&gt;ħ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вклад в теплоемкость, равны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кол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 1 пр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ем наибольшего из ħ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, получилось бы  скол 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 . Фактически, однако, этот предел не достигается, так как много­атомные молекулы обычно распадаются при значительно более низких температу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ая энерги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лекулы есть сумма потенциальной и кинетической энергий. Последняя является квадратичной функцией от всех импульсов, число которых равно полному числу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­пеней свободы молекулы. Поэтому энерги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меет в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90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квадратичная функция импульсов и координ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554200" y="3429000"/>
                <a:ext cx="396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интегрирование производится по фазовому пространству молек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0440" y="260280"/>
            <a:ext cx="67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тавляя это выражение для энергии в форму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484360" y="907920"/>
                <a:ext cx="5249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dτ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720" y="3486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5280" y="357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547640" y="4221000"/>
                <a:ext cx="5904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-2160" y="90576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 также, что интегрирование по координ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 инерции молекулы 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емый газом объе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м в результат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й энергии выражение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11280" y="3429000"/>
                <a:ext cx="4608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940360" y="4004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постоянна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4360" y="47520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я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572000" y="404640"/>
                <a:ext cx="4321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T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324000" y="1223280"/>
            <a:ext cx="8064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энергии, найдем, что фун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связана с теплоемкостью 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средств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’’(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тегрируя это соотношение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340000" y="2421000"/>
                <a:ext cx="4103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ς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2771640" y="3040560"/>
            <a:ext cx="61614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янные. Подставляя  это выражение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556000" y="3429000"/>
                <a:ext cx="4176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83520" y="4349520"/>
            <a:ext cx="878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для свободной энергии следующее окончательное выра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042920" y="5013360"/>
                <a:ext cx="7020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ζ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140400" y="488700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7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283840" y="25956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ывая   логарифм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924360" y="4581360"/>
                <a:ext cx="1152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190600" y="2108160"/>
            <a:ext cx="49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 получим в точности выражение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52760" y="3979800"/>
            <a:ext cx="46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стоянной теплоемкостью, ра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916360" y="907920"/>
                <a:ext cx="3240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720" y="350136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050920" y="2924280"/>
                <a:ext cx="525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ζ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720" y="3486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46160" y="5918760"/>
            <a:ext cx="721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чисто классический идеальный газ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ть постоянной теплоемк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Вращательная теплоемкость многоатомных газов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9640" y="429012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большой величине мо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ерции многоатомных молек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соответственно малости их вращательных ква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вращение можно всегда рассматривать классиче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55640" y="684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для вращательной теплоемкости име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492360" y="1773360"/>
                <a:ext cx="21272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4368600" y="3572640"/>
            <a:ext cx="320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химическая постоя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788000" y="4653000"/>
                <a:ext cx="2663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π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1783440" y="4150440"/>
            <a:ext cx="204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5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125800" y="333720"/>
            <a:ext cx="4833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леба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32000" y="220392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ебательная часть термодинамических величин газа становится существенной при значительно более высоких температурах, чем вращательная, потому что интервалы колебательной структуры термов велики по сравнению с интервалами вращательной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3:34:27Z</dcterms:created>
  <dc:creator>Чеклина Ада Ивановна</dc:creator>
  <dc:description/>
  <dc:language>en-US</dc:language>
  <cp:lastModifiedBy>Чеклина Ада Ивановна</cp:lastModifiedBy>
  <dcterms:modified xsi:type="dcterms:W3CDTF">2004-05-06T15:43:40Z</dcterms:modified>
  <cp:revision>8</cp:revision>
  <dc:subject/>
  <dc:title>Молекула представляет собой конфигурацию атомов, совершающих малые колебания около определенных положении равно­весия, соответствующих минимуму потенциальной энергии их взаимодействия. Последняя имеет при этом вид </dc:title>
</cp:coreProperties>
</file>