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22B-2D02-4DB3-8A19-CA35EE5B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921-8B1B-4F62-81E8-C4D1EEF9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994-D5B9-4C02-832C-303CC9AA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CF3-FEB9-4708-AB4B-319D889E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F2F43-3EB3-49E1-8A15-4450A570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88243-158F-41B2-AE56-B41978F4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FDFBC-2D3C-410E-BD50-62A3931D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92202-C8E6-41CB-BBEC-6A58B680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B9E2D-9C54-41A1-8183-95CC25CC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B5264-FAAB-4C19-9E03-D25EBDBC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E0513-E436-4F0D-913A-4E130AD2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DA5B-BD66-43FE-BCFF-7C9A14DD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54831-DFD0-465D-9A4F-2600F76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E70AC-57D8-48E8-BFF6-E0D97AEF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45EE-6B1D-4824-9D7F-79FB526A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DE5CF-757D-4E76-9F3B-3CE27BF6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03C62-89EE-4821-AC39-7E57265D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CE9D-F294-4601-AC0A-B30244C8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A05A-6935-4E37-BB9B-899C02C9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964-06C4-4075-945B-3457726D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454-0CEE-48E0-B2F8-F4353750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317-D835-4631-8756-6F7879B6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F71-C5D5-4BFD-816A-D43F3276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D6D-5484-40E0-92A3-824ED3C9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068D-12E1-49A5-98A8-555DD1D52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8A43-600E-43E4-9532-9CC4B828F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43208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cc"/>
                </a:solidFill>
                <a:uFillTx/>
                <a:latin typeface="Tahoma"/>
              </a:rPr>
              <a:t>Презентация на тему: Виды обмоток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696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cccc"/>
                </a:solidFill>
                <a:uFillTx/>
                <a:latin typeface="Tahoma"/>
              </a:rPr>
              <a:t>Содерж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2" action="ppaction://hlinksldjump"/>
              </a:rPr>
              <a:t>1.Основные свед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3" action="ppaction://hlinksldjump"/>
              </a:rPr>
              <a:t>2. Секции. Укладка секций в пазы. Элементарный и реальный па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4" action="ppaction://hlinksldjump"/>
              </a:rPr>
              <a:t>3. Простая петлевая обмот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5" action="ppaction://hlinksldjump"/>
              </a:rPr>
              <a:t>4. Сложная петлевая обмот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6" action="ppaction://hlinksldjump"/>
              </a:rPr>
              <a:t>5. Простая волновая обмот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7" action="ppaction://hlinksldjump"/>
              </a:rPr>
              <a:t>6. Сложная волновая обмот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8" action="ppaction://hlinksldjump"/>
              </a:rPr>
              <a:t>7. Комбинированная обмот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  <a:hlinkClick r:id="rId9" action="ppaction://hlinksldjump"/>
              </a:rPr>
              <a:t>8. Симметрия обмот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0" action="ppaction://hlinksldjump"/>
              </a:rPr>
              <a:t>9. Уравнительные соединения первого и второго р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526752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99"/>
                </a:solidFill>
                <a:latin typeface="Tahoma"/>
              </a:rPr>
              <a:t>6. Сложная волновая обмотк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Сложную волновую обмотку можно рассматривать как сочетание </a:t>
            </a:r>
            <a:r>
              <a:rPr b="1" i="1" lang="ru-RU" sz="1600" spc="-1" strike="noStrike">
                <a:solidFill>
                  <a:srgbClr val="009900"/>
                </a:solidFill>
                <a:latin typeface="Tahoma"/>
              </a:rPr>
              <a:t>m </a:t>
            </a: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простых волновых обмоток, которые включаются на параллельную работу с помощью щеток. Число параллельных ветвей такой обмотки соответственно в </a:t>
            </a:r>
            <a:r>
              <a:rPr b="1" i="1" lang="ru-RU" sz="1600" spc="-1" strike="noStrike">
                <a:solidFill>
                  <a:srgbClr val="009900"/>
                </a:solidFill>
                <a:latin typeface="Tahoma"/>
              </a:rPr>
              <a:t>m </a:t>
            </a: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раз больше числа ветвей простой волновой обмот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Рассматриваемую обмотку называют также сложной последовательной обмотк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Tahoma"/>
              </a:rPr>
              <a:t>Схема двухходовой двукратнозамкнутой волновой обмот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42920" y="3389400"/>
            <a:ext cx="6193080" cy="3279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44000" y="6165720"/>
            <a:ext cx="647640" cy="503280"/>
          </a:xfrm>
          <a:custGeom>
            <a:avLst/>
            <a:gdLst>
              <a:gd name="textAreaLeft" fmla="*/ 0 w 647640"/>
              <a:gd name="textAreaRight" fmla="*/ 648000 w 64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6250"/>
                            </p:stCondLst>
                            <p:childTnLst>
                              <p:par>
                                <p:cTn id="3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250"/>
                            </p:stCondLst>
                            <p:childTnLst>
                              <p:par>
                                <p:cTn id="3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25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250"/>
                            </p:stCondLst>
                            <p:childTnLst>
                              <p:par>
                                <p:cTn id="37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10920" y="259920"/>
            <a:ext cx="45370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7. Комбинированная обмот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Комбинированная, или лягушечья, обмотка впервые была предложена Латуром в 1910 г. и представляет собой сочетание петлевой и волновой обмоток, которые расположены в общих пазах, присоединяются к общему коллектору и работают параллельно.                 Так как каждая из обмоток двухслойная, то в пазу располагаются четыре слоя обмотки. Каждая из обмоток рассчитывается на половину общего тока, и их э. д. с. должны быть равны. Таким образом, каждая обмотка рассчитывается на половину мощности маши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Форма катушки комбинированной обмотки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24360" y="2997360"/>
            <a:ext cx="1752840" cy="149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213000"/>
            <a:ext cx="51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Два варианта выполнения комбинированной обмотки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476360" y="3573360"/>
            <a:ext cx="2735280" cy="312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172360" y="6093000"/>
            <a:ext cx="647640" cy="50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38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38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4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6" dur="38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26920" y="333000"/>
            <a:ext cx="3816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Tahoma"/>
              </a:rPr>
              <a:t>8. Симметрия обмот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ff"/>
                </a:solidFill>
                <a:latin typeface="Tahoma"/>
              </a:rPr>
              <a:t>Условия симметрии вытекают из равенства ЭДС параллельных ветвей при любом положении якоря, если геометрическое выполнение машины абсолютно точно и распределение магнитного потока по полюсам идеально симметрично. В этом случае реально возникающие уравнительные токи между параллельными ветвями обмотки минимальны и не перегружаются уравнительные соединения Кроме того, в симметричной обмотке идентичны условия коммутации каждого паза, что необходимо для осуществления безыскровой коммутации. Конечно, при небольших отступлениях от строгой симметрии коммутация машины тоже может быть удовлетворительной (например, у петлевых однократнозамкнутых обмоток), но это исключение из правил и гарантировать хорошую коммутацию машины с несимметричной обмоткой нельзя, пока она не будет построена и испытана. Можно считать, что даже небольшое отступление от симметрии требует снижения коммутационной напряженности — уменьшения реактивной ЭДС и принятия других ме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ff"/>
                </a:solidFill>
                <a:latin typeface="Tahoma"/>
              </a:rPr>
              <a:t>Эталоном симметрии можно выбрать двухполюсную машину с простой петлевой обмоткой (волновой обмотки при двух полюсах выполнить нельзя). Эта обмотка симметрична, если проводники обмотки равномерно распределены по поверхности якоря. Следовательно, условие симметрии сводится к равномерному распределению пазов на якоре и к тому, чтобы в каждом пазу лежало равное число проводников </a:t>
            </a:r>
            <a:r>
              <a:rPr b="1" i="1" lang="en-US" sz="1600" spc="-1" strike="noStrike">
                <a:solidFill>
                  <a:srgbClr val="cc99ff"/>
                </a:solidFill>
                <a:latin typeface="Tahoma"/>
              </a:rPr>
              <a:t>N/Z — 2u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8244000" y="6165720"/>
            <a:ext cx="647640" cy="503280"/>
          </a:xfrm>
          <a:custGeom>
            <a:avLst/>
            <a:gdLst>
              <a:gd name="textAreaLeft" fmla="*/ 0 w 647640"/>
              <a:gd name="textAreaRight" fmla="*/ 648000 w 64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6341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Tahoma"/>
              </a:rPr>
              <a:t>9. Уравнительные соединения первого и второго р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Расстояние между двумя соседними равнопотенциальными  точками называют </a:t>
            </a:r>
            <a:r>
              <a:rPr b="1" i="1" lang="ru-RU" sz="1600" spc="-1" strike="noStrike">
                <a:solidFill>
                  <a:srgbClr val="99cc00"/>
                </a:solidFill>
                <a:latin typeface="Tahoma"/>
              </a:rPr>
              <a:t>потенциальными уравнительным шагом</a:t>
            </a: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, измеряемым числом коллекторных делений или числом секций, соответствующих одной паре ветвей: Уп = </a:t>
            </a:r>
            <a:r>
              <a:rPr b="1" lang="en-US" sz="1600" spc="-1" strike="noStrike">
                <a:solidFill>
                  <a:srgbClr val="99cc00"/>
                </a:solidFill>
                <a:latin typeface="Tahoma"/>
              </a:rPr>
              <a:t>K</a:t>
            </a: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/</a:t>
            </a:r>
            <a:r>
              <a:rPr b="1" lang="en-US" sz="1600" spc="-1" strike="noStrike">
                <a:solidFill>
                  <a:srgbClr val="99cc00"/>
                </a:solidFill>
                <a:latin typeface="Tahoma"/>
              </a:rPr>
              <a:t>a</a:t>
            </a: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 = </a:t>
            </a:r>
            <a:r>
              <a:rPr b="1" lang="en-US" sz="1600" spc="-1" strike="noStrike">
                <a:solidFill>
                  <a:srgbClr val="99cc00"/>
                </a:solidFill>
                <a:latin typeface="Tahoma"/>
              </a:rPr>
              <a:t>S</a:t>
            </a: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/</a:t>
            </a:r>
            <a:r>
              <a:rPr b="1" lang="en-US" sz="1600" spc="-1" strike="noStrike">
                <a:solidFill>
                  <a:srgbClr val="99cc00"/>
                </a:solidFill>
                <a:latin typeface="Tahoma"/>
              </a:rPr>
              <a:t>a</a:t>
            </a: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 = </a:t>
            </a:r>
            <a:r>
              <a:rPr b="1" lang="en-US" sz="1600" spc="-1" strike="noStrike">
                <a:solidFill>
                  <a:srgbClr val="99cc00"/>
                </a:solidFill>
                <a:latin typeface="Tahoma"/>
              </a:rPr>
              <a:t>K</a:t>
            </a: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/</a:t>
            </a:r>
            <a:r>
              <a:rPr b="1" lang="en-US" sz="1600" spc="-1" strike="noStrike">
                <a:solidFill>
                  <a:srgbClr val="99cc00"/>
                </a:solidFill>
                <a:latin typeface="Tahoma"/>
              </a:rPr>
              <a:t>p</a:t>
            </a: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Полное число уравнительных соединений первого рода  </a:t>
            </a:r>
            <a:r>
              <a:rPr b="1" lang="en-US" sz="1600" spc="-1" strike="noStrike">
                <a:solidFill>
                  <a:srgbClr val="99cc00"/>
                </a:solidFill>
                <a:latin typeface="Tahoma"/>
              </a:rPr>
              <a:t>N</a:t>
            </a: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ур = К/</a:t>
            </a:r>
            <a:r>
              <a:rPr b="1" lang="en-US" sz="1600" spc="-1" strike="noStrike">
                <a:solidFill>
                  <a:srgbClr val="99cc00"/>
                </a:solidFill>
                <a:latin typeface="Tahoma"/>
              </a:rPr>
              <a:t>a</a:t>
            </a: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В целях экономии меди и упрощения машины обычно применяют неполное число уравнителей из медного провода с сечением, равным ½, ¼ сечения проводника обмотки яко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Тяговые электродвигатели постоянного тока электровозов и тепловозов выполняют с простой петлевой обмоткой. Со стороны коллектора под передними лобовыми частями обмотки якоря располагают уравнители первого р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Если простые волновые обмотки не требуют ни каких уравнительных соединений, то сложные волновые обмотки хорошо работают при выполнении их с уравнительными соединени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8172360" y="6165720"/>
            <a:ext cx="576360" cy="432000"/>
          </a:xfrm>
          <a:prstGeom prst="rightArrow">
            <a:avLst>
              <a:gd name="adj1" fmla="val 50000"/>
              <a:gd name="adj2" fmla="val 3335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3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500"/>
                            </p:stCondLst>
                            <p:childTnLst>
                              <p:par>
                                <p:cTn id="4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500"/>
                            </p:stCondLst>
                            <p:childTnLst>
                              <p:par>
                                <p:cTn id="4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6358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Tahoma"/>
              </a:rPr>
              <a:t>Примеры уравнительных соеди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332000" y="981000"/>
            <a:ext cx="5761080" cy="2616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332000" y="3635280"/>
            <a:ext cx="5761080" cy="3052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7080" y="6308640"/>
            <a:ext cx="502920" cy="360360"/>
          </a:xfrm>
          <a:prstGeom prst="rightArrow">
            <a:avLst>
              <a:gd name="adj1" fmla="val 50000"/>
              <a:gd name="adj2" fmla="val 3489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0"/>
                            </p:stCondLst>
                            <p:childTnLst>
                              <p:par>
                                <p:cTn id="5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В сложноволновой обмотке соединения коллекторных пластин принадлежа разным простым волновым обмоткам, если переходные сопротивления между щетками и коллекторными пластинами, принадлежащим разным обмоткам, не равны, то и токи в отдельных волновых обмотках также не равны. Неравномерное распределение тока повлечет за собой падение напряжения в обмотках, вследствие чего напряжение между соседними коллекторами пластинами может сильно увеличиться. Для устранения этого недостатка соединяют уравнительными проводами такие точки простых волновых обмоток, которые теоретически должны иметь одинаковые потенциал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Уравнительные соединения, выравнивающие не симметрию распределения напряжения по коллектору, называют уравнителями второго ра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Таким образом уравнители первого рода выравнивают не симметрию магнитной системы машины, а уравнители второго рода – не симметрию распределения напряжения по коллектору. Уравнительные соединения применяют не только в сложновлоновых, но и в сложнопетлевых обмотка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cc00"/>
                </a:solidFill>
                <a:latin typeface="Tahoma"/>
              </a:rPr>
              <a:t>В комбинированных обмотках волновая обмотка выполняет функции уравнительных соединений первого рода для петлевой обмотки, а петлевая обмотка выполняет функции уравнительных соединений второго рода для волновой обмотк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6165720"/>
            <a:ext cx="647640" cy="503280"/>
          </a:xfrm>
          <a:custGeom>
            <a:avLst/>
            <a:gdLst>
              <a:gd name="textAreaLeft" fmla="*/ 0 w 647640"/>
              <a:gd name="textAreaRight" fmla="*/ 648000 w 64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000"/>
                            </p:stCondLst>
                            <p:childTnLst>
                              <p:par>
                                <p:cTn id="5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56991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Tahoma"/>
              </a:rPr>
              <a:t>1.Основные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 све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7280" y="907560"/>
            <a:ext cx="67694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Обмотка – это замкнутая система проводников, определенным образом уложенных в пазы якоря и присоединенных к коллектор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Обмотка якоря является важнейшим элементом машины и должна удовлетворять следующим требованиям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1) обмотка должна быть рассчитана на заданные величины напряжения и тока нагрузки, соответствующие номинальной мощ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2) обмотка должна иметь необходимую электрическую, механическую и термическую прочность, обеспечивающую достаточно продолжительный срок службы машины (до 15—20 лет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3) конструкция обмотки должна обеспечить удовлетворительные условия токосъема с коллектора, без вредного искрения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4) расход материала при заданных эксплуатационных показателях (к. п. д. и др.) должен быть минимальным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5) технология изготовления обмотки должна быть по возможности прост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В современных машинах постоянного тока якорная обмотка укладывается в пазах на внешней поверхности якоря. Такие обмотки называются барабанными. Обмотки якорей подразделяются на петлевые и волновые. Существуют также обмотки, которые представляют собой сочетание этих двух обмоток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7812000" y="6021360"/>
            <a:ext cx="647640" cy="503280"/>
          </a:xfrm>
          <a:custGeom>
            <a:avLst/>
            <a:gdLst>
              <a:gd name="textAreaLeft" fmla="*/ 0 w 647640"/>
              <a:gd name="textAreaRight" fmla="*/ 648000 w 64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569916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Tahoma"/>
              </a:rPr>
              <a:t>2. Секции. Укладка секций в пазы. Элементарный и реальный паз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460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99"/>
                </a:solidFill>
                <a:latin typeface="Tahoma"/>
              </a:rPr>
              <a:t>Секция-  это часть обмотки, состоящая из одного или нескольких видов присоединенных только к двум коллекторным пластина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99"/>
                </a:solidFill>
                <a:latin typeface="Tahoma"/>
              </a:rPr>
              <a:t>Для удобного расположения выходящих из пазов лобовых частей обмотки якоря выполняются двухслойными. При этом в каждом пазу секции располагаются в два слоя одна сторона каждой секции — в верхнем слое одного паза, а другая — в нижнем слое другого паз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14842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32360" y="191628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92720" y="1197000"/>
            <a:ext cx="2951280" cy="2303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4292640"/>
            <a:ext cx="388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99"/>
                </a:solidFill>
                <a:latin typeface="Tahoma"/>
              </a:rPr>
              <a:t>1 — сторона секции верхнего слоя; 2 — сторона секции нижнего сло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99"/>
                </a:solidFill>
                <a:latin typeface="Tahoma"/>
              </a:rPr>
              <a:t>3 – Реальный паз; 4 - Элементарный п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3716280"/>
            <a:ext cx="4392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Верхняя  пазовая сторона одной секции и нижняя пазовая сторона другой секции, лежащие в одном пазу, образуют </a:t>
            </a:r>
            <a:r>
              <a:rPr b="1" i="1" lang="ru-RU" sz="1400" spc="-1" strike="noStrike">
                <a:solidFill>
                  <a:srgbClr val="ff6699"/>
                </a:solidFill>
                <a:latin typeface="Tahoma"/>
              </a:rPr>
              <a:t>элементарный паз</a:t>
            </a: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. В одном реальном пазу может быть несколько элементарных паз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Общее число пластин коллектора </a:t>
            </a:r>
            <a:r>
              <a:rPr b="1" lang="en-US" sz="1400" spc="-1" strike="noStrike">
                <a:solidFill>
                  <a:srgbClr val="ff6699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 равно числу секций </a:t>
            </a:r>
            <a:r>
              <a:rPr b="1" lang="en-US" sz="1400" spc="-1" strike="noStrike">
                <a:solidFill>
                  <a:srgbClr val="ff6699"/>
                </a:solidFill>
                <a:latin typeface="Tahoma"/>
              </a:rPr>
              <a:t>S</a:t>
            </a: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 и числу элементарных пазов </a:t>
            </a:r>
            <a:r>
              <a:rPr b="1" lang="en-US" sz="1400" spc="-1" strike="noStrike">
                <a:solidFill>
                  <a:srgbClr val="ff6699"/>
                </a:solidFill>
                <a:latin typeface="Tahoma"/>
              </a:rPr>
              <a:t>Z</a:t>
            </a: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                                       </a:t>
            </a:r>
            <a:r>
              <a:rPr b="1" lang="en-US" sz="1400" spc="-1" strike="noStrike">
                <a:solidFill>
                  <a:srgbClr val="ff6699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 = </a:t>
            </a:r>
            <a:r>
              <a:rPr b="1" lang="en-US" sz="1400" spc="-1" strike="noStrike">
                <a:solidFill>
                  <a:srgbClr val="ff6699"/>
                </a:solidFill>
                <a:latin typeface="Tahoma"/>
              </a:rPr>
              <a:t>S</a:t>
            </a: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 = </a:t>
            </a:r>
            <a:r>
              <a:rPr b="1" lang="en-US" sz="1400" spc="-1" strike="noStrike">
                <a:solidFill>
                  <a:srgbClr val="ff6699"/>
                </a:solidFill>
                <a:latin typeface="Tahoma"/>
              </a:rPr>
              <a:t>Z</a:t>
            </a: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99"/>
                </a:solidFill>
                <a:latin typeface="Tahoma"/>
              </a:rPr>
              <a:t>Обмотка якоря бывает следующих видов: простая петлевая; простая волновая; сложная петлевая; сложная волновая; комбинированн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0 w 647640"/>
              <a:gd name="textAreaRight" fmla="*/ 648000 w 64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46087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cc"/>
                </a:solidFill>
                <a:latin typeface="Tahoma"/>
              </a:rPr>
              <a:t>3. Простая петлевая обмот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403884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ff"/>
                </a:solidFill>
                <a:latin typeface="Tahoma"/>
              </a:rPr>
              <a:t>Простая петлевая обмотка – ее особенностью является то, что секции имеют вид петли, а концы секции припаиваются к двум соседним коллекторным пластина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665440" cy="1987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0120" y="49417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ff"/>
                </a:solidFill>
                <a:uFillTx/>
                <a:latin typeface="Tahoma"/>
              </a:rPr>
              <a:t>Шаги </a:t>
            </a:r>
            <a:r>
              <a:rPr b="1" lang="en-US" sz="1600" spc="-1" strike="noStrike" u="sng">
                <a:solidFill>
                  <a:srgbClr val="ff66ff"/>
                </a:solidFill>
                <a:uFillTx/>
                <a:latin typeface="Tahoma"/>
              </a:rPr>
              <a:t>обмотки</a:t>
            </a:r>
            <a:r>
              <a:rPr b="1" lang="en-US" sz="1800" spc="-1" strike="noStrike" u="sng">
                <a:solidFill>
                  <a:srgbClr val="ff66ff"/>
                </a:solidFill>
                <a:uFillTx/>
                <a:latin typeface="Tahoma"/>
              </a:rPr>
              <a:t> якоря</a:t>
            </a:r>
            <a:r>
              <a:rPr b="1" lang="en-US" sz="1800" spc="-1" strike="noStrike">
                <a:solidFill>
                  <a:srgbClr val="ff66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939960"/>
            <a:ext cx="46814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Обмотка характеризуется следующими параметрами: У1 – первый частичный шаг по якорю; У2 – второй частичный шаг по якорю; У – результирующий шаг; τ – полюсное деление части окружности по поверхности якоря находящихся под одним полюс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Если У1 = τ, то получаем обмотку с нормальным шагом. При  У1 &lt; τ  имеем обмотку якоря с укороченным шагом, и при У1 &gt; τ  - с удлиненным шагом. Первый частичный шаг рассчитываем по формул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У1= (</a:t>
            </a:r>
            <a:r>
              <a:rPr b="1" lang="en-US" sz="1400" spc="-1" strike="noStrike">
                <a:solidFill>
                  <a:srgbClr val="ff66ff"/>
                </a:solidFill>
                <a:latin typeface="Tahoma"/>
              </a:rPr>
              <a:t>Z</a:t>
            </a: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/2</a:t>
            </a:r>
            <a:r>
              <a:rPr b="1" lang="en-US" sz="1400" spc="-1" strike="noStrike">
                <a:solidFill>
                  <a:srgbClr val="ff66ff"/>
                </a:solidFill>
                <a:latin typeface="Tahoma"/>
              </a:rPr>
              <a:t>p</a:t>
            </a: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) ± έ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где έ – некоторая величина, меньшая единицы, вычитая или суммируя которую получают значение шага У1, равное целому числу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Результирующий шаг У =  ± 1. Знак «+» относят к правоходной обмотке, а минус «-» - к левоходно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Второй частный шаг по якор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У2 = У1 – У = У1 – 1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Расстояние между двумя коллекторными пластинами, к которым присоединены начало и конец секции,  </a:t>
            </a:r>
            <a:r>
              <a:rPr b="1" i="1" lang="ru-RU" sz="1400" spc="-1" strike="noStrike">
                <a:solidFill>
                  <a:srgbClr val="ff66ff"/>
                </a:solidFill>
                <a:latin typeface="Tahoma"/>
              </a:rPr>
              <a:t>называют шагом обмотки по коллектору</a:t>
            </a: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 Ук = 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Tahoma"/>
              </a:rPr>
              <a:t>Шаги по якорю выражаются в элементарных паз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459640" y="6308640"/>
            <a:ext cx="505080" cy="360360"/>
          </a:xfrm>
          <a:prstGeom prst="rightArrow">
            <a:avLst>
              <a:gd name="adj1" fmla="val 50000"/>
              <a:gd name="adj2" fmla="val 3504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49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900"/>
                            </p:stCondLst>
                            <p:childTnLst>
                              <p:par>
                                <p:cTn id="1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12200" y="461160"/>
            <a:ext cx="60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Пример схемы простой петлевой обмот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7775640" cy="377352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3" action="ppaction://hlinksldjump"/>
          </p:cNvPr>
          <p:cNvSpPr/>
          <p:nvPr/>
        </p:nvSpPr>
        <p:spPr>
          <a:xfrm>
            <a:off x="8172360" y="6165720"/>
            <a:ext cx="647640" cy="503280"/>
          </a:xfrm>
          <a:custGeom>
            <a:avLst/>
            <a:gdLst>
              <a:gd name="textAreaLeft" fmla="*/ 0 w 647640"/>
              <a:gd name="textAreaRight" fmla="*/ 648000 w 64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440208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4. Сложная петлевая обмот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ahoma"/>
              </a:rPr>
              <a:t>Сложная петлевая обмотка состоит из двух и более простых петлевых обмоток уложенных в пазы якоря. Иногда такую обмотку называю сложной параллельной. В рассматриваемой обмотке секции и коллекторные пластины m простых обмоток по окружности чередуются и для отвода тока из обмотки необходимо, чтобы ширина щеток была не меньше m коллекторных делений. Таким образом, m простых обмоток m-ходовой обмотки включаются с помощью щеток параллельно и количество параллельных ветвей сложной петлевой обмот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ahoma"/>
              </a:rPr>
              <a:t>2а = 2pm.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9933ff"/>
                </a:solidFill>
                <a:latin typeface="Tahoma"/>
              </a:rPr>
              <a:t>Результирующий шаг по элементарным пазам и шаг по коллектору сложной петлевой обмотки У = Ук = </a:t>
            </a:r>
            <a:r>
              <a:rPr b="1" lang="en-US" sz="1600" spc="-1" strike="noStrike">
                <a:solidFill>
                  <a:srgbClr val="9933ff"/>
                </a:solidFill>
                <a:latin typeface="Tahoma"/>
              </a:rPr>
              <a:t>m</a:t>
            </a:r>
            <a:r>
              <a:rPr b="1" lang="ru-RU" sz="1600" spc="-1" strike="noStrike">
                <a:solidFill>
                  <a:srgbClr val="9933ff"/>
                </a:solidFill>
                <a:latin typeface="Tahoma"/>
              </a:rPr>
              <a:t>.   Шаги ух и У1 = У2 — ух определяются так же, как и для простой петлевой обмотк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ahoma"/>
              </a:rPr>
              <a:t>Сложная петлевая обмотка применяется в мощных машинах с большими токами якоря, и секции обмотки в этом случае являются одновитковым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172360" y="616572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505152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ahoma"/>
              </a:rPr>
              <a:t>Пример сложной петлевой обмо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rId3" action="ppaction://hlinksldjump"/>
          </p:cNvPr>
          <p:cNvSpPr/>
          <p:nvPr/>
        </p:nvSpPr>
        <p:spPr>
          <a:xfrm>
            <a:off x="8244000" y="6093000"/>
            <a:ext cx="647640" cy="502920"/>
          </a:xfrm>
          <a:custGeom>
            <a:avLst/>
            <a:gdLst>
              <a:gd name="textAreaLeft" fmla="*/ 0 w 647640"/>
              <a:gd name="textAreaRight" fmla="*/ 648000 w 64764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00"/>
                            </p:stCondLst>
                            <p:childTnLst>
                              <p:par>
                                <p:cTn id="2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4248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Tahoma"/>
              </a:rPr>
              <a:t>5. Простая волновая обмот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3887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Tahoma"/>
              </a:rPr>
              <a:t>Простую волновую обмотку якоря получают при последовательном соединении секций, находящихся под разными полюсами. Мысленно обходя последовательно соединенные секции простой волновой обмотки, мы совершаем волнообразный обход якоря, причем каждый обход включает р секций и заканчивается на коллекторной пластине, которая находится слева или справа рядом с исходной. В первом случае (рис. а) получается неперекрещенная обмотка, а во втором (рис. б) — перекрещенная. Во втором случае расход меди будет несколько больше. Рассматриваемую обмотку называют также простой последовательной обмот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1269000"/>
            <a:ext cx="374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Arial"/>
                <a:ea typeface="Times New Roman"/>
              </a:rPr>
              <a:t>Примеры соединения секций волновой обмо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529080" cy="2981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172360" y="630864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Первый частичный шаг определяют по формул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У1 = (</a:t>
            </a:r>
            <a:r>
              <a:rPr b="1" lang="en-US" sz="1600" spc="-1" strike="noStrike">
                <a:solidFill>
                  <a:srgbClr val="cc9900"/>
                </a:solidFill>
                <a:latin typeface="Tahoma"/>
              </a:rPr>
              <a:t>Z/2p) – </a:t>
            </a: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έ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Результирующий шаг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У = Ук = (К + 1)</a:t>
            </a:r>
            <a:r>
              <a:rPr b="1" lang="en-US" sz="1600" spc="-1" strike="noStrike">
                <a:solidFill>
                  <a:srgbClr val="cc9900"/>
                </a:solidFill>
                <a:latin typeface="Tahoma"/>
              </a:rPr>
              <a:t>/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Второй частичный шаг определяют по формул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У2 = У – У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Знак « - » относится к левоходной обмотке, знак «+» правоход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Так как Ук = У должен быть целым числом, то К не может принимать произвольных значен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9900"/>
                </a:solidFill>
                <a:latin typeface="Tahoma"/>
              </a:rPr>
              <a:t>Схема простой волновой обмотки:</a:t>
            </a:r>
            <a:r>
              <a:rPr b="1" lang="ru-RU" sz="1600" spc="-1" strike="noStrike">
                <a:solidFill>
                  <a:srgbClr val="cc99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612144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0 w 647640"/>
              <a:gd name="textAreaRight" fmla="*/ 648000 w 64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9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08:40:27Z</dcterms:created>
  <dc:creator>Диман</dc:creator>
  <dc:description/>
  <dc:language>en-US</dc:language>
  <cp:lastModifiedBy>Диман</cp:lastModifiedBy>
  <dcterms:modified xsi:type="dcterms:W3CDTF">2007-05-17T13:27:00Z</dcterms:modified>
  <cp:revision>50</cp:revision>
  <dc:subject/>
  <dc:title>Презентация на тему: Виды обмоток. </dc:title>
</cp:coreProperties>
</file>