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23C-DAFB-448D-A656-69518343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F2D-2DD1-4A1B-B094-9B4EDCFD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0BD-C13D-4C09-8CB4-2C17E61D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DD4-4573-48A6-B103-BB1584F2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1365-4229-44FB-A4AD-69FE52EE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8965-6DB6-49FB-A749-78827316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851A-4CD3-4C19-9138-2D9DDD2E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F50D-777C-44F7-AB63-FC72EAE9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04EE-4B1E-4A19-8D36-88F53B4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A771-0C37-4220-A9B2-3DD756C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2FE4-994B-44B8-B948-1EB2C2B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20A-5947-426F-A927-EAD1E481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955D-96F4-4AA8-92E9-A9A6644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1F0B-8470-4BC6-8024-4D38E4A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0AF6-2DB9-4BDA-876C-41AE065D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C13E-43F3-46D6-B24B-23122792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5AFA-0360-40A1-AC32-06B03F31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8EB-9042-438B-9902-62270E7C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C9F-9F03-4E17-92F1-00CD4784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0A8-BEBC-4241-A561-5E41160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000-2B31-4E8A-B3CB-52D7F53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36E-E391-4574-A005-8B27B282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A9E-501E-49BC-AAA0-6C142BEF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AE4-5D2A-497F-B31B-4D844D6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A83-4B42-4BBB-A325-A2C23CD6EA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95DD-B154-43ED-8245-7C3A0E8C78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.yarcenter.ru/media/Alex_2/0609/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avmir.ru/uploads/_aat1570_prew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okin.org.ru/book/67561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ics.posternazakaz.ru/pnz/product/big/ba3036afcf08c950b39d561e0c54cb7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669/59724213ad9c51a6ff50b6699f805d2a_bi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bakanradio.ru/images/3919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797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ЕДЕРАЛЬНЫЙ  ЗАКО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социальной защите инвалидов в   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Палагин А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3726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пециальные рабочие места для трудоустройства инвалид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пециальные рабочие места для трудоустройства инвалидов -рабочие места, требующие дополнительных мер по организации труда, включая адаптацию основного и вспомогательного оборудования, технического и организационного оснащения, дополнительного оснащения и обеспечения техническими приспособлениями с учетом индивидуальных возможностей инвали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инимальное количество специальных рабочих мест для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рудоустройств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нвалидо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полнительной власти субъектов Российской Федерации для каждого предприятия, учреждения, организации в пределах установленной квоты для приема на работу инвали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В Свердловской области запустили программу по трудоустройству инвалидов"/>
          <p:cNvPicPr/>
          <p:nvPr/>
        </p:nvPicPr>
        <p:blipFill>
          <a:blip r:embed="rId1"/>
          <a:stretch/>
        </p:blipFill>
        <p:spPr>
          <a:xfrm>
            <a:off x="5580000" y="1484280"/>
            <a:ext cx="2952720" cy="216540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атериальное обеспечение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териальное обеспечение инвалидов включает в себя денежные выплаты по различным основаниям (пенсии, пособия, страховые выплаты при страховании риска нарушения здоровья, выплаты в счет возмещения вреда, причиненного здоровью, и другие     выплаты),     компенсации     в     случаях,     установленных законодательством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лучение компенсаций и других денежных выплат одного вида не лишает инвалидов права на получение других видов денежных выплат, если у них есть для этого основания, предусмотренные законодательством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40320" y="2205000"/>
            <a:ext cx="4603680" cy="3452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циально-бытовое обслуживание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2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циально-бытовое обслуживание инвалидов осуществляется в порядке и на основаниях, определяемых органами местного самоуправления с участием общественных объединений инвали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ы исполнительной власти субъектов Российской Федерации и органы местного самоуправления создают специальные службы социального обслуживания инвалидов, в том числе по доставке инвалидам продовольственных и промышленных товаров, и утверждают перечень заболеваний инвалидов, при которых они имеют право на льготное обслужив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нвалидам, нуждающимся в постороннем уходе и помощи, предоставляются медицинские и бытовые услуги на дому либо в стационарных учреждения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76560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анаторно-курортное лечение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181440" y="1413000"/>
            <a:ext cx="482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валиды и дети-инвалиды имеют право на санаторно-курортное лечение в соответствии с индивидуальной программой реабилитации инвалида на льготных условиях. Инвалиды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руппы и дети-инвалиды, нуждающиеся в санаторно-курортном лечении, имеют право на получение на тех же условиях второй путевки для сопровождающего их лиц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работающим инвалидам, в том числе находящимся в стационарных учреждениях социального обслуживания, санаторно-курортные путевки выдаются бесплатно органами социальной защиты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ботающие инвалиды обеспечиваются санаторно-курортными путевками по месту работы на льготных условиях за счет средств социального страх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валидам, получившим трудовое увечье или профессиональное заболевание, путевки для санаторно-курорт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ечения предоставляются за счет средств работодателей, обязанных возмещать вред, причиненный работникам в результате увечья, профессионального заболевания либо иного повреждения здоровья, связанного с исполнением работниками трудовых обязанностей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Картинка 3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484280"/>
            <a:ext cx="3835440" cy="388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анспортное обслуживание инвал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и-инвалиды, их родители, опекуны, попечители и социальные работники, осуществляющие уход за детьми-инвалидами, а также инвалиды пользуются правом бесплатного проезда на всех видах транспорта общего пользования городского и пригородного сообщения, кроме такс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валидам предоставляется 50-процентная скидка со стоимости проезда на междугородных линиях воздушного, железнодорожного, речного и автомобильного транспорта с 1 октября по 15 мая и один раз (проезд туда и обратно) в другое время года. Инвалидам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пп и детям-инвалидам предоставляется право бесплатного проезда один раз в год к месту лечения и обратно, если законодательством Российской Федерации не установлены более льготные усло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276720" cy="2450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33451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тоящий Федеральный закон определяет государственную политику в области социальной защиты инвалидов в Российской Федерации, целью которой является обеспечение инвалидам равных с другими гражданами возможностей в реализации гражданских, экономических, политических и других прав и свобод, предусмотренных Конституцией Российской Федерации, а также в соответствии с общепризнанными принципами и нормами международного права и международными договорами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4929120" cy="56894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367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нвалид - лицо, которое имеет нарушение здоровья со стойким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граничение жизнедеятельности - полная или частичная утрата лицом способности или возможности осуществлять самообслуживание, самостоятельно передвигаться, ориентироваться, общаться, контролировать свое поведение, обучаться и заниматься трудовой деятельност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зависимости от степени расстройства функций организма и ограничения жизнедеятельности лицам, признанным инвалидами, устанавливается группа инвалидности, а лицам в возрасте до 16 лет устанавливается категория "ребенок-инвалид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знание лица инвалидом осуществляется Государственной службой медико-социальной экспертизы. Порядок и усло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Картинка 25 из 16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404640"/>
            <a:ext cx="5148360" cy="464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888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лата государственного социального пособия неработающим инвалидам детства и детям-инвалидам отныне будет осуществляться в повышенных разме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5191200" cy="532908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онятие медико-социальной экспертиз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ико-социальная экспертиза - определение в установленном порядке потребностей освидетельствуемого лица в мерах социальной защиты, включая реабилитацию, на основе оценки ограничений жизнедеятельности, вызванных стойким расстройством функций орган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ико-социальная экспертиза осуществляется исходя из комплексной оценки состояния организма на основе анализа клинико-функциональных, социально-бытовых, профессионально-трудовых, психологических данных освидетельствуемого лица с использованием классификаций и критериев, разрабатываемых и утверждаемых в порядке, определяемом Прави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681360" cy="5167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нятие реабилитации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319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абилитация инвалидов - система медицинских, психологических, педагогических, социально-экономичес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роприятий, направленных на устранение или возможно более полную компенсацию ограничений жизнедеятельности, вызванных нарушением здоровья со стойким расстройством функций организма. Целью реабилитации являются восстановление социального статуса инвалида, достижение им материальной независимости и его социальная адапта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Картинка 3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35412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 Обеспечение жизнедеятельности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казание квалифицированной медицинской помощи инвалидам, включая лекарственное обеспечение, осуществляется бесплатно или на льготных условиях в соответствии с законодательством Российской Федерации и законодательством субъектов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рядок и условия оказания квалифицированной медицинской помощи различным категориям инвалидов определяются Правительством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дицинская реабилитация инвалидов проводится в рамках федеральной базовой программы обязательного медицинск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рахования населения Российской Федерации за счет средств федерального и территориальных фондов обязательного медицинского страх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Картинка 8 из 7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628640"/>
            <a:ext cx="3124080" cy="4681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беспечение инвалидов жилой площадью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валиды и семьи, имеющие детей инвалидов, нуждающиеся в улучшении жилищных условий, принимаются на учет и обеспечиваются жилыми помещениями с учетом льгот, предусмотренных законодательством Российской Федерации и законодательством субъектов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илые помещения предоставляются инвалидам, семьям, имеющим детей-инвалидов, с учетом состояния здоровья и других заслуживающих внимания обстоятельств. Инвалиды имеют право на дополнительн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Картинка 26 из 2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700280"/>
            <a:ext cx="357192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оспитание и обучение детей-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разовательные учреждения совместно с органами социальной защиты населения и органами здравоохранения обеспечивают дошкольное, внешкольное воспитание и образование детей-инвалидов, получение инвалидами среднего общего образования, среднего профессионального и высшего профессионального образования в соответствии с индивидуальной программой реабилитации инвали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тям-инвалидам дошкольного возраста   предоставляются необходимые реабилитационные меры и создаются условия для пребывания в детских дошкольных учреждениях общего типа. Для детей-инвалидов, состояние здоровья которых исключает возможность их пребывания в детских дошкольных учреждениях общего типа, создаются специальные дошкольные учреж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Картинка 10 из 5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557360"/>
            <a:ext cx="4680000" cy="413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68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68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0:39:11Z</dcterms:created>
  <dc:creator>Класс 209</dc:creator>
  <dc:description/>
  <dc:language>en-US</dc:language>
  <cp:lastModifiedBy>Класс 209</cp:lastModifiedBy>
  <dcterms:modified xsi:type="dcterms:W3CDTF">2010-05-03T13:49:59Z</dcterms:modified>
  <cp:revision>2</cp:revision>
  <dc:subject/>
  <dc:title>Слайд 1</dc:title>
</cp:coreProperties>
</file>