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C4E-C09A-4290-815C-0B0E3C9F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AED-9B63-4007-8358-F32C16AE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9D7-9627-468E-AF49-32D0A816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8DC-C2A3-405D-8941-090C571D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3FF-1D2F-471A-967D-6186374F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4E7-DB87-4758-941D-E8AA1896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820-E108-4CC4-B2C2-700F425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76B-3070-438E-B313-87DA41DB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ECA-972E-4DD3-A184-B2EBAE07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0CE-2633-4F25-8782-51E2C15C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0A3-C7D6-4BEA-9F32-D455A87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188-C57F-49CE-A104-BA2B2C0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9719-B538-4EEC-8471-83AC6B6F0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71640" y="2924280"/>
            <a:ext cx="273708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"Гнев"</a:t>
            </a:r>
            <a:endParaRPr b="1" i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3336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ждународная Академия Бизн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5084640"/>
            <a:ext cx="362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Абдрахманов Б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уржан Марат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 2 курса МТ-0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5480" y="1268280"/>
            <a:ext cx="34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3480" y="214488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87280" y="1414440"/>
            <a:ext cx="661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кружающие нередко советуют вам успоко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 находитесь в постоянном напряж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 работе вы никому не рассказываете о своих проблем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гда вы расстроены, то пытаетесь «отгородиться от мира» телевизором, книгой, журналом, или просто ложитесь сп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 страдаете от бессон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 выпиваете или курите каждый день, чтобы расслаб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ам постоянно кажется, что вас не понимают или не слуш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кружающие часто просят вас не кричать на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юбимые вами люди постоянно повторяют, что вы причиняете им бо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рузья не ищут вашего обществ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0600" y="404640"/>
            <a:ext cx="23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Мини-те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58920" y="1154520"/>
            <a:ext cx="682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ли вы дали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не больше 2 положительных ответ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- это нормальная реакция на создавшуюся ситуацию, однако вам пошел бы на пользу отдых и использование различных методов релакс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ли вы дали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3-5 положительных ответ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вы находитесь в состоянии легкого стресса, может проявляться склонность к гневу. Вам необходимо узнать побольше о причинах вашего раздражения и о способах снятия стр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ли вы дали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6 и более утвердительных ответ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вы находитесь в состоянии сильного стресса и страдаете приступами гнева. Необходимо использовать различные методы нейтрализации негативных эмоций, такие как активные физические упражнения, медитацию или занятия йогой, профессиональную психологическую помощ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24680" y="27288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веты к мини-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35280" y="694080"/>
            <a:ext cx="55861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Самым мудрым считается тот, кто умеет подчинить свои чувства велению рассудка. Разгневаться может и глупец и мудрец, но глупец, ослепленный гневом, становится рабом своего гнева. В пылу бешенства он сам не ведает, что творит, и все его поступки ему же оборачиваются во зл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3300"/>
                </a:solidFill>
                <a:latin typeface="Arial"/>
              </a:rPr>
              <a:t>Египетская мудрост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393372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, который поддаётся гневу, чувствует себя обиженным или раздраженным, находится в постоянной опасности совершить ужасные поступки и причиняет вред себе и дру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648160" cy="350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2666880" cy="332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3240" y="2852640"/>
            <a:ext cx="39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причина гнева —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горды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2674800" cy="3816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443700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гневе у человека напряжены мышцы и горит лицо. Человек ощущает свою силу и хочет напасть на источник гнева. Чем сильнее гнев, тем более сильным и энергичным чувствует себя  индивид, и тем больше потребность в физическом действии. Гнев заставляет испытывать сильное напряжение и сопровождается сильным чувством  импульс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2493000"/>
            <a:ext cx="74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-перв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гда мы видим, как наши родители используют гнев для решения различных проблем, в дальнейшем мы можем усвоить подобный образец пове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-втор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гнев может возникнуть как реакция на стрессовое состоя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-треть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 состоянии усталости мы склонны к проявлению гнева даже в случае мелкого конфли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-четверт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если мы в течение долгого времени сдерживаем свои эмоции, переживая происходящее «внутри себя», наиболее вероятной реакцией на усиление давления со стороны также будет гнев, подобный пару, вырывающемуся из скорова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052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ые выделяют целый ряд фактор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иливающих вероятность возникновения гне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262240" cy="193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86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«Рассеянный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человек, пытающийся отвлечься от проблемы при помощи газеты или радио. Рассеянные люди часто страдают забывчивостью, не выполняют данные им поручения. В ответ на упреки, окружающие слышат от них лишь «не знал», «забыл», «уста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9200" y="615960"/>
            <a:ext cx="74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В состоянии гнева человеку присущи различные стили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268280"/>
            <a:ext cx="857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дитель в состоянии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«сумасшедшего болванчика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Этот человек, если спешит или чем-то расстроен, кричит, ругается, размахивает руками, угрожая другим водител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40" y="2349360"/>
            <a:ext cx="68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«Мрачная личность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человек, который замыкается в себ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 ни с кем не разговари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141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«Семейный тиран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Этот человек выплескивает свой гнев только в кругу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7640" y="393372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«Обвинитель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тот человек обвиняет окружающих в своих неприятност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не признает свою собственную ответственность за случившее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948360" y="1916280"/>
            <a:ext cx="1998720" cy="20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2920" y="679320"/>
            <a:ext cx="74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а из объективно наблюдаемых функций гнева заключается в том, что временно приостанавливается ощущение дискомфорта, вызываемого стрессом. Проявления своих чувств дают разрядку или хотя бы на время блокируют болезненность эмоционального или физического возбужд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2520" y="2780640"/>
            <a:ext cx="50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нев способен снимать четыре вида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трес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8720" y="328392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езнен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9080" y="385992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езненные ощу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7280" y="4365000"/>
            <a:ext cx="43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рустрированная потреб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7640" y="4868280"/>
            <a:ext cx="13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гро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2740320" cy="161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900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нев как средство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самозащи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щита при физической уг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щита от ви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щита от об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щита от страха и беспок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3237120" cy="242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цепты избавления от гне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Tahoma"/>
              </a:rPr>
              <a:t>Наладьте взаимоотношения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Tahoma"/>
              </a:rPr>
              <a:t>Следите за соб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Tahoma"/>
              </a:rPr>
              <a:t>Чтобы ваши близкие знали о ваших чувства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Tahoma"/>
              </a:rPr>
              <a:t>Позаботьтесь о себ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Tahoma"/>
              </a:rPr>
              <a:t>Готовьтесь загодя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05400" y="1413000"/>
            <a:ext cx="3071880" cy="4305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29:02Z</dcterms:created>
  <dc:creator>Zver</dc:creator>
  <dc:description/>
  <dc:language>en-US</dc:language>
  <cp:lastModifiedBy>Zver</cp:lastModifiedBy>
  <dcterms:modified xsi:type="dcterms:W3CDTF">2007-12-03T07:48:24Z</dcterms:modified>
  <cp:revision>4</cp:revision>
  <dc:subject/>
  <dc:title>Слайд 1</dc:title>
</cp:coreProperties>
</file>