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9.gif" ContentType="image/gi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05AB-818F-4085-AFE3-8C9BACCB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A87C-8724-41AF-AE2F-8F1F840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F014-CFF8-4712-8C37-87C65E1E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003C-7162-48F6-A43E-8F61F2A1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290-54D7-435A-92C1-F8D4526D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A62-3B75-4C72-8D14-34A3B5D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2C91-F077-4F77-8E76-B891325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41A-ECBA-4411-BE65-8CBB4C88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8D22-A383-45F8-86F1-FFDCB25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1C58-8987-4EFB-A3CC-C8D8103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D73-33B1-4491-9442-3B2FFA3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540C-C8CE-428E-BE57-F8EFDA8F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98B7-0A62-4486-AAF4-9077DB4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3A84-01A9-4A77-907D-42DC183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9E97-56A5-472C-97A1-3514CEA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5DD-BB0E-4C05-A4EB-002CE98E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6BF-736A-414C-9CED-D9EEA90C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C170-58CE-4069-9C76-8CADEB4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A4D9-B66A-4B28-B894-A0856FF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919A-97BC-4D53-A994-FD6055E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C29B-7170-4B89-9766-59F0FF9C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4211-BA57-4FB1-AA89-F9F3DD6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413A-3524-425F-A08C-33AA71A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8905-E95B-47A8-BE65-82F2BF2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D316-8BC4-4DC4-9526-AA3D783FEE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5D0-8DC4-4B88-AD2D-2635F820EF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22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5445000"/>
            <a:ext cx="1366920" cy="97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6237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сомольск-на-Амуре, 2008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13000"/>
            <a:ext cx="8353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ерис Дмитрий Юрь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СЛЕДОВАНИЕ ПРЕДСТАВЛЕНИЙ О КАРЬЕРНОМ РОС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УДЕНТОВ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УСКНИКОВ ПЕДГОГИЧЕСКОГО ВУ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ециальность 050708  – «Педагогика и методика начального образова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 специализацией 031213 – «управление учебно-воспитательным процессом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797360"/>
            <a:ext cx="48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ный руководитель: Каткова Е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пс.н., доцент кафедры псих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2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сих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98100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сновываясь на результатах полученных при анализе эссе, было проведено исследование на студентах-выпускниах специальности «Педагогика и методика начального образования». Была запущена специально разработанная нами методика «Представление субъекта о себе, о жизни, о карьере» (Каткова Е.Н.). Цел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и: посмотреть, насколько влияет столкновение двух принципиально отличающихся реальностей, старых и новых приоритетов, стратегий, ценностей и установок, на будущее.  Насколько влияет социальный статус и социальная роль на представление о себе, своей жизни и карьер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5445000"/>
            <a:ext cx="15127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47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эта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результаты полученных данных после исследования, были разработаны рекомендации для «Центра содействия занятости учащейся молодежи и трудоустройства выпускников» ФГОУ ВПО «АмГПГ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628640"/>
            <a:ext cx="8136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обходимо привлекать к активному участию во всех мероприятиях, акциях, проводимых как на вузовском уровне, так и в общегородском масштабе (Дни карьеры, ярмарки вакансий, презентации общеобразовательных учреждений, конкурсы и т. д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работе с выпускниками важен учет ожиданий и установок самих студентов — будущих молодых специа­листов, а так же мониторинг качественных изменений в личност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ускника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ажно организовывать активную поддержку карьерных устремлений выпускни­ков, как со стороны организации-работодателя, так и со стороны ву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Необходимо формировать у студентов готовность начинать профессиональную карьеру с низовых ступеней на работе, пройти весь путь профессионального и должностного роста (именно излишние амбиции выпускников, их нереали­стично завышенные ожидания и желание сразу занять высшую должность в организации являются, по мнению работодателей, главным препятствием в развитии карь­еры молодых специалистов), и с этим уделять внимание развитию мотивации к достижениям с помощью организации консультирования по проблемам личностного роста и выбора индивидуальной траектории карьерного продвиж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692280"/>
            <a:ext cx="792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исследовани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развития современного профессионала состоит в реализации его карьерного потенциала и возможность осуществить собственную конкурентоспособность на современном рынке труда. Активное управление карьерой в динамичных социально-эко­номических условиях — одно из ключевых условий профессионального и даже шире — жизненного успеха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молодым специалистам в современных условиях рынка предъявляется целый ряд требований: они должны иметь не только достаточно высокий уровень теоре­тической и практической подготовки, но и отличаться социальной зрелостью, со­хранять высокую эффективность в ситуации неопределенности и быстро адаптиро­ваться к постоянно меняющимся условиям рабочей среды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 работы является проблема трудоустройства молодых специалистов выпускающихся из педагогических университетов и проектирования их дальнейшего жизненного пу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11920" y="5338800"/>
            <a:ext cx="1432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05264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ы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тудентов факультетов АмГПГУ, в большинстве, нет четких представлений о том, как планировать свой карьерный рост, нет четкого плана развития своей карьер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лагаем, что студенты ИПиП специальности «Педагогика и методика начального образования» являются группой риска на рынке труда. Причиной этого является то, что студенты не представляют себя в рамках другой профессии, и стремятся оттянуть наступление взрослой жизни и освоение новой социальной роли, т.е. причиной уязвимости являются внутренние проблемы личности будущих учителей начальных классов, попадающих на рынок труда с высокой конкуренци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628640"/>
            <a:ext cx="763272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являются студенты 5 курса педагогического универси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следования - представление о своей карьере студентов 5 курса педагогического универси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следования явилось изучение представлений студентов-выпускников о своем карьерном росте в будуще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12002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18000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76280"/>
            <a:ext cx="820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теза и цель нашего исследования позволили сформулировать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сихологической литературы по проблеме исслед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представления студентов-выпускников о своей будущей карье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сти сравнительный анализ содержания представлений о своей будущей карьере у студентов 5 курсов различных факультетов (ИПиП, ФМФ, ЕГФ, ФИиЮ), и определить специфику изучаемых представлений, отражающих специальности и факультеты в цел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экспериментальную группу испытуемых, представляющих группу риска на рынке труда, на основе количественного и качественного сравнительного анализа результатов, полученных при решении третьей задачи исслед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ть представления студентов о своем существовании, представляющих группу риска на рынке труд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рекомендации для «Центра содействия занятости учащейся молодежи и трудоустройства выпускников» ФГОУ ВПО «АмГПГ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90560" cy="16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9079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ТИЧЕСКИЕ ОСНОВАНИЯ ИЗУЧЕНИЯ ПРЕДСТАВЛЕНИЙ О КАРЬЕРНОМ РОСТЕ У СТУДЕНТОВ-ВЫПУСКНИКОВ ПЕДАГОГИЧЕСКОГО ВУЗА В ПСИХОЛОГИЧЕСКОЙ НА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989000"/>
            <a:ext cx="748836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рофессионального становления личности в онтогене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анализ проблемы готовности личности к выбору профессии и ее профессиональных пл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кризиса профессионального самосознания молодого специалиста на стадии профессиональной адап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76360" y="54936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РЕЗУЛЬТАТОВ  ИССЛЕДОВАНИЯ ПРЕДСТАВЛЕНИЙ О КАРЬЕРНОМ РОСТЕ СТУДЕНТОВ ВЫПУСКНИКОВ ПЕДАГОГИЧЕСКОГО ВУ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773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за исследова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кспериментальная работа проводилась в Амурском гуманитарно-педагогическом государственном университете г. Комсомольска-на-Амуре. В исследовании приняло участие 155 студентов выпускников трех факультетов и одного института: «Институт педагогики и психологии, Физико-математический факультет», «Естественно-географический факультет», «Факультет истории и юриспруденции», 13 студентов выпускников специальности «Педагогика и методика начального образования» Института педагогики и психолог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19280" cy="178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90792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ом этапе исследования нами было запланировано проведение анализа эссе студентов-выпускников АмГПГУ  на тему: «Я и моя карьера». В эссе студенты должны были описать свои мысли по поводу целей и смысла их карьеры. В карьерном эссе студенту было необходимо раскрыть совой взгляд на карьеру, отмечать причины и особенности выбора их профессии, характеризовать образ будущего и раскрыть собственные стратегии достижения карьерного успеха. В качестве метода обработки данных был взят -«контент-анализ». Нами были выделены категории и единицы анализа, по результатам подсчета которых можно сделать вывод о  том, какие у студентов факультетов АмГПГУ представления о планировании их карьерного ро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85080" y="5300640"/>
            <a:ext cx="9367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2920" y="83664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ли процентное сравнение, среди факультетов, количества эссе с наличием единиц анализа, относящихся к каждой из категорий, для того, чтобы проследить частоту встречаемости, и тем самым определить значимость единиц анализа, данных категорий, для студентов различных факультетов. Суммировали все сравниваемые до этого проценты по отдельным категориям. С помощью критерия Фишера выявили значимость различий конечных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3068640"/>
          <a:ext cx="568944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894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116000" y="5950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тное соотношение исследуемых категори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 факультет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18T16:39:10Z</dcterms:modified>
  <cp:revision>13</cp:revision>
  <dc:subject/>
  <dc:title>PowerPoint Presentation</dc:title>
</cp:coreProperties>
</file>