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69FD-E7AD-4A90-9BB0-E3732AAE8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презентация рассчитана на самостоятельную работу учащихся с 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8B9-B818-4C4C-B6D1-22509FC4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044-6EA0-4151-ADFB-97CD3CF8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0BC-5E9C-4738-B812-7EF84E25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A80-6B45-47FF-B716-AFB57404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766-6222-46CA-870D-53E48F23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A7AE-80E3-4E16-AF7D-CDDD0BC5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CB1-14EC-4531-94FF-BBC4D72C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E8E-F349-4787-9111-BE725F07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9A5-CF0F-484A-A136-1E658C63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A6B-3641-4CF0-A26A-2D17A92F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A26-BA57-46DC-9AC1-B5CBE94D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C7E-A8FB-42D9-AB2A-3B53528F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DD8B-A960-4DDE-B039-C85B82DEC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91840"/>
            <a:ext cx="9144000" cy="10364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Monotype Corsiva"/>
              </a:rPr>
              <a:t>Гидравлические маш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920" y="2060280"/>
            <a:ext cx="6697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намичная иллюстрация к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2133720"/>
            <a:ext cx="1616040" cy="6476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кла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2708280"/>
            <a:ext cx="72327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ЕЕВА Марина Виктор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508640"/>
            <a:ext cx="7232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4508640"/>
            <a:ext cx="7232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средняя школа № 3 г. Лысково Нижегород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19242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0,-52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0,-52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400"/>
                            </p:stCondLst>
                            <p:childTnLst>
                              <p:par>
                                <p:cTn id="1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2174760" y="476280"/>
            <a:ext cx="4918320" cy="5977080"/>
          </a:xfrm>
          <a:prstGeom prst="rect">
            <a:avLst/>
          </a:prstGeom>
          <a:ln w="127080">
            <a:solidFill>
              <a:srgbClr val="0000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116000" y="1082520"/>
          <a:ext cx="6696000" cy="38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082520"/>
                    <a:ext cx="669600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187280" y="996840"/>
          <a:ext cx="648036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996840"/>
                    <a:ext cx="648036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24000" y="212868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28000" y="2128680"/>
            <a:ext cx="7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187280" y="765000"/>
          <a:ext cx="662472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65000"/>
                    <a:ext cx="662472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24000" y="212868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128680"/>
            <a:ext cx="7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16000" y="790560"/>
          <a:ext cx="6769080" cy="43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790560"/>
                    <a:ext cx="676908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124000" y="2708280"/>
            <a:ext cx="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306864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306864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12868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28000" y="2128680"/>
            <a:ext cx="7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050920" y="907920"/>
          <a:ext cx="5113440" cy="46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907920"/>
                    <a:ext cx="511344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786040" y="1930320"/>
          <a:ext cx="3571920" cy="31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1930320"/>
                    <a:ext cx="357192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3:57:07Z</dcterms:created>
  <dc:creator>Intel</dc:creator>
  <dc:description/>
  <dc:language>en-US</dc:language>
  <cp:lastModifiedBy>АДМИНИСТРАТОР</cp:lastModifiedBy>
  <dcterms:modified xsi:type="dcterms:W3CDTF">2006-05-04T09:56:22Z</dcterms:modified>
  <cp:revision>34</cp:revision>
  <dc:subject/>
  <dc:title>Гидравлические машины</dc:title>
</cp:coreProperties>
</file>