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E01-7C9C-4556-B8BD-B2830C8C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23C-DBDB-4E78-81C4-1495674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649-C988-4EE7-A13F-5F2119D8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795-ED02-4860-A2C3-8D8783E9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5DD-4B8B-4116-B586-5264C94D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8F0-D596-44F4-9EB0-B804CB86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C272-3125-421F-A0D4-F9CE41D3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E131-C80A-437C-9D8D-0C20B1B7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939C-CF0F-4EEF-B593-73CF3CAF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BD99-C210-4779-82B1-0F6623A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561-43BE-4AD2-86B9-7996D09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20F-8750-434C-A76D-E68036FE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3DB-2F99-4772-B4A3-3A6DB699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D404-D204-40E1-8E32-7A12BBD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AD5-6019-49EF-87AB-355C1B5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91C-8D39-444B-B87B-45B790F6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DD92-52CF-47EE-8996-8F60F5B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B7B-232B-49DF-8CAE-4E218B6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B47-393E-4EB8-B805-022D2483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8DA-D40B-48D5-B9DB-CC80C94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406-2736-4C3F-92F6-F50368E2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4D1-528C-42D1-B1BE-73873A1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65D-5AF6-4BCB-940B-60D0E56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AF3-4ADA-4075-AF82-0843D6B1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FEA2-AD24-4E39-B81F-8DDBD1AA11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33DF-BD82-440C-813F-878E257591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655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Monotype Corsiva"/>
              </a:rPr>
              <a:t>В клубах табачного дыма.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437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488360" cy="678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708360" y="2924280"/>
            <a:ext cx="163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Garamond"/>
              </a:rPr>
              <a:t>сигар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7 секунд после первой затяжки яды поступают в мозг, а через 15 – 20 с. Уже оказываются в пальцах но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куривание одной сигареты эквивалентно пребыванию на оживлённой автомагистрали в течении 36 ча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коло 30% всех случаев рака лёгкого обусловлено курени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урение укорачивает жизнь в среднем на 8 – 10 ле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мертельная доза никотина содержится примерно в 20 сигаре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5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ичины, по которым молодёжь начинает курить.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казаться старш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ак делают мои друзь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похуде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ак мод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казаться независимы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сто та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т бездель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9:21:18Z</dcterms:created>
  <dc:creator>uzer</dc:creator>
  <dc:description/>
  <dc:language>en-US</dc:language>
  <cp:lastModifiedBy>user</cp:lastModifiedBy>
  <dcterms:modified xsi:type="dcterms:W3CDTF">2009-01-12T06:56:53Z</dcterms:modified>
  <cp:revision>5</cp:revision>
  <dc:subject/>
  <dc:title>В клубах табачного дыма.</dc:title>
</cp:coreProperties>
</file>