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6B1-EEEE-470B-91A4-18EF7AF6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505-527F-4093-902A-749DD993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813-CCB4-4C45-BC58-5B41DFF0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981-DAA6-4637-8437-15F92C69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D71C-0982-4FA4-B3D8-23D72C8E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4F36-05E4-4B60-961B-506EA5D4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FF83-A5FB-4805-A115-6C86CF4B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59A2-B970-4885-B6BB-94A24585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FA2D-3DCF-43AB-AC59-9BF0CCFE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79E2-1BCC-4BE3-B9F9-AFD56C5D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03F1-9B8F-4B95-959B-54AB36C5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EC8-1637-46C3-AC85-214B8960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C4EB-23AC-4A10-B12E-CE96F165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6145-A6BA-4D54-A09A-08293AF5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2710-3A07-4D83-B431-3DF940E4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19C9-FFCE-4F61-A47B-66427E0A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56EE-6EB9-4E67-A6DE-8A391E5E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09CFC-B25E-4A8D-A04B-ED905651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364F0-95D0-4679-980C-499FF27C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FE813-E4CC-495F-A325-04E8BA63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4CB3F-ECF5-444C-9A29-2C517DB1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C575C-CF19-452C-B98D-F9A0F926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120-B1AF-4A72-9C3E-56385B2A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6DBF3-7D96-4F83-AA30-924E00C4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994D7-FC92-46DF-B634-33A1F541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917AA-80B8-47EB-B62B-0986E3D9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10915-73A9-49CE-A993-24F17763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A0466-27A7-4DD4-8803-EF9D67AD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3D67C-E96B-4356-BC93-9FCA96A0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73069-521F-498A-9BB3-79553960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1D38F-FB2D-4AC0-AFA8-6BE09380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19714-46B4-473B-9559-D10CF423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46B17-46ED-47E1-AEE5-BD8FCC0A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A74-6A35-48F6-A129-6F515B07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D772D-4780-4C33-9439-915F5D77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4BEDE-7838-4292-B3C6-39B9C51B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1C8B5-CFC9-4E7E-BA86-853CC8C1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ACAF7-4A13-4453-8E2E-E93C3278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0C3AF-3892-4665-8E4F-5F0A6CA4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7E75C-7E8C-4FD2-AE67-85C73051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E62E6-8B4F-4EBB-BF6D-0530A526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C04FD-7147-4ED0-B110-F3E4BD93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39F3-38AE-4A58-AE03-728716BE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B2EBA9-D2B7-44A3-BF3E-889D4F79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43F-7043-42BA-BB18-C79C3D0F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975285-B82A-4A46-BC13-C4D46747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80F8C-0CDA-475F-BF4F-6518CD4E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869F72-8A4D-4681-A24F-9D4249A0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439AA2-91B0-44D9-8129-C90792D0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F8B71-42EF-4160-856F-BDDB601C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3319A-7980-4948-8D34-B9C0AA1D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DA389-932A-42F7-9EEE-46A23939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8567E-5BF5-4E45-BD0A-59189D59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FAD1A-0F7C-4B42-93FA-5212656C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866D8-9AA8-496A-BED6-64A16BB7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9E7-4907-41EA-B703-676A68B2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C21ED0-E251-4573-83F1-ECFCEC9D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0C756D-287D-42EE-AB36-5B1DE1A2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C0A6D-3896-4996-950E-1D4A5160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5561F5-B8D0-4CEF-80F8-5F456A8E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009C17-ACF2-4AC8-902C-C96BDC9E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F01B01-94DE-4132-9DE1-6368F090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C803C6-7685-4464-8AAC-DBF0A830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0AB8F7-DD74-4572-90B1-1647365E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8B7AC-5D1A-4566-8E80-DDAE5D52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096A11-8034-4CD0-B7D9-109FB9FA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816-2357-44AC-AF33-FDF07BE4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E19979-A826-4457-A9E8-FE58EDD9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6BE13-A591-40D6-9668-34D12283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3DF02C-2B2E-4397-9973-9DE9FACC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3956DE-50E0-4204-AEDB-8D2C149D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E6DF4-347F-49C7-B89E-0683985E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7251E-2435-4144-943F-03B87A5C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28CF7-C5F6-4B55-A0E2-9AE8F61C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9CA5DD-9948-4361-B5DC-EF3A5018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21FF39-9FDB-4074-B6B4-38C5E5C2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4C589E-9DBE-4D53-8A75-843EBCFE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708-1D96-4807-A951-51516EA8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814D0-43CC-41F7-A6B8-5055F622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1926F7-975E-4B15-86C1-951F0665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9DD83-7781-4400-94AE-591547CB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BEA574-6B0A-477B-AF96-BC262ACE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FDD0CC-33BF-4DC3-A99A-03D3CC6C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D51-B411-4DB6-80F3-FD86D939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D08E-4A97-4467-B79D-12749007F1B2}" type="slidenum">
              <a:rPr b="1" lang="fr-F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6133-30A1-4153-A683-B29F6AFB1766}" type="slidenum">
              <a:rPr b="1" lang="fr-F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825B-B6F1-4BB6-A9C3-4F783A225420}" type="slidenum">
              <a:rPr b="1" lang="fr-F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82C4-46BA-46A2-AFA1-D07FFB3EDB16}" type="slidenum">
              <a:rPr b="1" lang="fr-F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79BA-D15C-477C-918C-123A09FF0A39}" type="slidenum">
              <a:rPr b="1" lang="fr-F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B79F-E001-4448-B27D-BADB61A3F41D}" type="slidenum">
              <a:rPr b="1" lang="fr-F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DDBB-2028-41F6-8657-BD70272C56B7}" type="slidenum">
              <a:rPr b="1" lang="fr-F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qsrmagazine.com/articles/news/story.phtml?id=9685" TargetMode="External"/><Relationship Id="rId2" Type="http://schemas.openxmlformats.org/officeDocument/2006/relationships/hyperlink" Target="http://www.mcdonalds.com/" TargetMode="External"/><Relationship Id="rId3" Type="http://schemas.openxmlformats.org/officeDocument/2006/relationships/hyperlink" Target="http://www.mcdonalds.ca/pdfs/3_legged_stool.pdf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MCDONALDS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         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I’m Lovin’ i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                             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Guliyev Ilki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C:\Users\user\Desktop\mcdonald2.jpg"/>
          <p:cNvPicPr/>
          <p:nvPr/>
        </p:nvPicPr>
        <p:blipFill>
          <a:blip r:embed="rId1"/>
          <a:stretch/>
        </p:blipFill>
        <p:spPr>
          <a:xfrm>
            <a:off x="1905120" y="1600200"/>
            <a:ext cx="1962000" cy="1238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C:\Users\user\Desktop\mcdonald3.jpg"/>
          <p:cNvPicPr/>
          <p:nvPr/>
        </p:nvPicPr>
        <p:blipFill>
          <a:blip r:embed="rId2"/>
          <a:stretch/>
        </p:blipFill>
        <p:spPr>
          <a:xfrm>
            <a:off x="4191120" y="1600200"/>
            <a:ext cx="1952640" cy="1238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:\Users\user\Desktop\mcdonald1.jpg"/>
          <p:cNvPicPr/>
          <p:nvPr/>
        </p:nvPicPr>
        <p:blipFill>
          <a:blip r:embed="rId3"/>
          <a:stretch/>
        </p:blipFill>
        <p:spPr>
          <a:xfrm>
            <a:off x="6400800" y="1600200"/>
            <a:ext cx="19526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ET’S KNOW </a:t>
            </a:r>
            <a:r>
              <a:rPr b="0" lang="en-US" sz="3000" spc="-1" strike="noStrike">
                <a:solidFill>
                  <a:srgbClr val="e75c01"/>
                </a:solidFill>
                <a:latin typeface="Century Schoolbook"/>
              </a:rPr>
              <a:t>MCDONAL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story- From Speedy to McDonal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in of restaurants-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 31,96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118 countr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75% franchisses- 25,46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5% company operated restaurants-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6,50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jor market of McDonal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4" descr="C:\Users\user\Desktop\100px-SpeedeeGentilly.jpg"/>
          <p:cNvPicPr/>
          <p:nvPr/>
        </p:nvPicPr>
        <p:blipFill>
          <a:blip r:embed="rId1"/>
          <a:stretch/>
        </p:blipFill>
        <p:spPr>
          <a:xfrm>
            <a:off x="6095880" y="1600200"/>
            <a:ext cx="1803600" cy="1117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C:\Users\user\Desktop\200px-McDonald%27s_Corporate_Logo_svg.png"/>
          <p:cNvPicPr/>
          <p:nvPr/>
        </p:nvPicPr>
        <p:blipFill>
          <a:blip r:embed="rId2"/>
          <a:stretch/>
        </p:blipFill>
        <p:spPr>
          <a:xfrm>
            <a:off x="6095880" y="3886200"/>
            <a:ext cx="1905120" cy="1447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C:\Users\user\Desktop\800px-McDonaldsWorldLocations_svg.png"/>
          <p:cNvPicPr/>
          <p:nvPr/>
        </p:nvPicPr>
        <p:blipFill>
          <a:blip r:embed="rId3"/>
          <a:stretch/>
        </p:blipFill>
        <p:spPr>
          <a:xfrm>
            <a:off x="685800" y="4038480"/>
            <a:ext cx="48006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: 6 YEARS SUMMARY OF MCDONAL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2" name="Espace réservé du contenu 3"/>
          <p:cNvGraphicFramePr/>
          <p:nvPr/>
        </p:nvGraphicFramePr>
        <p:xfrm>
          <a:off x="533520" y="1523880"/>
          <a:ext cx="75438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3" name="Espace réservé du contenu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543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RKET SHARE OF MCDONALDS USA MARKET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Espace réservé du contenu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20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ROM A SMALL HAMBURGER TO THE GLOBAL CORPOR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rporate strategy:   Three legged sto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ranchising-horizontal allian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ppliers –vertical allian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cDonald’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8" name="Connecteur droit avec flèche 43"/>
          <p:cNvCxnSpPr/>
          <p:nvPr/>
        </p:nvCxnSpPr>
        <p:spPr>
          <a:xfrm flipV="1">
            <a:off x="2209680" y="4342680"/>
            <a:ext cx="534240" cy="12200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9" name="Connecteur droit avec flèche 45"/>
          <p:cNvCxnSpPr/>
          <p:nvPr/>
        </p:nvCxnSpPr>
        <p:spPr>
          <a:xfrm flipH="1" flipV="1">
            <a:off x="3199680" y="4343040"/>
            <a:ext cx="153000" cy="1372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0" name="Connecteur droit avec flèche 49"/>
          <p:cNvCxnSpPr/>
          <p:nvPr/>
        </p:nvCxnSpPr>
        <p:spPr>
          <a:xfrm flipH="1" flipV="1">
            <a:off x="3809520" y="4419000"/>
            <a:ext cx="534240" cy="11437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71" name="Ellipse 50"/>
          <p:cNvSpPr/>
          <p:nvPr/>
        </p:nvSpPr>
        <p:spPr>
          <a:xfrm>
            <a:off x="2438280" y="3809880"/>
            <a:ext cx="1676520" cy="53352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arget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ZoneTexte 51"/>
          <p:cNvSpPr/>
          <p:nvPr/>
        </p:nvSpPr>
        <p:spPr>
          <a:xfrm rot="17739600">
            <a:off x="1576440" y="471384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ZoneTexte 52"/>
          <p:cNvSpPr/>
          <p:nvPr/>
        </p:nvSpPr>
        <p:spPr>
          <a:xfrm rot="15831600">
            <a:off x="2447640" y="496764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cDon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ZoneTexte 53"/>
          <p:cNvSpPr/>
          <p:nvPr/>
        </p:nvSpPr>
        <p:spPr>
          <a:xfrm rot="14715600">
            <a:off x="3290040" y="4647600"/>
            <a:ext cx="15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ranchs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C:\Users\user\Desktop\nestle.jpg"/>
          <p:cNvPicPr/>
          <p:nvPr/>
        </p:nvPicPr>
        <p:blipFill>
          <a:blip r:embed="rId1"/>
          <a:stretch/>
        </p:blipFill>
        <p:spPr>
          <a:xfrm>
            <a:off x="6858000" y="1219320"/>
            <a:ext cx="1228680" cy="542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Users\user\Desktop\danone.jpg"/>
          <p:cNvPicPr/>
          <p:nvPr/>
        </p:nvPicPr>
        <p:blipFill>
          <a:blip r:embed="rId2"/>
          <a:stretch/>
        </p:blipFill>
        <p:spPr>
          <a:xfrm>
            <a:off x="7010280" y="1905120"/>
            <a:ext cx="1123920" cy="542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C:\Users\user\Desktop\heinz.jpg"/>
          <p:cNvPicPr/>
          <p:nvPr/>
        </p:nvPicPr>
        <p:blipFill>
          <a:blip r:embed="rId3"/>
          <a:stretch/>
        </p:blipFill>
        <p:spPr>
          <a:xfrm>
            <a:off x="7086600" y="2666880"/>
            <a:ext cx="1085760" cy="4381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C:\Users\user\Desktop\Renee's_logo.jpg"/>
          <p:cNvPicPr/>
          <p:nvPr/>
        </p:nvPicPr>
        <p:blipFill>
          <a:blip r:embed="rId4"/>
          <a:stretch/>
        </p:blipFill>
        <p:spPr>
          <a:xfrm>
            <a:off x="7162920" y="3352680"/>
            <a:ext cx="914400" cy="542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:\Users\user\Desktop\aboutus_minutemaid.jpg"/>
          <p:cNvPicPr/>
          <p:nvPr/>
        </p:nvPicPr>
        <p:blipFill>
          <a:blip r:embed="rId5"/>
          <a:stretch/>
        </p:blipFill>
        <p:spPr>
          <a:xfrm>
            <a:off x="7162920" y="4114800"/>
            <a:ext cx="914400" cy="533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C:\Users\user\Desktop\aboutus_quaker.jpg"/>
          <p:cNvPicPr/>
          <p:nvPr/>
        </p:nvPicPr>
        <p:blipFill>
          <a:blip r:embed="rId6"/>
          <a:stretch/>
        </p:blipFill>
        <p:spPr>
          <a:xfrm>
            <a:off x="7238880" y="4876920"/>
            <a:ext cx="8287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WOT ANALYZE OF MCDONALD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838080" y="1371600"/>
          <a:ext cx="7086600" cy="472428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tr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1. Strong Brand, strong recogn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2.Strong global prec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3.Suppl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4.Strong  real estate pro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Weak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W1. Saturated food indus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W2. Perceived lower food standards due to fast food mod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W3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ustomer trends change and so does their choi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6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pport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1. New global markets continually open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2. Economic downturn may force people to opt for less expensive "fast food", rather than restaurant quali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3- Entry into breakfast 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re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1.Nutritional issues. People are becoming more aware of the quality of the food they eat, and more people are looking for "organic", natural and vegetarian alternativ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2. Increasing compet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3. Fast food menu links with obe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RATEGIES AND OBJECTIVES OF MCDONALDS FOR 2010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33160" y="15235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According to meeting in </a:t>
            </a:r>
            <a:r>
              <a:rPr b="0" lang="fr-FR" sz="1600" spc="-1" strike="noStrike">
                <a:solidFill>
                  <a:srgbClr val="000000"/>
                </a:solidFill>
                <a:latin typeface="Century Schoolbook"/>
              </a:rPr>
              <a:t>12 November 2009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nvestors of McDonalds defined company’s objectives for 2010 as following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Annual growth in sales 3-5 %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Annual operating income growth 6-7 %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ncrease market share (open 1000 new restaurant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3048120"/>
          <a:ext cx="6248520" cy="350496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208296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xisting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New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8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isting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Reimaging 2300 existing location worldwide (W2,W3,T1,T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Menu innovation(W1,W3,O3,T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 new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ew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1000 new restaurant (O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Refranchising (T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 diversif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914400" y="251424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www.qsrmagazine.com/articles/news/story.phtml?id=968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www.mcdonalds.c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www.mcdonalds.ca/pdfs/3_legged_stool.pd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ANK  YO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46080" y="1479960"/>
            <a:ext cx="648900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20:58:02Z</dcterms:created>
  <dc:creator>user</dc:creator>
  <dc:description/>
  <dc:language>en-US</dc:language>
  <cp:lastModifiedBy>user</cp:lastModifiedBy>
  <dcterms:modified xsi:type="dcterms:W3CDTF">2009-12-07T22:47:03Z</dcterms:modified>
  <cp:revision>156</cp:revision>
  <dc:subject/>
  <dc:title>McDonalds</dc:title>
</cp:coreProperties>
</file>