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7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E7AC-F150-4D34-B7AA-F7F8C09A3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AA21-0CB2-4A15-8529-92A2BBEC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8D67-555E-4DAC-AAF0-2EC1A3FBA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EB1C-18EB-475D-AA68-5B041824A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64F2-9929-4DDC-A909-FF226FB52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025C8-E001-457E-B128-D0DF7D5B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584F-36C4-47EA-86A3-9B710CF5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23A0-4F3A-4F95-A5BD-4472ADAF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49F9-8102-456C-B97B-FD1835F8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E987-39B6-4A98-A972-4980D478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197C-5689-4DB9-8F05-A86D66FF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E8CE-898B-4990-9CEB-F7A04714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2A2C6-2252-4B80-AC92-8FED820E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40A3-3500-4F8B-B270-C1DE5124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2BEF9-CA1D-4363-BD22-A03A5A67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FBE0-16A9-4BC6-9DCF-D06B598CD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3DCAC-EAD5-4DC1-910F-1ADF1AD86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E480-DC3D-44B0-9C4F-EF8D7315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5928-8908-4D95-8B15-74CF82B8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995D-7CEF-4A42-AE84-8AAB39D0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B85F-600E-4CF7-9E1A-FDFAE522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A803-956E-433F-83A7-E452DA27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6624-1FCC-41E8-9F8F-9A948181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A4D0-5E5E-4A40-93ED-8716AC9C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264F-77E5-4B95-9923-DBD7CB33BFD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D032-E6F9-418C-85AB-72FC7C35DB8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arketing-solutions.ru/services/context/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arketing-solutions.ru/services/sites/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arketing-solutions.ru/services/web-analytics/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jpeg"/><Relationship Id="rId9" Type="http://schemas.openxmlformats.org/officeDocument/2006/relationships/image" Target="../media/image22.png"/><Relationship Id="rId10" Type="http://schemas.openxmlformats.org/officeDocument/2006/relationships/image" Target="../media/image23.jpe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ntelis.ru/clients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ntelis.ru/clients/" TargetMode="External"/><Relationship Id="rId2" Type="http://schemas.openxmlformats.org/officeDocument/2006/relationships/hyperlink" Target="http://www.unipravex.ru/" TargetMode="External"/><Relationship Id="rId3" Type="http://schemas.openxmlformats.org/officeDocument/2006/relationships/hyperlink" Target="http://www.unipravex.ru/" TargetMode="External"/><Relationship Id="rId4" Type="http://schemas.openxmlformats.org/officeDocument/2006/relationships/hyperlink" Target="http://www.unipravex.ru/" TargetMode="External"/><Relationship Id="rId5" Type="http://schemas.openxmlformats.org/officeDocument/2006/relationships/hyperlink" Target="http://www.inesnet.ru/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ntelis.ru/clients/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arketing-solutions.ru/services/promo/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Квалификационная работа по направлению промышленного маркетинга. Работу подготовили студентки факультета маркетинга группы 1511.</a:t>
            </a:r>
            <a:br>
              <a:rPr sz="1800"/>
            </a:b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Тема: Консалтинговая компания ИНТЕЛИС и ее подразделение компания «Маркетинговые Решения»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55640" y="3789360"/>
            <a:ext cx="7610400" cy="28576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268360" y="1773360"/>
            <a:ext cx="424836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Департамент Маркетинговых Решени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Контекстная рекла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Что значит аккредитованное агентство контекстной рекламы? Для Вас это бесплатное управление контекстной рекламой сайта, написание рекламных объявлений копирайтером и анализ эффективности рекламной кампании отделом веб-аналитик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692360" y="5157720"/>
            <a:ext cx="547200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Департамент Маркетинговых Решени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Создание сайт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Мы делаем качественные сайты, отвечающие бизнес-целям Клиента. Наши сайты создаются в минимальные сроки и по доступной цене. Закажите у нас сайт и убедитесь сами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476360" y="4941720"/>
            <a:ext cx="588636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Департамент Маркетинговых Решени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Веб-аналити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ак сделать сайт эффективным инструментом бизнеса? Что выгоднее, контекстная реклама или продвижение сайта в поисковых системах? Во сколько мне обходится каждый посетитель моего сайта? Как увеличить отклик от сайта? Как сделать сайт удобным для его использования? Мы знаем ответы на все эти вопросы и поделимся знаниями с Вами..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332000" y="5084640"/>
            <a:ext cx="586908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аши партнер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851280" y="1700280"/>
            <a:ext cx="1474920" cy="1449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5867280" y="1773360"/>
            <a:ext cx="2367000" cy="12222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1258920" y="1700280"/>
            <a:ext cx="1555560" cy="1384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1835280" y="3573360"/>
            <a:ext cx="5538600" cy="20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аши клиент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492360" y="3789360"/>
            <a:ext cx="2592360" cy="5032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284720" y="4653000"/>
            <a:ext cx="2232000" cy="12398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900000" y="4941720"/>
            <a:ext cx="2737080" cy="8575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755640" y="4005360"/>
            <a:ext cx="2376360" cy="6174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6227640" y="3213000"/>
            <a:ext cx="2016360" cy="6048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6"/>
          <a:stretch/>
        </p:blipFill>
        <p:spPr>
          <a:xfrm>
            <a:off x="3203640" y="3068640"/>
            <a:ext cx="2520720" cy="487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7"/>
          <a:stretch/>
        </p:blipFill>
        <p:spPr>
          <a:xfrm>
            <a:off x="826920" y="2924280"/>
            <a:ext cx="2160720" cy="5475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8"/>
          <a:stretch/>
        </p:blipFill>
        <p:spPr>
          <a:xfrm>
            <a:off x="5940360" y="1844640"/>
            <a:ext cx="2521080" cy="10764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9"/>
          <a:stretch/>
        </p:blipFill>
        <p:spPr>
          <a:xfrm>
            <a:off x="6804000" y="4149720"/>
            <a:ext cx="1560600" cy="16574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0"/>
          <a:stretch/>
        </p:blipFill>
        <p:spPr>
          <a:xfrm>
            <a:off x="3564000" y="1916280"/>
            <a:ext cx="2087640" cy="9331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1"/>
          <a:stretch/>
        </p:blipFill>
        <p:spPr>
          <a:xfrm>
            <a:off x="900000" y="1989000"/>
            <a:ext cx="20876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О Компани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О группе «ИНТЕЛИС»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Консалтинговая группа «ИНТЕЛИС» была образована в 2003 году. Сегодня мы объединяем более 100 профессиональных консультантов в области аудита, налогов, оценки, бухгалтерского обслуживания, права, сделок M&amp;A, интеллектуальной собственности и IT решений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Консалтинговая группа «ИНТЕЛИС» имеет несколько офисов в Москве. Более 3 000 организаций уже стали нашими 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клиентами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. Среди них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ОАО «Татнефть»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, группа компаний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«ПИК»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ОАО «Детский мир»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«MAN Financial Services»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и другие компании, составляющие элиту национального и мирового бизнеса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Структура группы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Переступая порог нашего офиса, Вы можете не знать о нашей структуре или принципах нашей работы. Вам просто нужен отличный результат. «Качественно. Быстро. По приемлемой цене.» - эти мысли не дают Вам покоя по пути в большую светлую переговорную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Мы не утверждаем, что можем читать мысли, но мы точно знаем, что нужно нашим клиентам. Именно поэтому структура и принципы работы консалтинговой группы «ИНТЕЛИС» подчинены самому главному – эффективному решению Ваших задач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Группа «ИНТЕЛИС» объединяет шесть департаментов, работа которых построена в соответствии с общими стандартами и принципами. Такая организация обеспечивает тесное взаимодействие между департаментами и позволяет специалистам консалтинговой группы «ИНТЕЛИС» использовать преимущества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комплексного подхода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Структура компании ИНТЕЛИС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5690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Департамент автоматизации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Департамент автоматизации консалтинговой группы «ИНТЕЛИС» - это мобильная и опытная команда профессионалов, которая объединяет программистов, аналитиков и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T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консультантов. В число сотрудников департамента входят 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аттестованные и опытные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пециалисты в области 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страхового, управленческого, бухгалтерского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налогового и кадрового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учета. Это позволяет быстро и уверенно работать над сложными и масштабными задачами, гарантировать качество и повышать эффективность бизнеса наших клиентов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 настоящее время нами успешно реализовано более 100 проектов. Среди наших клиентов 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ОАО «СОГАЗ»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ООО «СОГАЗ - Жизнь»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ООО «Ренессанс - Страхование»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ТД «РОЛЛТОН»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ОАО «Детский мир»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и другие российские и иностранные компании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55640" y="3500280"/>
            <a:ext cx="76201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Департамент аудиторских услуг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Деятельность департамента аудиторских услуг направлена на организацию эффективного менеджмента, безопасность и надежный контроль бизнеса. Мы предлагаем 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комплексные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решения, в основе которых лежит компетентность и профессиональный опыт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о версии авторитетного агентства «Эксперт РА» наша компания входит в 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ТОР 100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ведущих российских аудиторско-консалтинговых групп и является самой молодой и наиболее перспективной из представленных в рейтинге компаний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ысокий профессиональный уровень специалистов и масштабные проекты, успешно реализованные департаментом, стали основой нашего стремительного развития. Сегодня мы можем гордиться нашими клиентами, среди которых 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ОАО «Татнефть»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ООО «MAN Financial Services»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, инвестиционный концерн 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FIM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и другие крупные компани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55640" y="3789360"/>
            <a:ext cx="76201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Департамент бизнес-брокериджа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Деятельность департамента бизнес-брокериджа направлена на организацию и сопровождение сделок по продаже/покупке бизнеса. Консультанты департамента обладают многолетним практическим опытом и отличным знанием рыночной конъюнктуры. Это позволяет нам разрабатывать эффективную стратегию сделок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&amp;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ergers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&amp;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cquisitions –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слияние и поглощение), осуществлять активный поиск контрагентов и добиваться максимального результата в интересах наших клиентов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Гарантировать успех сделки, обеспечить ее выгодность и правовую безопасность – основная задача специалистов нашего департамента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76201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Департамент оценки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Департамент оценки консалтинговой группы «ИНТЕЛИС» объединяет специалистов в области оценки и стоимостного консультирования. Принципы нашей работы – это 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быстрое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и качественное обслуживание, 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объективность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и ответственность за результат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аша компания аккредитована при крупнейших банках. Отчетам специалистов нашего департамента доверяют такие известные российские и иностранные компании как 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ОАО «Татнефть»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«Shell»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«Epson»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, строительный концерн 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«КРОСТ»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и ряд других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клиентов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. По версии рейтингового агентства  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«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Юниправэкс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»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нашей оценочной компании присвоен высокий рейтинговый индекс 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А++1+++1+ [%]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(по итогам 2006 и 2007 года). Мы входим в число 50 наиболее стратегичных оценочных компаний России (по данным рейтинга  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Института экономических стратегий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)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омпания аккредитована при Российском обществе оценщиков (РОО) и действует на основании лицензии (№ 011330) Федерального агентства по управлению федеральным имуществом. Наша профессиональная ответственность застрахована на сумму 20 000 000 рублей (страховой полис «АльфаСтрахование»).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826920" y="3860640"/>
            <a:ext cx="76201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Департамент правовой поддержки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Департамент правовой поддержки консалтинговой группы «ИНТЕЛИС» занимает ведущие позиции на российском рынке юридических и консультационных услуг. По данным независимого агентства «Эксперт РА» наша компания входит в число 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30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лучших юридических компаний России. Мы являемся одной из 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10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российских компаний, лидирующих на рынке услуг в области трудового права, и занимаем 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место среди юридических фирм, работающих в сфере интеллектуальной собственности. Среди наших клиентов 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Всероссийская политическая партия «Единая Россия»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ОАО «Татнефть»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ГК «ПИК»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, компания «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Perfetti Van Melle» (Нидерланды) (владеет торговыми марками «Mentos», «Fruittella», «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Alpenliebe») и другие 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компании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Мы заботимся о том, чтобы наши клиенты чувствовали спокойствие и уверенность в качественном результате. Наша профессиональная ответственность застрахована на сумму 5 000 000 рублей (страховой полис «РОСНО» № Г26 - 122269807/32-01-04). Это позволяет нам 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полностью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исключить риски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и гарантировать надежность нашей юридической компани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84360" y="3860640"/>
            <a:ext cx="76197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Департамент Маркетинговых Решени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Продвижение сайт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Гарантированное достижение позиций, прозрачное ценообразование, оптимальные сроки и оплата за результат – за это нас благодарят Клиенты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619280" y="5229360"/>
            <a:ext cx="554508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3T08:30:50Z</dcterms:created>
  <dc:creator>ryabuha</dc:creator>
  <dc:description/>
  <dc:language>en-US</dc:language>
  <cp:lastModifiedBy>ryabuha</cp:lastModifiedBy>
  <dcterms:modified xsi:type="dcterms:W3CDTF">2009-10-23T09:25:39Z</dcterms:modified>
  <cp:revision>1</cp:revision>
  <dc:subject/>
  <dc:title>Квалификационная работа по направлению промышленного маркетинга. Работу подготовили студентки факультета маркетинга группы 1511. Тема: Консалтинговая компания ИНТЕЛИС и ее подразделение компания «Маркетинговые Решения»</dc:title>
</cp:coreProperties>
</file>