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10C-6719-4DC7-9891-3452AAB6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4F2-1AAC-4A32-ABF5-C772453D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FA6-A9C3-4A7D-B87F-13645D33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E73-4154-4B7B-B192-B1FA6EC9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D29-B227-463F-A6E7-4F5A6971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D89-6A8A-4516-AA8E-CCB09FB8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8C6-D496-477B-A27F-1363B45B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D48-2F94-4964-84F9-3E5864F4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9E4-B547-4FBC-B2E9-E964E447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CE1-72FC-4992-AF8B-780E067D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211-28E5-4F55-BA0F-64EAFE2A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7C3-CF71-43A8-9AE6-A7632DF4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9E64-6B31-47D8-BEC4-09C66C318AB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6600"/>
                </a:solidFill>
                <a:latin typeface="Arial"/>
              </a:rPr>
              <a:t>Гейши.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6600"/>
                </a:solidFill>
                <a:latin typeface="Arial"/>
              </a:rPr>
              <a:t>Правда и миф.</a:t>
            </a:r>
            <a:endParaRPr b="0" lang="en-US" sz="7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328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3573360"/>
            <a:ext cx="2124000" cy="328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6788160"/>
            <a:ext cx="69840" cy="6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95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97164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9001080" y="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69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Последняя частичка прошлого!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49360"/>
            <a:ext cx="529272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 Киото сохранился целый квартал — Гион, где гейши живут уже более двухсот лет. Традиционные двухэтажные дома с четкой геометрией наружных решеток сегодня, в отличие от прежних времен, выглядят загадочно скрытными. Раньше этот квартал наряду с гейшами населяло множество мастеров художественных ремесел, которые обслуживали их. Они создавали кимоно, украшения, обувь, различные аксессуары, музыкальные инструменты, веера, предметы быта. Потомки некоторых из них продолжают здесь жить и работать для гейш, усиливая тем самым атмосферу заповедности этого района.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ейши Киото — самые известные в стране. Они стали частью традиционной культуры, которая делает этот город столь привлекательным. Их можно увидеть на разных празднествах — они проводят чайные церемонии, дают небольшие представления и одним своим присутствием привносят аромат старины.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ждый год в мае со всей страны в Киото съезжаются желающие полюбоваться танцами майко — учениц гейш. Внешне они выглядят как взрослые гейши — в таких же замечательных кимоно, только концы парчовых поясов оби не завязаны, а распущены сзади. Это красивое зрелище стало одним из фестивалей национальных традиций.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олько в Киото существует школа, где девочек с семи-восьми лет начинают обучать искусству гейш — умению петь, танцевать, гримироваться, надевать и носить кимоно, играть на сямисэне — трехструнном инструменте с длинным грифом, проводить чайную церемонию, различным развлекательным играм и, конечно, особому мастерству беседы с мужчинами. Считается, что одной из основных причин притягательности гейш для японских мужчин является их раскрепощенный разговор, естественное общение с ними и умение польстить мужскому самолюбию, что никогда не могли себе которые сформировали, точнее, сковали женский национальный характер.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3635280" cy="6237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6" nodeType="afterEffect" fill="hold" presetClass="entr" presetID="5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2" nodeType="afterEffect" fill="hold" presetClass="entr" presetID="5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наше время, когда в Японии действует закон об обязательном девятилетнем образовании, майко может перейти в разряд гейш только после окончания второй ступени средней школы, т. е. не ранее 15–16 лет. Из Киото молодые гейши разъезжаются по всей стране.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профессия гейши является такой же, как и любая другая творческая деятельность, но времени она отнимает очень много. В 1995 году гейши Киото позволили себе коллективное возмущение своими условиями работы, которые почти не оставляют им личной свободы. Этот фактор вместе с конкуренцией со стороны хостес — девушек в европейских ресторанах и барах, в чьи обязанности также входит развлечение гостей, приводит к сокращению числа гейш. В конце 1920-х гг. их было около 80 тысяч, в конце 1980-х — уже около 10 тысяч, и эта цифра уменьшается.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ынешние гейши — своеобразный осколок старого феодального уклада жизни. Оказавшись в совершенно иной социальной и культурной среде, они как явление безусловно претерпели определенные изменения, но сохранили основное свое назначение — утонченно развлекать гостей. Известно, что сегодня вечер с гейшами стоит немалых денег, само их присутствие, даже весьма краткосрочное, означает высокий уровень банкета. Развлекая гостей, гейши создают для них особую атмосферу комфортности, игровой занимательности и по мере потребности интеллектуального общения.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днее требует от гейш еще и образованности, особенно в области классической восточной литературы и поэзии. Но все-таки вряд ли стоит идеализировать мир гейш. В нем, как и в среде актеров, всегда существовали разные уровни — соответственно таланту и мастерству. Если гейши высокого ранга появляются на банкете ненадолго и мало общаются с гостями, демонстрируя главным образом свое искусство, то их «коллеги» попроще весь вечер могут провести, непринужденно общаясь с клиентами, иногда не отказываясь принять от гостя и чашечку сакэ.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высшую ступень в иерархии занимают таю-сан, своего рода гейши-аристократки. Они ангажированы почти исключительно на официальные правительственные и полуофициальные приемы в чайных домах, на которых японские государственные деятели и бизнесмены решают порой весьма важные политические и экономические вопросы.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7280" y="4575240"/>
            <a:ext cx="6840720" cy="2282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500"/>
                            </p:stCondLst>
                            <p:childTnLst>
                              <p:par>
                                <p:cTn id="283" nodeType="afterEffect" fill="hold" presetClass="entr" presetID="4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0" nodeType="afterEffect" fill="hold" presetClass="entr" presetID="4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7" nodeType="afterEffect" fill="hold" presetClass="entr" presetID="4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3500"/>
                            </p:stCondLst>
                            <p:childTnLst>
                              <p:par>
                                <p:cTn id="3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58920" y="0"/>
            <a:ext cx="6337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8100000"/>
                </a:gradFill>
                <a:latin typeface="Impact"/>
              </a:rPr>
              <a:t>Кимо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628640"/>
          <a:ext cx="8229600" cy="522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 txBox="1"/>
          <p:nvPr/>
        </p:nvSpPr>
        <p:spPr>
          <a:xfrm>
            <a:off x="1332000" y="1700280"/>
            <a:ext cx="6705360" cy="34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8100000"/>
                </a:gradFill>
                <a:latin typeface="Times New Roman"/>
              </a:rPr>
              <a:t>Как будто аромат душистой сли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81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8100000"/>
                </a:gradFill>
                <a:latin typeface="Times New Roman"/>
              </a:rPr>
              <a:t>Мне сохранили эти руков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81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8100000"/>
                </a:gradFill>
                <a:latin typeface="Times New Roman"/>
              </a:rPr>
              <a:t>Лишь аромат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81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8100000"/>
                </a:gradFill>
                <a:latin typeface="Times New Roman"/>
              </a:rPr>
              <a:t>Но не венется т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81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8100000"/>
                </a:gradFill>
                <a:latin typeface="Times New Roman"/>
              </a:rPr>
              <a:t>Кого люблю, о ком тоску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8100000"/>
              </a:gradFill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105440" cy="266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4103640" cy="2565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3280" y="4292640"/>
            <a:ext cx="4105440" cy="2565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39640" y="1628640"/>
            <a:ext cx="4103640" cy="2664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7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7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0"/>
            <a:ext cx="500364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кимоно, необычайно интересная и многообразная, является одной из прекрасных страниц японского декоративного искусства, в которой ярко отражены этика, эстетика и особенности бытовой культуры японского народа.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юбой национальный костюм так или иначе отражает особенности материальной и культурной жизни народа, в том числе и национальный характер.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в полной мере относится и к кимоно, которое в XX веке приобрело большую популярность в мире. Тип кроя, силуэт, отдельные детали и мотивы активно использовались в интернациональной моде, но само кимоно в его традиционном виде по сей день остается для иностранцев одной из наиболее труднопостигаемых областей японской культуры. Есть немало представителей западного мира, до тонкостей изучивших японский язык и литературу, музыку, чайную церемонию, икэбану, боевые искусства и т.д., но даже они не умеют обращаться с традиционным японским кимоно. Много говорилось и писалось о том, что кимоно  действительно зрительно корректирует пропорции тела, но дело не только в создании иллюзии стройности. Кимоно не просто регламентирует рисунок и ритм движений, но и является своего рода фокусом национальной психологии. Японка в кимоно воплощает эталон сдержанной грации, мягкой женственности и скромного обаяния. То, что именно кимоно "участвует" в создании образа, подтверждается тем, что в европейской одежде те же японские дамы воспринимаются иначе.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4864" r="0" b="0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7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7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7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7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Декор кимоно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47628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кор кимоно всегда связан с временами года и отражает поэзию и символику природных явлений.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имоно еще остается в жизни современных японцев, хотя и очень ограниченно. Чаще всего национальный костюм надевается в связи с праздничными и торжественными событиями. Нарядные, яркие кимоно с меховой опушкой по вороту можно увидеть на современных девушках в Новый год. Такие же красивые, но без меха кимоно надеваются многими на официальную церемонию в День совершеннолетия, который отмечается в январе 20-летними японцами. В марте на улицах больших городов появляются девушки в светлых, как правило, однотонных, кимоно и темных хакама (широкая складчатая юбка-брюки), завязывающихся поверх кимоно выше пояса. Это выпускницы университетов в день вручения им дипломов.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адиционные мужские кимоно, строгие, темных расцветок, теряются на фоне необычайно богатых декоративными эффектами женских образцов. Но как благородно и представительно выглядят мужчины в официальном костюме, включающем хакама! Мужчин в кимоно сегодня можно встретить еще реже, чем женщин, надевают их главным образом представители художественных профессий и вообще интеллигенции.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которое время назад в Москву приезжал Сэн Сосицу - глава школы чайной церемонии Урасэнкэ. До сих пор помню, как элегантно выглядел он в черном кимоно с гербами.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понские дизайнеры кимоно, отвечающие на неиссякаемый спрос иностранцев, создали специальный вид кимоно, вернее стилизацию под традиционное кимоно. Он представляет собой адаптированный вариант: покрой и внешний вид сохранены, пояс оби из-за трудностей завязывания заменен на привычный нам. В отличие от традиционного кимоно, которое шьется вручную, поэтому стирке не подлежит, это кимоно можно стирать.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slow" advTm="3000">
    <p:newsflash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3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5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Важнейшие даты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484280"/>
            <a:ext cx="8569080" cy="52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искусства гейши восходит к мастерству сабуруко (VII век) и сирабёси (начало XIII век) - женщин-увеселительниц.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обнесенные стеной «веселые кварталы» появились в Японии только в конце XVI века.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поху Эдо (1600-1868) Япония была несколько оторвана от остального мира и закрыта для внешних влияний, поэтому этот период, завершающий японское средневековье, принято считать временем расцвета японской культуры и искусства.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17 г. появилась знаменитая Ёсивара в Эдо (Токио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40 г. — Симабара в Киото.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цу XVII — началу XVIII в. дзёро уже прочно заняли свою определенную нишу в городской жизни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95 году гейши Киото позволили себе коллективное возмущение своими условиями работы, которые почти не оставляют им личной свободы.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slow" advTm="3000"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1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1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Этимология слова гейша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4038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йши остались не только в художественных произведениях. Они существуют и в современной Японии и их ремесло процветает. Однако в современном обществе гейши играют не столь важную роль, как прежде.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57" name="g03" descr="Гейши Киото - самые известные в Японии"/>
          <p:cNvPicPr/>
          <p:nvPr/>
        </p:nvPicPr>
        <p:blipFill>
          <a:blip r:embed="rId2"/>
          <a:stretch/>
        </p:blipFill>
        <p:spPr>
          <a:xfrm>
            <a:off x="5219640" y="1052640"/>
            <a:ext cx="338616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2205000"/>
            <a:ext cx="381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и ведут настолько скромный образ жизни, что привлекают внимание только вездесущих туристов с фотокамерами, которые воспринимают их как одну из экзотических достопримечательностей. По сути, большинство женщин, которые попадают в объектив фотокамер, относятся к категории maiko (ученицы, которые готовятся стать гейшами), или же это сами туристы, на несколько часов загримированные и ищущих приключений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064120"/>
            <a:ext cx="3816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во «гейша» в русском языке появилось в результате неправильной транскрипции английского написания слова «гэйся». Гэйся можно перевести как «человек искусства» или «человек, обладающий мастерством». Так или иначе, но все говорит о творческом характере этой професс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slow" advTm="3000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9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820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19280" y="0"/>
            <a:ext cx="56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История гейши</a:t>
            </a: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04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6280"/>
            <a:ext cx="914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искусства гейши восходит к мастерству сабуруко (VII век) и сирабёси (начало XIII век) - женщин-увеселительниц. Оставшиеся без мужской защиты женщины - вдовы, сироты - вынуждены были бродить по стране, предлагая за деньги или еду сексуальные услуги. Большинство из них были представительницами беднейших слоев, но среди них встречались и оказавшиеся волей несчастной судьбы в таком положении образованные и культурные дамы, знакомые с искусством танца, пения, игры на музыкальных инструментах. Таких сабуруко нередко приглашали для увеселения различных пирушек. В конце XII - начале XIII Япония переживала трудные времена, власть переходила от аристократии к воинскому сословию самураев. Юным отпрыскам обнищавших благородных фамилий не оставалось ничего иного, как собственными силами обеспечивать себе жизнь и пропитание. Высокообразованные девушки, бывшие аристократки, знакомые с музыкой, поэзией, изящными манерами, вынуждены были увеселять мужчин, развлекая мужские вечеринки. Таких девушек называли сирабёси по названию старого танца, который женщины исполняли, переодевшись в мужские костюмы. Некоторые сирабёси достигали умопомрачительных высот и становились любовницами императора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50028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ые обнесенные стеной «веселые кварталы» появились в Японии только в конце XVI века. Как и многие другие аспекты японской культуры, они имитировали подобные заведения в Китае эпохи династии Минь. В середине XVII века увеселительные кварталы были перенесены в другое место и стали известны как Шимабара (по названию крепости в Кюсю)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365720"/>
            <a:ext cx="932508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жду тем, болотистая местность (Йошивара) в городе Эдо была определена как место для квартала борделей. Было это в эпоху правления клана Токугава, который не только санкционировал проституцию, но всячески покровительствовал гейшам. Однако публичные дома и прочие увеселительные заведения было строго-настрого запрещено открывать за пределами «веселого квартала». За нарушение этого запрета полагалось суровое наказание. Кроме того, существовали строгие правила посещения Йошивары: клиентам (или, как их вежливо называли, гостям) было запрещено оставаться в борделе более суток; куртизанки должны были носить только кимоно с самым незамысловатым узором; о любых подозрительных или незнакомых посетителях обитательницы Йошивары должны были обязательно докладывать правителю города. </a:t>
            </a:r>
            <a:br>
              <a:rPr sz="1400"/>
            </a:b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slow" advTm="3000"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5580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гда в Японии наконец прекратились многовековые междоусобные войны и наступил долгожданный мир, множество самураев оказались не у дел - в их услугах больше никто не нуждался. Существует мнение, что многие дочери этих когда-то благородных и богатых семей были вынуждены стать куртизанками, чтобы не умереть с голода, поэтому кварталы развлечений вроде Йошивары и Шимабары часто были центрами культурной жизни, где процветало искусство. Мир также способствовал росту благосостояния населения и формированию прослойки зажиточных горожан (chonin), что, в свою очередь, привело к развитию искусства и ремесел. В квартале развлечений царила беззаботная атмосфера, здесь не действовали законы и ограничения внешнего мира. По сути, подобные кварталы были чем-то вроде луна-парков для взрослых, которые работали круглосуточно, и обитательницы которых заботились не только о плотских утехах, но и культурном развитии и душевном отдыхе своих гост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997360"/>
            <a:ext cx="5364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и в японском обществе, в обществе гейш существовала своя иерархия, в которой было четко определено положение куртизанки. На протяжении десятилетий, «профессиональные требования» несколько раз менялись, и не всегда в лучшую сторону. В середине XVIII века ситуация ухудшилась настолько, что в Киото и Осаке возникла новая профессия, связанная с увеселением гостей без обязательного оказания сексуальных услуг. Первыми гейшами (или geiko) были мужчины, а первые женщины-гейши (которые появились очень скоро) развлекали гостей только танцами (odorikо) или игрой на шамисене. Женщины-гейши быстро стали популярными настолько, что к ним перешло большинство клиентов традиционных проституток. В Йошиваре даже решено было завести kenban - свод правил и специальную картотеку, в которую заносили всех гейш и представительниц древнейшей профессии, чтобы контролировать их действия и вынудить их платить налоги. Кенбан подробно описывал все детали одежды каждого класса обитательниц Йошивары, определял манеру поведения и даже допустимые движения. Это нововведение оказалось настолько успешным, что быстро стало стандартом во всех увеселительных кварталах Япон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slow" advTm="3000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6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41964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ля того чтобы стать гейшей, необходимо долго учиться: процесс обучения занимал несколько лет. Как правило, гейшами становились девочки из бедных семей, проданные своими родителями тому или иному дому гейш — окейе. В таком случае обучение начиналось с момента вступления в окейю, но случалось, что у гейши рождалась девочка, которая шла по стопам своей матери: тогда обучение начиналось с трехлетнего возраста. Достигнув определенного уровня в искусствах, девочка была готова начать профессиональную карьеру. Вначале ее везде сопровождала старшая сестра, знакомившая ее со своими клиентами, владельцами чайных домов, парикмахерами, продавцами косметики и галантереи и т. п., и разными способами способствовала развитию ее карьеры. Начинающая гейша называлась «мэйко», что значит «ученица». По достижении совершеннолетия она, в случае утраты девственности, становилась полноправной гейшей, но отношения со своей сестрой сохраняла до конца жизни. Набравшись опыта, она могла и сама взять подопечную. Отношение к девственности в культуре гейш было очень трепетным. Девицы, обучающиеся искусству быть гейшей, понятия не имели об интимной стороне отношений с мужчинами. Главным достоинством мэйко как раз и была ее невинность, а право первой ночи ценилось очень высоко.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0"/>
            <a:ext cx="2987640" cy="69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ужчины покупали это право, что приносило немало денег окейе. Затем гейши строго следили за своей репутацией, стараясь любыми способами ее сохранить. Это было важно и для популярности гейши, а также для того, чтобы обзавестись «данна» — покровителем. Как правило, это были чисто коммерческие отношения: гейша дарила мужчине свидания наедине, а тот должен был оплачивать полностью или частично, в зависимости от своего финансового состояния, многочисленные расходы своей любовницы. Это было выгодно и для гейши, и для ее ВЦ окейи, и чрезвычайно льстило мужчи-не. Чем более популярна была гейша, тем больше предложений она получала, тем более дорогие наряды могла она себе позволить и тем самым лишь увеличивать свою популярность. В конечном итоге гейша не только обладала различными талантами, но и сама была своеобразным произведением искусства. Это подчеркивается ее нарядами, ее макияжем, напоминающим театральную маску, ее прической, ее неестественной манерой ходить и т. п. Гейши творили красоту своим присутствием, и именно поэтому их так высоко ценили.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1150920" cy="2781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348000" y="4437000"/>
            <a:ext cx="1015920" cy="2205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003640" y="4437000"/>
            <a:ext cx="1141560" cy="2210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148360" y="0"/>
            <a:ext cx="1071360" cy="270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924360" y="2708280"/>
            <a:ext cx="1800000" cy="1784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5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6516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достижении совершеннолетия гейша начинала работать по индивидуальному графику, оплата же труда была повременной с фиксированной ставкой за один час времени с клиентом. С самого начала своей карьеры гейши создавали себе репутацию, которую старались поддерживать всеми силами. Очень часто индивидуальный график предусматривал то, что гейша находила себе покровителя - «данна», с которым и проводила большую часть своего рабочего времени. Взамен того, что гейша уделяла ему время наедине, покровитель оплачивал её расходы (что было весьма нелёгким бременем – цены на одни только кимоно были заоблачными), а также способствовал её «карьерному росту», т.е. росту популярности. Гейши совершенно необязательно заводили себе покровителей, но без этой поддержки они не могли оставить окия и матушек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3894" t="0" r="22666" b="0"/>
          <a:stretch/>
        </p:blipFill>
        <p:spPr>
          <a:xfrm>
            <a:off x="637236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716280"/>
            <a:ext cx="6300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 своих доходов гейши отдавали в счёт заведения, зачастую часть была довольно значительной, поэтому и вырваться из-под такой «опёки» было довольно затруднительно. Были случаи, когда бездетные хозяйки окия удочеряли какую-либо из своих гейш для того, чтобы передать им окия в наследство. Таким образом они получали в своё пользование весь доход этих гейш, а сами гейши получали доступ к обширной коллекции кимоно, без которого деятельность гейш была просто невозможной, а также со временем гейша могла получить окия в наследство – т.е. обе стороны были вполне довольны создавшимся союзом. </a:t>
            </a:r>
            <a:br>
              <a:rPr sz="1600"/>
            </a:b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slow" advTm="3000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Гейша в современном мире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04640"/>
            <a:ext cx="5435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егодня гейша является одной из вполне обычных творческих профессий, как и многие другие, отнимающей много времени. К тому же гейш становится всё меньше и меньше – сказывается конкуренция с хостесс (девушки-хостесс развлекают гостей в ресторанах и барах, после чего счёт клиенту предъявляется поистине астрономический). В конце 20-х гг. прошлого века гейш было около 80 тысяч, в 80-х – уже около 10 тысяч, сейчас же гейш осталось не более тысячи, из которых в Киото проживает около сотни. Сегодня вечер с гейшами стоит немалых денег, а само их присутствие обозначает высокий уровень банкета. </a:t>
            </a:r>
            <a:endParaRPr b="0" lang="en-US" sz="13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3708360" cy="6308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2637000"/>
            <a:ext cx="536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днако, мир гейш не столь идеален, как может показаться, в нём, как и в более обширном социуме, выделяются различные индивиды, с самыми разными жизненными ценностями и установками, у которых существуют самые различные потребности. Если взять за пример вышеописанный банкет, то «высокие» гейши на нём в первую очередь будут демонстрировать собственное искусство, а их товарки рангом пониже и сакэ выпить не откажутся (следует отметить, что среди гейш не принято принимать пищу и, тем более, спиртное, во время своих представлений)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869000"/>
            <a:ext cx="514836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 искажение образа гейши внесли свою лепту американские солдаты во времена Второй Мировой войны – гейшами они называли японок, отдававшихся им от безысходности и крайней нужды (это послужило ассоциацией гейша=проститутка), собственно, эти японки также называли себя гейшами, дабы заинтересовать клиентов, но при этом таковыми не являлись. </a:t>
            </a:r>
            <a:endParaRPr b="0" lang="en-US" sz="13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 spd="slow" advTm="3000">
    <p:newsflash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0" b="4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0"/>
            <a:ext cx="45352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временная поп-культура совершенно извратила образ гейши в глазах людей Запада: появление определённых романов, посвящённых гейшам, экранизаций, появления звёзд шоу-бизнеса в образе «гейш» - всё это наложило определённый отпечаток на восприятие гейш, как представительниц восточной культуры, и отпечаток неправильный. Также следует учитывать, что авторы большинства изданных на Западе романов о гейшах и их быте не соответствует истинным событиям того времени, а является не более чем стилизацией в угоду жадной до «восточных изысков» публике. При желании узнать больше о культуре и быте обитательниц Весёлых кварталов лучше опираться на произведения классических японских авторов.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, напоследок, гейша как профессия и как образ жизни на сегодня постепенно изживает себя, становясь не более чем приработком для хорошенькой японки. К сожалению…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 этом легко убедиться, просто посмотрев на гейш вблизи. Весь их внешний вид, по сути, является маской, которая определена им традиционным положением в обществе. Нарядные, с высокими старинными прическами (сегодня это парики), они далеки от реальной действительности и напоминают скорее красавиц со знаменитых японских гравюр XVIII–XIX вв. Однако при более близком рассмотрении красавицами их назвать трудно — невероятно толстый слой пудры превращает даже молодые, хорошенькие лица в неестественно белые маски с вычерненными по старинной моде зубами. Мало того, нередко можно встретить гейш среднего и даже почтенного возраста. Хорошему вину время прибавляет крепости и аромата, гейшам — мастерства и умудренности. 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21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6" nodeType="afterEffect" fill="hold" presetClass="emph" presetID="8">
                                  <p:stCondLst>
                                    <p:cond delay="5500"/>
                                  </p:stCondLst>
                                  <p:childTnLst>
                                    <p:animRot by="21600000">
                                      <p:cBhvr>
                                        <p:cTn id="22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9:35:45Z</dcterms:created>
  <dc:creator>Mawka</dc:creator>
  <dc:description/>
  <dc:language>en-US</dc:language>
  <cp:lastModifiedBy>Mawka</cp:lastModifiedBy>
  <dcterms:modified xsi:type="dcterms:W3CDTF">2007-05-14T19:48:13Z</dcterms:modified>
  <cp:revision>19</cp:revision>
  <dc:subject/>
  <dc:title>Слайд 1</dc:title>
</cp:coreProperties>
</file>