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D07-D24F-48B9-8F20-B18A039B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D64-8B58-4949-A672-5582FF13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06A-E0D4-4A26-82D6-840577C3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154-DEA6-4258-93B8-F19E5ED5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E83D-7DE0-47FE-9F01-EC198DE5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3A1-9FFE-4356-BD94-76114C7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B687-D80D-4B69-9DD7-BFCEC647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DAAA-D3BF-40BC-B3EE-FC2FC607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03D-1A5F-4D5F-890B-97336B09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EE72-2D40-4C17-A9FF-45733F72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1B8-CDF0-4CF0-9CE8-BFD2221B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9CC-478E-42DE-9F82-541D44AC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01C2-CCA7-44B1-B7B4-232B4C7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BEC2-D9D2-4BC3-AB35-8EF03DF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02A-7CFF-4542-8074-8E4D7A1D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0F94-92E4-4CD5-ABBD-E6F54AD7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77DD-D229-41DE-B7C0-E979C12B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8E4-8CF4-41FD-A5A9-F9E92700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B59-14FF-47C4-9A33-2654393C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219-510A-436B-8893-10F7E9AB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85F-2CE4-40DE-9DE5-9313E3ED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135-61A1-4108-BF38-DFCDE96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787-3306-40F7-8FA3-1AB2DD6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FA5-25CE-4262-A5F7-A142F583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6765-EB65-4A30-AF3F-EB4BE21909A5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900E-304E-4CA7-9208-A9C991221E5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66ff"/>
                </a:solidFill>
                <a:latin typeface="Times New Roman"/>
              </a:rPr>
              <a:t>Сказки.</a:t>
            </a:r>
            <a:endParaRPr b="0" lang="en-US" sz="10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920" y="3860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Выполнили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Ученицы 6 «В» класс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Юрченко Анастасия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Шуракова Евгения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Беньковская Наталь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1341360"/>
            <a:ext cx="43531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казочный мир Ершова органично слит с крестьянской повседневностью и даже волшебные, сказочные образы обладают земной красотой, земными чертам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апример, Жар-птица – это ветер, облако, молния плюс жар в крестьянской печи, рыжий петух за околицей. С ней связан и образ зарницы (когда над хлебным полем вспыхивают огоньки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Царь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-девица живет в сказочном золотом дворце, этот мотив тоже взят из народного фольклора, точнее периода языческих поверий о дворце бога – Ярилы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дъезжают; у воро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Из столбов хрустальный свод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се столбы те завит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Хитро в змейки золотые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На верхушках три звезды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округ терема сады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На серебряных там ветках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В раззолоченных во клетках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тицы райские живут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4353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ршовский Иванушка – типичный персонаж русского фольклора. Он дурачит окружающих, разыгрывает из себя глупца. Он не жаден, ему не нужны деньги, почести и слава. Среди других героев Иванушка-дурачок, самый свободолюбивый человек. Он простодушен, но правдив. В общении с царем он свободен и смел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Чудно дело! Так и быть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Стану царь тебе служить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Только чур со мной не дратьс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И давай мне высыпаться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А не то я был тако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2320" y="1125000"/>
            <a:ext cx="3810240" cy="49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Град небесный у Ершова явно выраженные русские черты. Иллюстрация Милославского В.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280" y="765000"/>
            <a:ext cx="817092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браз Конька-Горбунка, можно сказать «двойник» Иванушки-дурачка. Иванушка-дурачок под своей глупость прячет качества, которые свойственны русскому богатырю, Конек-Горбунок – «паршивенький» жеребенок, который также таит все признаки могучего коня. Конек-Горбунок не только чудесный помощник (как в народной сказке), а еще и верный друг и товарищ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Ершов сохраняет традиционные повторы в сказке (братья идут сторожить хлеба), совмещает народные и литературные традиции того времен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Ершов уловил и воплотил в своей «волшебной сказке» самую суть народной культуры, которая связана с ранними языческими и с более поздними христианскими представлениям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Биографическая справк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380952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Ершов Петр Павлович - известный писатель (1815 - 1869), уроженец Сибири; образование получил в Петербургском университете; был директором Топольской гимназии. Печатал стихотворения в "Библиотеке для Чтения" Сенковского и в "Современнике" Плетнева . Известность доставила Ершову сказка "Конек-Горбунок", написанная им еще на студенческой скамье и впервые напечатанная отрывком в 3 т. "Библиотеки для Чтения" 1834 г., с похвальным отзывом Сенковского; первые четыре стиха сказки набросал Пушкин, читавший ее в рукописи. "Теперь этот род сочинений можно мне и оставить", - сказал тогда Пушкин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264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0160" y="907560"/>
            <a:ext cx="7772400" cy="488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еликому поэту понравилась легкость стиха, с которым - говорил он - Ершов "обращается как с своим крепостным мужиком". Вслед затем она вышла отдельной книжкой и при жизни Ершова выдержала 7 изданий; начиная с 4-го издания, в 1856 г., она выходила с восстановлением тех мест, которые в первых изданиях заменены были точками. "Конек-Горбунок" - произведение народное, почти слово в слово, по сообщению самого автора, взятое из уст рассказчиков, от которых он его слышал; Ершов только привел его в более стройный вид и местами дополнил. Простой, звучный и сильный стих, чисто народный юмор, обилие удачных и художественных картин (конный рынок, земский суд у рыб, городничий) доставили этой сказке широкое распространение; она вызвала несколько подражаний (например, Конек-Горбунок с золотой щетинкой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казка понятие обобщающее. Наличие определенных жанровых признаков позволяет отнести то или иное прозаическое произведение к сказкам. Жизнь сказки - это непрерывный творческий процесс. В каждую эпоху происходит частичное или полное обновление сказочного сюжета. И на примере сказки П.П. Ершова «Конек-горбунок» мы проследим проявление народных традиций в литературной сказк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Times New Roman"/>
              </a:rPr>
              <a:t>Анализ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.П. Ершов еще будучи гимназистом увлекался фольклором. «Среди стариков он внимательно прислушивался к рассказам о поверьях, обычаях, жизни русского народа». В 1834 году сказка Ершова предстала на суд взыскательной публики и до сих пор является образцом литературной обработки народной сказки. В чем же ее особенность? На мой взгляд в отношении писателя к форме повествования: здесь ощущается влюбленный в свое дело русский сказочник, а не просто писатель, интерпретирующий сказк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0160" y="33300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роме того, «Конек-горбунок» состоит из ряда сказочных сюжетов, которые появляются в народных сказках. Например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ец поручает трем сыновьям оберегать свое добро, а выполняет это младший сын (в народной сказке это вариация конфликта главного героя с социальными силами - предательство старших братьев или тема несправедливого раздела имущества)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удесный конь помогает положительному геро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еро чудесной птицы приносит горе и т.п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е эти мотивы встречаются в сказках «Сивка-бурка», «Свинка – золотая щетинка», «Жар-птица и Василиса-царевна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76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836640"/>
            <a:ext cx="7772400" cy="53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Ершов в сказке удивительно точно передает мифическое мироощущение народа. Уже с первых строк мы видим не невежественный русский народ, с ограниченным кругозором, а ум способный мыслить возвышенно, величественно. Ершов не просто говорит, что в такой-то семье живет такой-то мужик, а выносит повествование за рамки обыденности на какой-то вселенский простор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За горами, за лесами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За широкими полями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Против неба – на земле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Жил старик в одном сел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907560"/>
            <a:ext cx="4280040" cy="488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ело – это частичка вселенной, но автор показывает и более реальную жизнь крестьянского народа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Братья сеяли пшеницу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Да возили в град-столицу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Знать, столица та был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Недалече от сел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816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0160" y="98100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сказке по народному показаны и праздничные стороны крестьянского труд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Чистить коней начинает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Умывает, убирает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Гривы длинные плетет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Разны песенки поет…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А убрав их в оба чан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Нацедить сыты медвяной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И насыпал дополн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Белоярого пшен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46:55Z</dcterms:created>
  <dc:creator>Беньковская</dc:creator>
  <dc:description/>
  <dc:language>en-US</dc:language>
  <cp:lastModifiedBy>Беньковская</cp:lastModifiedBy>
  <dcterms:modified xsi:type="dcterms:W3CDTF">2007-01-31T10:15:12Z</dcterms:modified>
  <cp:revision>2</cp:revision>
  <dc:subject/>
  <dc:title>Сказки.</dc:title>
</cp:coreProperties>
</file>