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71D-E7CC-4997-87B9-4474DD00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FC0-6790-42DF-A78B-40A26287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AE5-9AE0-4C03-856E-28EFA451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71C-EF67-4A0A-99B2-BDB65956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3807-C47F-4967-85AE-E2E01EBC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9286-3EE7-4A17-BDA5-A22DD264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4733-C65D-4494-9B6F-C4527FA4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CED6-D83D-4D45-8420-072C52CE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3330-DB61-436C-9D54-118EF62B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6892-6EAF-44DE-9C2A-0593B663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74BA-91FF-4283-B962-11494C29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684-7DC8-4A62-9D2C-B7752E8C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3D92-A191-4882-9858-17B9EA05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1E8D-CD21-4350-B59E-F567E78D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BAA7-BAE6-4332-88D1-FBC85E9F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BB45-59D1-4A84-B41B-AC233143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D1F7-6778-4BA8-84B7-60458746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9C0-3E8D-4A7B-B2BB-E10ADA32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DD7A-5633-4245-A56F-9AA555C9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7B0-78AC-4DE3-9380-815C4E75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09D-27E3-4DE3-9491-17613685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7CF-E98B-4B19-B368-192360CC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C70-A320-4957-9903-441C9D9E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8F5-29B2-43A9-A20C-21101D9D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1A7A-6A32-40CE-A77E-E20DCEA30C0E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BABC-C901-4FD4-975F-9E4D30205D61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66ff"/>
                </a:solidFill>
                <a:latin typeface="Times New Roman"/>
              </a:rPr>
              <a:t>Сказки.</a:t>
            </a:r>
            <a:endParaRPr b="0" lang="en-US" sz="10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50920" y="3860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Выполнили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Ученицы 6 «В» класс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Юрченко Анастасия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Шуракова Евгения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Беньковская Наталь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1341360"/>
            <a:ext cx="43531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Сказочный мир Ершова органично слит с крестьянской повседневностью и даже волшебные, сказочные образы обладают земной красотой, земными чертами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Например, Жар-птица – это ветер, облако, молния плюс жар в крестьянской печи, рыжий петух за околицей. С ней связан и образ зарницы (когда над хлебным полем вспыхивают огоньки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289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Царь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-девица живет в сказочном золотом дворце, этот мотив тоже взят из народного фольклора, точнее периода языческих поверий о дворце бога – Ярилы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одъезжают; у ворот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Из столбов хрустальный свод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се столбы те завитые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Хитро в змейки золотые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На верхушках три звезды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округ терема сады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На серебряных там ветках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ff"/>
                </a:solidFill>
                <a:latin typeface="Arial"/>
              </a:rPr>
              <a:t>В раззолоченных во клетках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тицы райские живут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26920" y="836640"/>
            <a:ext cx="435312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Ершовский Иванушка – типичный персонаж русского фольклора. Он дурачит окружающих, разыгрывает из себя глупца. Он не жаден, ему не нужны деньги, почести и слава. Среди других героев Иванушка-дурачок, самый свободолюбивый человек. Он простодушен, но правдив. В общении с царем он свободен и смел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Чудно дело! Так и быть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Стану царь тебе служить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Только чур со мной не драться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И давай мне высыпаться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А не то я был таков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2320" y="1125000"/>
            <a:ext cx="3810240" cy="49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Град небесный у Ершова явно выраженные русские черты. Иллюстрация Милославского В.А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21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71280" y="765000"/>
            <a:ext cx="8170920" cy="502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Образ Конька-Горбунка, можно сказать «двойник» Иванушки-дурачка. Иванушка-дурачок под своей глупость прячет качества, которые свойственны русскому богатырю, Конек-Горбунок – «паршивенький» жеребенок, который также таит все признаки могучего коня. Конек-Горбунок не только чудесный помощник (как в народной сказке), а еще и верный друг и товарищ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Ершов сохраняет традиционные повторы в сказке (братья идут сторожить хлеба), совмещает народные и литературные традиции того времени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Ершов уловил и воплотил в своей «волшебной сказке» самую суть народной культуры, которая связана с ранними языческими и с более поздними христианскими представлениями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Биографическая справка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380952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Ершов Петр Павлович - известный писатель (1815 - 1869), уроженец Сибири; образование получил в Петербургском университете; был директором Топольской гимназии. Печатал стихотворения в "Библиотеке для Чтения" Сенковского и в "Современнике" Плетнева . Известность доставила Ершову сказка "Конек-Горбунок", написанная им еще на студенческой скамье и впервые напечатанная отрывком в 3 т. "Библиотеки для Чтения" 1834 г., с похвальным отзывом Сенковского; первые четыре стиха сказки набросал Пушкин, читавший ее в рукописи. "Теперь этот род сочинений можно мне и оставить", - сказал тогда Пушкин. 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2264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70160" y="907560"/>
            <a:ext cx="7772400" cy="488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еликому поэту понравилась легкость стиха, с которым - говорил он - Ершов "обращается как с своим крепостным мужиком". Вслед затем она вышла отдельной книжкой и при жизни Ершова выдержала 7 изданий; начиная с 4-го издания, в 1856 г., она выходила с восстановлением тех мест, которые в первых изданиях заменены были точками. "Конек-Горбунок" - произведение народное, почти слово в слово, по сообщению самого автора, взятое из уст рассказчиков, от которых он его слышал; Ершов только привел его в более стройный вид и местами дополнил. Простой, звучный и сильный стих, чисто народный юмор, обилие удачных и художественных картин (конный рынок, земский суд у рыб, городничий) доставили этой сказке широкое распространение; она вызвала несколько подражаний (например, Конек-Горбунок с золотой щетинкой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Введение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казка понятие обобщающее. Наличие определенных жанровых признаков позволяет отнести то или иное прозаическое произведение к сказкам. Жизнь сказки - это непрерывный творческий процесс. В каждую эпоху происходит частичное или полное обновление сказочного сюжета. И на примере сказки П.П. Ершова «Конек-горбунок» мы проследим проявление народных традиций в литературной сказк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Times New Roman"/>
              </a:rPr>
              <a:t>Анализ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.П. Ершов еще будучи гимназистом увлекался фольклором. «Среди стариков он внимательно прислушивался к рассказам о поверьях, обычаях, жизни русского народа». В 1834 году сказка Ершова предстала на суд взыскательной публики и до сих пор является образцом литературной обработки народной сказки. В чем же ее особенность? На мой взгляд в отношении писателя к форме повествования: здесь ощущается влюбленный в свое дело русский сказочник, а не просто писатель, интерпретирующий сказк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308720" y="486900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0160" y="33300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роме того, «Конек-горбунок» состоит из ряда сказочных сюжетов, которые появляются в народных сказках. Например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тец поручает трем сыновьям оберегать свое добро, а выполняет это младший сын (в народной сказке это вариация конфликта главного героя с социальными силами - предательство старших братьев или тема несправедливого раздела имущества)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Чудесный конь помогает положительному герою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еро чудесной птицы приносит горе и т.п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се эти мотивы встречаются в сказках «Сивка-бурка», «Свинка – золотая щетинка», «Жар-птица и Василиса-царевна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376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71600" y="836640"/>
            <a:ext cx="7772400" cy="53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Ершов в сказке удивительно точно передает мифическое мироощущение народа. Уже с первых строк мы видим не невежественный русский народ, с ограниченным кругозором, а ум способный мыслить возвышенно, величественно. Ершов не просто говорит, что в такой-то семье живет такой-то мужик, а выносит повествование за рамки обыденности на какой-то вселенский простор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За горами, за лесами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За широкими полями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Против неба – на земле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Жил старик в одном сел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907560"/>
            <a:ext cx="4280040" cy="488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ело – это частичка вселенной, но автор показывает и более реальную жизнь крестьянского народа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Братья сеяли пшеницу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Да возили в град-столицу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Знать, столица та был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Недалече от сел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816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0160" y="981000"/>
            <a:ext cx="7772400" cy="48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сказке по народному показаны и праздничные стороны крестьянского труд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Чистить коней начинает,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Умывает, убирает,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Гривы длинные плетет,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Разны песенки поет…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А убрав их в оба чан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Нацедить сыты медвяной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И насыпал дополн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Белоярого пшен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9:46:55Z</dcterms:created>
  <dc:creator>Беньковская</dc:creator>
  <dc:description/>
  <dc:language>en-US</dc:language>
  <cp:lastModifiedBy>Беньковская</cp:lastModifiedBy>
  <dcterms:modified xsi:type="dcterms:W3CDTF">2007-01-31T10:15:12Z</dcterms:modified>
  <cp:revision>2</cp:revision>
  <dc:subject/>
  <dc:title>Сказки.</dc:title>
</cp:coreProperties>
</file>