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550-DBBF-48A9-8438-4A797E51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DC3-D955-401F-9FF8-EF0CB563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7DE-DE96-4736-8FA6-705402C1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5CC-5654-49BD-B8EE-EBAE33BA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004D-0913-4C77-8F87-D2CF6464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AFAD-439B-4F69-A17A-A9A8863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481-53CE-476B-9DCD-0B963D15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9BE2-4D92-4FD5-8644-ACE4E21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C73-2E19-45C4-9592-1725C4F1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5476-B4D6-4CA5-9DCA-079E530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BF1E-55DD-4976-B43B-FB490B0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C46-15A7-4CDF-B64D-8E0F7EB6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A512-E2A8-4911-B94A-7522102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6FE3-E5D7-497D-B16C-FBC769F2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8758-B755-4755-889A-2D4E064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DDC4-60D5-4BE9-A9AA-54BB8175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3B01-FC40-4B21-A2BE-6CC9DE6D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942-4AF8-44F7-BB5C-379FE377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7A3-0637-441D-9645-4AEF1F24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0CD-6075-43B7-80D8-23C4D11C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A95-C244-45C2-95C4-1BB72F20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768-C55C-4EAA-A8DE-3DEEBF33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2CE-B0AF-4920-A8F8-2AB7117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A82-C179-4E78-A59B-08B8AD7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ECA1-272D-4D1F-BD5C-FDA191EF52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4BB-AF65-4DC5-B382-EF213B6D49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Генерация экстремальных подстановок для шифров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00000" y="3068640"/>
            <a:ext cx="583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ыполнил:                 Безбородов В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студент гр. 8216-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Каждую сбалансированную функцию с нелинейностью 2 сведем к одной из двух функций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4086000" cy="771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72723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66"/>
                </a:solidFill>
                <a:latin typeface="Arial"/>
              </a:rPr>
              <a:t>(The End)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во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раткое опис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руктур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улевы функции для экстремальных подстанов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в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того чтобы шифр имел максимальную стойкость к линейному и дифференциальному методам криптоанализа, подстановка должна  обеспечивать минимальную абсолютную величину преобладания линейных сумм и минимальную вероятность наиболее вероятных дифференциа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аткое опис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424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зовем подстановку экстремальной, если он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20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меет минимальную возможную абсолютную величину преобладания линейных сум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20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меет минимальную возможную вероятность наиболее вероятных дифференциал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622240"/>
            <a:ext cx="7910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множение экстремальной подстановки справа и слева на аффинные подстановки дает экстремальную подстановк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353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множение подстановки справа и слева на группу Р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не меняет вероятности дифференциалов данного веса и абсолютной величины преобладания линейных сумм данного в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83170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кольку умножение входа и выхода экстремальной подстановки на элементы группы 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дает экстремальную подстановку (при этом сохраняются вероятности дифференциалов веса 2 и абсолютные величины преобладаний линейных сумм веса 2), то множество экстремальных подстановок можно разбить на классы. При этом экстремальные подстановк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Е будут 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эквивалентными, есл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АТВ, где А,В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€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Поэтому класс Р</a:t>
            </a:r>
            <a:r>
              <a:rPr b="0" lang="ru-RU" sz="2800" spc="-1" strike="noStrike" baseline="-25000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эквивалентных подстановок можно задать подстановкой, переводящей 0 в 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831708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3366"/>
                </a:solidFill>
                <a:latin typeface="Arial"/>
              </a:rPr>
              <a:t>Рассмотрим нелинейные свойства сбалансированных четырехразрядных булевых функций. Для удобства будем рассматривать булевы функции с точностью до аффинной эквивалентности. Так, по определению все аффинные функции аффинно эквивалентны, поэтому любую аффинную функцию можно задать представителем у=х</a:t>
            </a:r>
            <a:r>
              <a:rPr b="0" lang="ru-RU" sz="29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43280" y="3630600"/>
            <a:ext cx="4093920" cy="32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5640" y="2421000"/>
            <a:ext cx="8388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 искомой аффинной подстановки – подстанов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х</a:t>
            </a:r>
            <a:r>
              <a:rPr b="0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а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1, х3 </a:t>
            </a:r>
            <a:r>
              <a:rPr b="0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х4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1). Таким образом, можно рассматривать булеву функцию с таблицей истин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улевы функции для экстремальных подстанов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249192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кольку четырехразрядная подстановка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сохраняет неподвижным, значение 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то достаточно рассмотреть аффинную подстановку от трех переменных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(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3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х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). Далее имеем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(1,1,1)=(1,1,1), то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(0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d,e,g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)=(0,1,1,1). Если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d,e,g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) не равно (1,1,1), то возможны семь случае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55958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5:30:30Z</dcterms:created>
  <dc:creator>www.PHILka.RU</dc:creator>
  <dc:description/>
  <dc:language>en-US</dc:language>
  <cp:lastModifiedBy>www.PHILka.RU</cp:lastModifiedBy>
  <dcterms:modified xsi:type="dcterms:W3CDTF">2008-12-21T17:59:23Z</dcterms:modified>
  <cp:revision>54</cp:revision>
  <dc:subject/>
  <dc:title>Слайд 1</dc:title>
</cp:coreProperties>
</file>