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push.wav" ContentType="audio/x-wav"/>
  <Override PartName="/ppt/media/type.wav" ContentType="audio/x-wav"/>
  <Override PartName="/ppt/media/wind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3B9-3C8A-49C7-A7C2-ADA36131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8C0-A281-4A3C-982C-06A05005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039-BFE4-40A4-911B-3F442E2D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57B-3FCF-4FF9-AC26-90B77976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F72-C4AB-451A-B825-BF3277E4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7F2-4C41-42EC-9AB2-E687833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9DA-D7F1-4C7B-8F10-5E08C8C9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FB0-225E-43DF-B0C2-4458577F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89C-E02E-4B40-B6AA-96C57358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5C9-1194-44D1-9283-01141A3F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4DC-B152-4286-AF2D-C350E8F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1A1-8DF7-4BDB-B17A-5032F822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1174-B6A1-40D8-802F-9B62A560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112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c8c8c8"/>
                </a:solidFill>
                <a:latin typeface="Arial"/>
              </a:rPr>
              <a:t>BIO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4248000" cy="261000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6,-56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56,-5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250"/>
                            </p:stCondLst>
                            <p:childTnLst>
                              <p:par>
                                <p:cTn id="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Все настройки </a:t>
            </a: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BIOS Setup”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Микляев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Subscribe 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рассылка </a:t>
            </a: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Настройки </a:t>
            </a: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B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endshow"/>
            <a:hlinkClick r:id="rId2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3" name="push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Что такое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640" y="2133720"/>
            <a:ext cx="2819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4800" spc="-1" strike="noStrike">
                <a:solidFill>
                  <a:srgbClr val="c8c8c8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2924280"/>
            <a:ext cx="453708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asic Input/Outp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Базовая система 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пециальная программа, хранящаяся в микросхеме ПЗУ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59120" y="568152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5445000"/>
            <a:ext cx="74901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ЗУ расшифровывается как Постоянное Запоминающее Устройство или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OM (Read Only Mem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овременных компьютерах используется не ПЗУ, а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lash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мять (перезаписываемая память), что даёт возможность пользователям самим обновлять версию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095640" cy="201600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  <a:hlinkClick r:id="rId4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5" name="push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8c8c8"/>
                </a:solidFill>
                <a:latin typeface="Arial"/>
              </a:rPr>
              <a:t>Зачем она нужна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Функция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разу после включения питания компьютера получает управление именно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.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Она выполняет начальное тестирование* всех компонентов компьютера. Если всё в порядке, то управление передаётся программе, находящейся в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oot-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екторе (загрузочном секторе) загрузочного диска**. Та, в свою очередь загружает операцион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760" y="5300640"/>
            <a:ext cx="864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Процедура начального тестирования называется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OST – Power-On Self Test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тестирование после включения питания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*Это может быть дискета, жесткий диск, компакт-ди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Функция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хранит в специальной микросхеме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CMOS-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памяти* аппаратную конфигурацию компьютера. При включении питания текущая конфигурация сравнивается с сохраненной. Если найдены отличия, то содержимое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CMOS-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памяти обновляется и, если это необходимо, предлагается вызвать подпрограмму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 Setup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для указания параметров вновь обнаруженных компонентов. Если же отличий в конфигурациях нет, или же обновление конфигурации выполнено без участия пользователя, то осуществляется необходимые настройки (конфигурирование) аппаратных компонентов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229360"/>
            <a:ext cx="82310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схема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MOS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мяти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едставляет собой небольшую, по своему объёму, оперативную память (ОЗУ или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RAM – Random Access Memory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. Поскольку информация в ней должна храниться и после выключения питания, микросхема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MOS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мяти питается от своей собственной батарей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Функция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 помощью специальной подпрограммы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 Setup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пользователю предоставляется возможность указать параметры и режимы функционирования отдельных компонентов компьютера. Там же, при необходимости, можно часть оборудования и отключ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Функция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обственно сама обработка операций ввода-вывода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. Например, дисковод понимает только простейшие команды типа: поместить головку на такую-то дорожку, считать сектор и т.п. Если бы все программы содержали в себе инструкции подобного рода, то они занимали бы много места, да и работали весьма и весьма неэффективно. Кроме этого, при появлении новых устройств все существующие программы приходилось бы модифицировать. Чтобы избежать подобных проблем, большую часть работы по обработке операций ввода-вывода переложили на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. Это, конечно, не решило всех проблем, но по меньшей мере значительно упростило их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5589720"/>
            <a:ext cx="741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праведливости ради надо отметить, что современные операционные системы практически не используют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ndows 95/98/M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ли вообще не используют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ndows NT/2000/XP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о обработке операций ввода-вывода. Определяющее значение эти функции имели во времена операционной системы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BIOS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51847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Рядовой пользователь чаще всего сталкивается с частью </a:t>
            </a:r>
            <a:r>
              <a:rPr b="0" lang="en-US" sz="18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, называемой </a:t>
            </a:r>
            <a:r>
              <a:rPr b="0" lang="en-US" sz="1800" spc="-1" strike="noStrike">
                <a:solidFill>
                  <a:srgbClr val="c8c8c8"/>
                </a:solidFill>
                <a:latin typeface="Arial"/>
              </a:rPr>
              <a:t>BIOS Setup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. Это специальная подпрограмма, позволяющая настроить работу отдельных аппаратных компонентов компьютера. Основная её сложность – непонятное названия опций, мало что говорящие не слишком искушённому пользователю. Проблему усугубляет практически полное отсутствие справочных сведений. В остальном ничего особенного в </a:t>
            </a:r>
            <a:r>
              <a:rPr b="0" lang="en-US" sz="1800" spc="-1" strike="noStrike">
                <a:solidFill>
                  <a:srgbClr val="c8c8c8"/>
                </a:solidFill>
                <a:latin typeface="Arial"/>
              </a:rPr>
              <a:t>BIOS Setup 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нет, можно выделить только несколько архаичный интерфей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Все значения, установленные пользователем, хранятся в микросхеме </a:t>
            </a:r>
            <a:r>
              <a:rPr b="0" lang="en-US" sz="1800" spc="-1" strike="noStrike">
                <a:solidFill>
                  <a:srgbClr val="c8c8c8"/>
                </a:solidFill>
                <a:latin typeface="Arial"/>
              </a:rPr>
              <a:t>CMOS-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памяти наряду с информацией об аппаратной конфигурацией компью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558960" cy="254628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endshow"/>
            <a:hlinkClick r:id="rId4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5" name="push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Версии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c8c8"/>
                </a:solidFill>
                <a:latin typeface="Arial"/>
              </a:rPr>
              <a:t>Существует пять основных версий </a:t>
            </a:r>
            <a:r>
              <a:rPr b="0" lang="en-US" sz="24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2400" spc="-1" strike="noStrike">
                <a:solidFill>
                  <a:srgbClr val="c8c8c8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2276640"/>
            <a:ext cx="5543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от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ward Software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WARD BIOS 4.52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WARD BIOS 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WARD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 6.0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от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merican Megatrend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MIBIOS 1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MIBIOS 1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0:36:00Z</dcterms:created>
  <dc:creator>ExE</dc:creator>
  <dc:description/>
  <dc:language>en-US</dc:language>
  <cp:lastModifiedBy>ExE</cp:lastModifiedBy>
  <dcterms:modified xsi:type="dcterms:W3CDTF">2005-03-02T13:15:46Z</dcterms:modified>
  <cp:revision>39</cp:revision>
  <dc:subject/>
  <dc:title>BIOS</dc:title>
</cp:coreProperties>
</file>