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4DD-2913-44C5-B8E0-A29C8026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D72-F069-46BE-978C-CEE5A958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331-554A-4A20-94BA-B26EDCCC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E8F-7D4E-46FF-835C-F675EDBD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4FBB-B8D8-4F14-9472-682EED9E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19E0-054C-4EC1-B105-06E68B94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61A1-8117-44DF-B3CE-E9B9B585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B213-104A-4211-A1E9-EDFC2A6C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9B71-237F-495D-9BA8-01EA5B90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2656-B628-4447-BBC6-0E2DB488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6F80-9A22-42F6-831F-D580D7F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167-B625-4F85-B5CB-FDDEEDE1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7C9B-2BC8-478D-AC5C-B0A827B5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3FB5-651F-44A3-A4F9-0A02026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7E5D-48E6-49E0-A62D-998BD9A2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447E-4B0C-4BA8-B639-6B1EFE10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FEE1-D630-428B-9699-36A47EC8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EF2-9689-4FB5-8448-083F5F15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D71-20CC-47A6-AA49-63FB4DF0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B09-8C47-459E-9264-6D5A4689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690-16AA-45FE-AFEE-8914B41B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63D-2AB8-4F2B-AC35-43571AB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9F1-E27D-4C49-8A04-A87DFC48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031-94C5-4073-8360-A951FADE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84F7-D6AF-4783-9419-26CC011DC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7EFB-EAFE-436E-A59A-7AF715A0C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4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6.xml"/><Relationship Id="rId20" Type="http://schemas.openxmlformats.org/officeDocument/2006/relationships/slide" Target="slide17.xml"/><Relationship Id="rId21" Type="http://schemas.openxmlformats.org/officeDocument/2006/relationships/slide" Target="slide17.xml"/><Relationship Id="rId22" Type="http://schemas.openxmlformats.org/officeDocument/2006/relationships/slide" Target="slide17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20.xml"/><Relationship Id="rId30" Type="http://schemas.openxmlformats.org/officeDocument/2006/relationships/slide" Target="slide20.xml"/><Relationship Id="rId31" Type="http://schemas.openxmlformats.org/officeDocument/2006/relationships/slide" Target="slide21.xml"/><Relationship Id="rId32" Type="http://schemas.openxmlformats.org/officeDocument/2006/relationships/slide" Target="slide29.xml"/><Relationship Id="rId3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3644640"/>
            <a:ext cx="6399360" cy="54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Arial Narrow"/>
              </a:rPr>
              <a:t>Аналоговая и цифровая аудио и видеоинформация.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79640" y="458100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24200" y="2852640"/>
            <a:ext cx="44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06200" y="1555920"/>
            <a:ext cx="95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Аналоговая и цифрова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аудио и видеоинформац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Самым ранним методом передачи видеосигналов является аналоговый метод. Одним из первых видеоформатов на основе этого принципа стал композитный видеосигнал. Композитное аналоговое видео комбинирует все видеокомпоненты (яркость, цвет, синхронизацию и т. п.) в один сигнал. Из-за объединения этих элементов в одном сигнале качество композитного видео далеко от совершенства. В результате мы имеем неточную передачу цвета, недостаточно "чистую" картинку и другие факторы потери ка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3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4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6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Тем не менее, все аналоговыми форматы обладают одним существенным недостатком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ри копировании дубль всегда уступает по качеству оригиналу. Потеря качества при копировании видеоматериала аналогична фотокопированию, когда копия никогда не бывает такой же четкой и яркой, как оригинал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В отличие от аналогового видео, качество которого падает при копировании, каждая копия цифрового видео идентична оригина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Цифровое видео характеризуется четырьмя основными факторам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частота кадра (Frame Rat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экранное разрешение (Spatial Resolution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глубина цвета (Color Resolution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качество изображения (Image Qualit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Arial"/>
              </a:rPr>
              <a:t>Частота кадра (Frame Rate)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Стандартная скорость воспроизведения видеосигнала -- 30 кадров/с (для кино этот показатель составляет 24 кадра/с). Каждый кадр состоит из определенного количества строк, которые прорисовываются не последовательно, а через одну, в результате чего получается два полукадра, или так называемых "поля". Поэтому каждая секунда аналогового видеосигнала состоит из 60 полей (полукадров). Такой процесс называется interlaced виде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Между тем монитор компьютера для прорисовки экрана использует метод "прогрессивного сканирования" (progressive scan), при котором строки кадра формируются последовательно, сверху вниз, а полный кадр прорисовывается 30 раз каждую секунду. Разумеется, подобный метод получил название non-interlaced видео. В этом заключается основное отличие между компьютерным и телевизионным методом формирования видеосиг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cc"/>
                </a:solidFill>
                <a:uFillTx/>
                <a:latin typeface="Arial"/>
              </a:rPr>
              <a:t>Глубина цвета (Color Resolution).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Этот показатель является комплексным и определяет количество цветов, одновременно отображаемых на экране. Компьютеры обрабатывают цвет в RGB-формате (красный-зеленый-синий), в то время как видео использует и другие методы. Одна из наиболее распространенных моделей цветности для видеоформатов -- YUV. Каждая из моделей RGB и YUV может быть представлена разными уровнями глубины цвета (максимального количества цвет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цветовой модели RGB обычно характерны следующие режимы глубины цвета: 8 бит/пиксель (256 цветов), 16 бит/пиксель (65,535 цветов) и 24 бит/пиксель (16,7 млн. цветов). Для модели YUV применяются режимы: 7 бит/пиксель (4:1:1 или 4:2:2, примерно 2 млн. цветов), и 8 бит/пиксель (4:4:4, примерно 16 млн. цвет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ff"/>
                </a:solidFill>
                <a:uFillTx/>
                <a:latin typeface="Arial"/>
              </a:rPr>
              <a:t>Экранное разрешение (Spatial Resolution).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Еще одна характеристика - экранное разрешение, или, другими словами, количество точек, из которых состоит изображение на экра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тандартный аналоговый видеосигнал дает полноэкранное изображение без ограничений размера, так часто присущих компьютерному видео. Телевизионный стандарт NTSC (National Television Standards Committe), разработан Национальным комитетом по телевизионным стандартам США. Используемый в Северной Америке и Японии, он предусматривает разрешение 768 на 484. Стандарт PAL (Phase Alternative), распространенный в Европе, имеет несколько большее разрешение -- 768 на 576 точ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ff"/>
                </a:solidFill>
                <a:uFillTx/>
                <a:latin typeface="Arial"/>
              </a:rPr>
              <a:t>Качество изображения (Image Quality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. Последняя, и наиболее важная характеристика - это качество видеоизображения. Требования к качеству зависят от конкретной задачи. Иногда достаточно, чтобы картинка была размером в четверть экрана с палитрой из 256-ти цветов (8 бит), при скорости воспроизведения 15 кадров/с. В других случаях требуется полноэкранное видео (768 на 576) с палитрой в 16,7 млн. цветов (24 бит) и полной кадровой разверткой (24 или 30 кадров/с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снова кодирования у группы алгоритмов MPEG общая. Основные идеи, применяемые в ходе сжатия видеоданных с ее помощью, следующие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Устранение пространственной избыточности изображений путем подавления мелких деталей сцены, несущественных для визуального восприятия человеком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Использование более низкого цветового разрешения при yuv-предеставлении изображений (y — яркость, u и v — цветоразностные сигналы) — установлено, что глаз менее чувствителен к пространственным изменениям оттенков цвета по сравнению с изменениями яркост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овышение информационной плотности результирующего цифрового потока путем выбора оптимального математического кода для его описания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Кроме того, основная идея заключается в разделении кадров на опорные (I — intra), а также так называемые предсказанные (то есть строящиеся на основе опорных) — как однонаправленные (P – predicted), так и двунаправлено предсказываемые (B – bi-directionally predicted) кадры (под направлением здесь следует понимать временную последовательность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ндарт MPEG-2 был специально разработан для кодирования ТВ сигналов вещательного телевидения. Он позволяет получить полную четкость декодированного ТВ изображения, соответствующую Рекомендации 601 МККР. (При скорости передачи видеоданных 9 Мбит/с качество ТВ изображения соответствует студийному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ilm"/>
          <p:cNvSpPr/>
          <p:nvPr/>
        </p:nvSpPr>
        <p:spPr>
          <a:xfrm rot="16200000">
            <a:off x="3314520" y="3101400"/>
            <a:ext cx="1809720" cy="289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Целью создания MPEG-4 была выработка стандарта кодирования, который обеспечил бы разработчиков универсальным средством сжатия видеоданных, позволяющим обрабатывать аудио- и видеоданные как естественного (снятого с помощью видеокамеры или записанного с помощью микрофона), так и искусственного (синтезированного или сгенерированного на компьютере) происхождения.  Это обстоятельство кардинальным образом отличает MPEG-4 как видеостандартов предшественников MPEG-1 и MPEG-2, в которых эффективное сжатие данных достигается лишь применительно к естественному видео и ауди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4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5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6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7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 Narrow"/>
              </a:rPr>
              <a:t>Оглавление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1" action="ppaction://hlinksldjump"/>
              </a:rPr>
              <a:t>3.  Аналоговое представление сигна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2" action="ppaction://hlinksldjump"/>
              </a:rPr>
              <a:t>4.  Цифровое представление сигналов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3" action="ppaction://hlinksldjump"/>
              </a:rPr>
              <a:t>5.  Способы повышения помехоустойчивости цифровых данн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4" action="ppaction://hlinksldjump"/>
              </a:rPr>
              <a:t>6.  Исходная форма звукового сигн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5" action="ppaction://hlinksldjump"/>
              </a:rPr>
              <a:t>7.  Наиболее известные форматы кодирования аудиоданн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6" action="ppaction://hlinksldjump"/>
              </a:rPr>
              <a:t>8.  Принципы работы стандартов сжатия звуковых данн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7" action="ppaction://hlinksldjump"/>
              </a:rPr>
              <a:t>9. 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8" action="ppaction://hlinksldjump"/>
              </a:rPr>
              <a:t>Три уровня  audio MPEG для сжатия стереофонических сигналов.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9" action="ppaction://hlinksldjump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10" action="ppaction://hlinksldjump"/>
              </a:rPr>
              <a:t>10. Аналоговый метод передачи видеосигна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11" action="ppaction://hlinksldjump"/>
              </a:rPr>
              <a:t>11.  Недостатки аналогового виде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12" action="ppaction://hlinksldjump"/>
              </a:rPr>
              <a:t>12.  Характеристики цифрового виде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13" action="ppaction://hlinksldjump"/>
              </a:rPr>
              <a:t>13. 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14" action="ppaction://hlinksldjump"/>
              </a:rPr>
              <a:t>Частота кад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15" action="ppaction://hlinksldjump"/>
              </a:rPr>
              <a:t>14. 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16" action="ppaction://hlinksldjump"/>
              </a:rPr>
              <a:t>Глубина цвета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17" action="ppaction://hlinksldjump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18" action="ppaction://hlinksldjump"/>
              </a:rPr>
              <a:t>15.  Экранное разреш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19" action="ppaction://hlinksldjump"/>
              </a:rPr>
              <a:t>16.  Качество изображ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20" action="ppaction://hlinksldjump"/>
              </a:rPr>
              <a:t>17.  Основы 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omic Sans MS"/>
                <a:hlinkClick r:id="rId21" action="ppaction://hlinksldjump"/>
              </a:rPr>
              <a:t>MPEG-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22" action="ppaction://hlinksldjump"/>
              </a:rPr>
              <a:t>кодирования виде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23" action="ppaction://hlinksldjump"/>
              </a:rPr>
              <a:t>18.  Стандарт 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omic Sans MS"/>
                <a:hlinkClick r:id="rId24" action="ppaction://hlinksldjump"/>
              </a:rPr>
              <a:t>MPEG-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25" action="ppaction://hlinksldjump"/>
              </a:rPr>
              <a:t>19.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omic Sans MS"/>
                <a:hlinkClick r:id="rId26" action="ppaction://hlinksldjump"/>
              </a:rPr>
              <a:t> 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27" action="ppaction://hlinksldjump"/>
              </a:rPr>
              <a:t>Стандарт 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omic Sans MS"/>
                <a:hlinkClick r:id="rId28" action="ppaction://hlinksldjump"/>
              </a:rPr>
              <a:t>MPEG-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29" action="ppaction://hlinksldjump"/>
              </a:rPr>
              <a:t>20. Особенности работы </a:t>
            </a:r>
            <a:r>
              <a:rPr b="0" lang="en-US" sz="1600" spc="-1" strike="noStrike" u="sng">
                <a:solidFill>
                  <a:srgbClr val="800000"/>
                </a:solidFill>
                <a:uFillTx/>
                <a:latin typeface="Comic Sans MS"/>
                <a:hlinkClick r:id="rId30" action="ppaction://hlinksldjump"/>
              </a:rPr>
              <a:t>MPEG-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31" action="ppaction://hlinksldjump"/>
              </a:rPr>
              <a:t>21.   Контрольные вопро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00000"/>
                </a:solidFill>
                <a:uFillTx/>
                <a:latin typeface="Comic Sans MS"/>
                <a:hlinkClick r:id="rId32" action="ppaction://hlinksldjump"/>
              </a:rPr>
              <a:t>29.  Список использованной литерату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Кодирование в формате MPEG-4 раздельное. Это означает, что для кодирования видео составляющей применяются одни способы и алгоритмы сжатия, а для кодирования аудио составляющей – другие. Естественной издержкой такого специфичного подхода к сжатию является необходимость сопоставления двух потоков в ходе их последующего совместного воспроизведения в режиме реального времен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99"/>
                </a:solidFill>
                <a:latin typeface="Comic Sans MS"/>
              </a:rPr>
              <a:t>Контрольные вопрос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Традиционное </a:t>
            </a:r>
            <a:r>
              <a:rPr b="1" lang="en-US" sz="3200" spc="-1" strike="noStrike">
                <a:solidFill>
                  <a:srgbClr val="99ff99"/>
                </a:solidFill>
                <a:latin typeface="Arial Narrow"/>
              </a:rPr>
              <a:t>аналоговое представление</a:t>
            </a: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 сигналов основано на подоби</a:t>
            </a: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и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 Narrow"/>
              </a:rPr>
              <a:t>электрических сигналов</a:t>
            </a: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 представленным ими</a:t>
            </a: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609624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.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Звуковому давл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2.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Температу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3.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6" action="ppaction://hlinksldjump"/>
              </a:rPr>
              <a:t>Скор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7" action="ppaction://hlinksldjump"/>
              </a:rPr>
              <a:t>4. 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8" action="ppaction://hlinksldjump"/>
              </a:rPr>
              <a:t>Исходным сигна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В настоящее время наиболее известны следующие стандарты кодирования аудиоданных: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.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 mp3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2.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Joint stere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6" action="ppaction://hlinksldjump"/>
              </a:rPr>
              <a:t>3.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7" action="ppaction://hlinksldjump"/>
              </a:rPr>
              <a:t> MS ster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8" action="ppaction://hlinksldjump"/>
              </a:rPr>
              <a:t>4.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Arial"/>
                <a:hlinkClick r:id="rId9" action="ppaction://hlinksldjump"/>
              </a:rPr>
              <a:t> MID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 Narrow"/>
              </a:rPr>
              <a:t>Наибольшей чувствительностью (2-4 дБ) органы слуха обладают в среднем диапазоне частот порядка</a:t>
            </a:r>
            <a:r>
              <a:rPr b="1" lang="en-US" sz="3200" spc="-1" strike="noStrike">
                <a:solidFill>
                  <a:srgbClr val="ffff99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-10 кГц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0 кГц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-5 кГ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2 кГ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 Narrow"/>
              </a:rPr>
              <a:t>Неточная передача цвета, недостаточно "чистая" картинка и </a:t>
            </a:r>
            <a:br>
              <a:rPr sz="3200"/>
            </a:br>
            <a:r>
              <a:rPr b="1" lang="en-US" sz="3200" spc="-1" strike="noStrike">
                <a:solidFill>
                  <a:srgbClr val="00cc00"/>
                </a:solidFill>
                <a:latin typeface="Arial Narrow"/>
              </a:rPr>
              <a:t>некоторые другие факторы потери качества</a:t>
            </a:r>
            <a:br>
              <a:rPr sz="3200"/>
            </a:br>
            <a:r>
              <a:rPr b="1" lang="en-US" sz="3200" spc="-1" strike="noStrike">
                <a:solidFill>
                  <a:srgbClr val="00cc00"/>
                </a:solidFill>
                <a:latin typeface="Arial Narrow"/>
              </a:rPr>
              <a:t>характерны для…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 Цифрового виде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PEG-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рессированного виде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VD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е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 Аналогового виде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Arial Narrow"/>
              </a:rPr>
              <a:t>Цифровое видео характеризуется…</a:t>
            </a:r>
            <a:r>
              <a:rPr b="1" lang="en-US" sz="4800" spc="-1" strike="noStrike">
                <a:solidFill>
                  <a:srgbClr val="0099cc"/>
                </a:solidFill>
                <a:latin typeface="Arial Narrow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60958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1. Частотой кадра (Frame Rat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2. Экранным разрешением (Spatial Resolution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3. глубиной цвета (Color Resolution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4. качеством изображения (Image Qualit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5.  Все вышеперечислен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Стандарт MPEG-2 был специально разработан для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дирования ТВ сигналов вещательного телевид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хивации любых дан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дачи видеодан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и просмотра видео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12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600" spc="-1" strike="noStrike">
              <a:solidFill>
                <a:srgbClr val="ff5050"/>
              </a:solidFill>
              <a:latin typeface="Comic Sans M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619280" y="242100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Правильно!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25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Использованная литература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1125360"/>
          <a:ext cx="6095880" cy="4570200"/>
        </p:xfrm>
        <a:graphic>
          <a:graphicData uri="http://schemas.openxmlformats.org/drawingml/2006/table">
            <a:tbl>
              <a:tblPr/>
              <a:tblGrid>
                <a:gridCol w="649080"/>
                <a:gridCol w="54468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докумен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ександр Колганов, Системы мультимедиа сегодня //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№4 апрель 1995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тон Веснушкин, «Живое» видео на PC //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№6 декабрь 1994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дрей Борзенко, Программное обеспечение для мультимедиа //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№2 февраль 1995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льтимедиа — синтез трех стихий. С. Новосельцев // Компьютер–Пресс №7 1991г.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льтимедиа–ПК. В. Дьяконов // Домашний Компьютер №1 1996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тантин Гласман «Методы передачи данных в цифровом телевидении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 Севальнев «Международный стандарт кодирования с информационным сжатием MPEG-2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3419280" y="5942160"/>
            <a:ext cx="21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тудент  гр. ИМ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Юдин М.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радиционное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аналоговое представление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сигналов основано на подобии (аналогичности)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электрических сигналов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(изменений тока и напряжения) представленным ими исходным сигналам (звуковому давлению, температуре, скорости и т.п.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Такое представление наиболее точно, однако малейшее искажение формы несущего электрического сигнала неизбежно повлечет за собой такое же искажение формы и сигнала переносимого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Это связано с тем, что исходный сигнал представление не содержит избыточности, которая могла бы защитить переносимый сигнал от искажений при хранении, передаче и усилени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5050"/>
                </a:solidFill>
                <a:uFillTx/>
                <a:latin typeface="Arial"/>
              </a:rPr>
              <a:t>Цифровое представление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электрических сигналов призвано внести в них избыточность, предохраняющую от воздействия паразитных помех. Для этого на несущий электрический сигнал накладываются серьезные ограничения - его амплитуда может принимать только два предельных значения - 0 и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3284640"/>
            <a:ext cx="46576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 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повышения стойк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цифрового сигнала к помехам и искажениям применяется цифровое избыточное кодирование двух типов: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проверочны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EDC - Error Detection Code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корректирующие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(ECC - Error Correction Code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ко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EDC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 позволяет просто обнаружить факт ошибки - искажение или выпадение полезной либо появление ложной цифры, однако переносимая информация в этом случае также искажается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ff"/>
                </a:solidFill>
                <a:uFillTx/>
                <a:latin typeface="Arial"/>
              </a:rPr>
              <a:t>ECC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позволяет сразу же исправлять обнаруженные ошибки, сохраняя переносимую информацию неизменной. Для удобства и надежности передаваемую информацию разбивают на блоки (кадры), каждый из которых снабжается собственным набором этих кодов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Исходной формой звукового сигнала является непрерывное изменение амплитуды во  времени - представление в цифровой форме с помощью "перекрестной  дискретизации" - по времени и по уровн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66261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-3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стоящее время наиболее известны следующие стандарты кодирования аудиоданн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p3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ma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ivx aud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Все они используют так называемое кодирование для восприятия (perceptual coding), при котором из звукового сигнала удаляется информация, малозаметная для слу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ная идея, на которой основаны все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методики сжатия аудио сигнала с потеря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— отказ от кодирования тонких деталей звучания оригинала, лежащих вне пределов возможностей человеческого слуха.  Звуки, находящиеся на границах резких перепадов уровня: после очень громкого звука на протяжении небольшого отрезка времени около 100 мс и перед ним на протяжении 5 мс, человеческое ухо неспособно воспринимать другие, более тихие зву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И еще одна особенность человеческого слуха  была учтена при разработке алгоритма компрессии — использование минимального порога слышимости. Наибольшей чувствительностью (2-4 дБ) органы слуха обладают в среднем диапазоне частот порядка 2-5 кГц. На других частотах порогом чувствительности может стать значение громкости звука в 40 дБ.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Иными словами, звуки, лежащие за порогом чувствительности, нет смысла сохранять, поскольку они все равно не будут услышаны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уществует три уровня  audio MPEG для сжатия стереофонических сигналов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оэффициент сжатия 1:4 при допустимом потоке данных 384 Кбит/с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6..1:8 при 256..192 Кбит/с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1:10..1:12 при 128..112 Кбит/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79640" y="3429000"/>
            <a:ext cx="4897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3:16:01Z</dcterms:created>
  <dc:creator>MAX</dc:creator>
  <dc:description/>
  <dc:language>en-US</dc:language>
  <cp:lastModifiedBy>MAX</cp:lastModifiedBy>
  <dcterms:modified xsi:type="dcterms:W3CDTF">2006-12-28T21:13:22Z</dcterms:modified>
  <cp:revision>10</cp:revision>
  <dc:subject/>
  <dc:title>Аналоговая и цифровая аудио и видеоинформация.</dc:title>
</cp:coreProperties>
</file>