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0F0D-C185-4DA4-B62A-960923A3E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54E6-C799-4689-B036-58F397F7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C694-2BD6-4DB4-B56D-22086164A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7198-C956-40D7-BEE7-BDB43AD59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F98F-BD32-4C4D-B944-EBAB2EDC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5B38-A06E-4EA2-BE8A-D8E891F0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83F7-0325-4C79-84E9-F4B99C1C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8DEF-0A54-4E67-985A-2B4EFD6C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A829-3D96-4928-90C3-631F0795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1A0F-3F6B-4DBC-B064-82D34EE9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F87E-209D-4A62-9F52-D0FF5A6E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6EA0-93F8-4BA4-A81A-76AA1D29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D439-12F1-4627-BF10-9A5D16686E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2362320"/>
            <a:ext cx="711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ЕКТ СТРУКТУРИРОВАННОЙ КАБЕЛЬНОЙ СИСТЕМЫ ДЛЯ ЗДАНИЯ ГАЗОПРОМЫСЛОВОГО УПРАВЛЕНИЯ В ПОСЕЛК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ГОД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3520" y="3049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оложение системы охранной сигнализации на пятом этаж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7600" y="380880"/>
            <a:ext cx="79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оложение системы видеонаблюдения на первом этаж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3049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оложение системы контроля доступа в вестибюле первого этаж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zd" descr=""/>
          <p:cNvPicPr/>
          <p:nvPr/>
        </p:nvPicPr>
        <p:blipFill>
          <a:blip r:embed="rId1"/>
          <a:stretch/>
        </p:blipFill>
        <p:spPr>
          <a:xfrm>
            <a:off x="2325600" y="304920"/>
            <a:ext cx="43196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762120"/>
            <a:ext cx="81532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обходимые системы современного офисного зд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фонная (городская и местна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ная (ЛВ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видения (городского и офисног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ной сигнализации и пожаротуш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ной сигнализации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иде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а климатических условий и управления и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я доступа персона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191120" y="914400"/>
          <a:ext cx="439092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914400"/>
                    <a:ext cx="43909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609480" y="838080"/>
            <a:ext cx="3886200" cy="27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кциональные элемент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Распределительный Пункт (ГРП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истральный кабель территор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ительный Пункт Здания (РПЗ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истральный кабель зд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ительный Пункт Этажа (РПЭ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изонтальный кабел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а перехода (ТП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коммуникационный Разъем (ТР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228600"/>
            <a:ext cx="6096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которые требования к 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кту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 структурированных кабельных систе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828800"/>
            <a:ext cx="8001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версаль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со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даптив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особ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боль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сленность обслуживающего персонал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со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кономичност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zd1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334332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00400" y="2286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143000" y="1066680"/>
          <a:ext cx="3343320" cy="481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3343320" cy="48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52280" y="8380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ппарат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371600"/>
            <a:ext cx="53316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0" y="990720"/>
          <a:ext cx="4264200" cy="510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990720"/>
                    <a:ext cx="426420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143000" y="1066680"/>
          <a:ext cx="3343320" cy="481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3343320" cy="48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3200400" y="2286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480060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точник стабилизированного пит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29718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точник бесперебойного пит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590560" y="3505320"/>
            <a:ext cx="2438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743200" y="54100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zd3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3343320" cy="4810320"/>
          </a:xfrm>
          <a:prstGeom prst="rect">
            <a:avLst/>
          </a:prstGeom>
          <a:ln w="0">
            <a:noFill/>
          </a:ln>
        </p:spPr>
      </p:pic>
      <p:pic>
        <p:nvPicPr>
          <p:cNvPr id="65" name="p4_9" descr="p4_9.gif (26308 bytes)"/>
          <p:cNvPicPr/>
          <p:nvPr/>
        </p:nvPicPr>
        <p:blipFill>
          <a:blip r:embed="rId2"/>
          <a:stretch/>
        </p:blipFill>
        <p:spPr>
          <a:xfrm>
            <a:off x="5257800" y="2362320"/>
            <a:ext cx="2666880" cy="1960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>
            <a:off x="4186080" y="2176560"/>
            <a:ext cx="91440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191120" y="2176560"/>
            <a:ext cx="909360" cy="1252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186080" y="2176560"/>
            <a:ext cx="914400" cy="76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2286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05520" y="19051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бочее мес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5943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Т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1752120" y="5638680"/>
            <a:ext cx="175284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447920" y="1295280"/>
          <a:ext cx="627696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295280"/>
                    <a:ext cx="627696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1219320" y="4572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ределение оборудования СКС на пятом этаж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1T02:20:19Z</dcterms:created>
  <dc:creator>Dzen</dc:creator>
  <dc:description/>
  <dc:language>en-US</dc:language>
  <cp:lastModifiedBy>Dzen</cp:lastModifiedBy>
  <dcterms:modified xsi:type="dcterms:W3CDTF">2003-07-05T12:41:43Z</dcterms:modified>
  <cp:revision>49</cp:revision>
  <dc:subject/>
  <dc:title>Презентация PowerPoint</dc:title>
</cp:coreProperties>
</file>