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F8D-7608-403E-A554-4FDE29C8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09D-3EB8-4FE0-B7F8-4DBC536E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A30-4BB3-4943-8DF0-442B83F9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652F-3622-4440-9974-4B545EAB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1A70-C965-45CD-A826-0597B7D0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8CC-C0C5-4C2D-8238-B7DE7B57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48B-3209-4735-9D6C-DE8861ED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BAF-2E02-43B5-A4F2-52C0FE52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1644-A727-4879-A721-428E81A5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65AB-D603-40A3-93A8-F3E95EAB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2F80-D85D-407E-AF04-2E8C6BEB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221-AD15-48E3-827C-C810D6EC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6BC7-5852-4408-BD90-3B61A4A910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362320"/>
            <a:ext cx="71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ЕКТ СТРУКТУРИРОВАННОЙ КАБЕЛЬНОЙ СИСТЕМЫ ДЛЯ ЗДАНИЯ ГАЗОПРОМЫСЛОВОГО УПРАВЛЕНИЯ В ПОСЕЛК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ОД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04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охранной сигнализации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7600" y="38088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видеонаблюдения на первом эта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3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контроля доступа в вестибюле первого эта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zd" descr=""/>
          <p:cNvPicPr/>
          <p:nvPr/>
        </p:nvPicPr>
        <p:blipFill>
          <a:blip r:embed="rId1"/>
          <a:stretch/>
        </p:blipFill>
        <p:spPr>
          <a:xfrm>
            <a:off x="2325600" y="304920"/>
            <a:ext cx="4319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762120"/>
            <a:ext cx="8153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ые системы современного офисного зд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ая (городская и местн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(Л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дения (городского и офисн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ой сигнализации и пожароту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ной сигнализации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е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а климатических условий и управления 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я доступа персо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191120" y="914400"/>
          <a:ext cx="43909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914400"/>
                    <a:ext cx="4390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838080"/>
            <a:ext cx="38862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ональные элемент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Распределительный Пункт (ГР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террито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Здания (РПЗ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зд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Этажа (Р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ый кабел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перехода (Т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ммуникационный Разъем (ТР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2860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оторые требования к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кту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 структурированных кабельных сист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ерсаль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аптив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боль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енность обслуживающего персона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номич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zd1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52280" y="838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пара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0" y="990720"/>
          <a:ext cx="4264200" cy="51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42642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стабилизирован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9718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бесперебой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590560" y="3505320"/>
            <a:ext cx="2438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3200" y="5410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zd3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  <p:pic>
        <p:nvPicPr>
          <p:cNvPr id="65" name="p4_9" descr="p4_9.gif (26308 bytes)"/>
          <p:cNvPicPr/>
          <p:nvPr/>
        </p:nvPicPr>
        <p:blipFill>
          <a:blip r:embed="rId2"/>
          <a:stretch/>
        </p:blipFill>
        <p:spPr>
          <a:xfrm>
            <a:off x="5257800" y="2362320"/>
            <a:ext cx="2666880" cy="1960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4186080" y="2176560"/>
            <a:ext cx="9144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91120" y="2176560"/>
            <a:ext cx="909360" cy="125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186080" y="2176560"/>
            <a:ext cx="91440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1905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бочее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752120" y="5638680"/>
            <a:ext cx="1752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447920" y="1295280"/>
          <a:ext cx="62769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769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ределение оборудования СКС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2:20:19Z</dcterms:created>
  <dc:creator>Dzen</dc:creator>
  <dc:description/>
  <dc:language>en-US</dc:language>
  <cp:lastModifiedBy>Dzen</cp:lastModifiedBy>
  <dcterms:modified xsi:type="dcterms:W3CDTF">2003-07-05T12:41:43Z</dcterms:modified>
  <cp:revision>49</cp:revision>
  <dc:subject/>
  <dc:title>Презентация PowerPoint</dc:title>
</cp:coreProperties>
</file>