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gif" ContentType="image/gif"/>
  <Override PartName="/ppt/media/image9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D9EB-D2D8-4EB7-A30F-5B1F298C6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59EF-6FC5-4ACC-A3B0-64F65DA1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39A9-BE8A-4CC0-822D-5B0987F0D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DD4A-5F3E-4B8A-AB6D-E1E8B5E99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15E4-A6CC-4A6A-A5F5-928D3C27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45A2-6A1D-41F9-AB19-03886242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16B4-F5C8-4F20-8075-5A649233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56D9-D9CC-4695-8438-FF5EBC7F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885F-A883-46CD-8E52-869A4B57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617F-3610-4C03-815E-C735897C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91DE-199F-44DD-8DFE-FC764423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E5CF-57A4-4541-9FBD-B20CE6A0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4DC9-9E81-4341-ABA4-219943994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qiq.ru/media/pictures/original/novyy_virus_ugrozhaet_millionam_kompjuterov_pod_windows_3118.jpe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hyperlink" Target="http://www.drweb.ru/" TargetMode="External"/><Relationship Id="rId9" Type="http://schemas.openxmlformats.org/officeDocument/2006/relationships/image" Target="../media/image14.png"/><Relationship Id="rId10" Type="http://schemas.openxmlformats.org/officeDocument/2006/relationships/hyperlink" Target="http://www.esetnod32.ru/" TargetMode="External"/><Relationship Id="rId11" Type="http://schemas.openxmlformats.org/officeDocument/2006/relationships/image" Target="../media/image15.png"/><Relationship Id="rId12" Type="http://schemas.openxmlformats.org/officeDocument/2006/relationships/hyperlink" Target="http://www.kaspersky.ru/" TargetMode="External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Компьютерные вирус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24080" y="2819520"/>
            <a:ext cx="312444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Сетевые вирусы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Могут передавать по компьютерным сетям свой программный код и запускать его на компьютерах, подключенных к этой сети. Заражение сетевым вирусом может произойти при работе с электронной почтой или при «путешествиях» по Всемирной паут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4. Признаки появления и способы заражения вирусам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профессионалу сложно обнаружить присутствие вирусов на компьютере, поскольку они умело маскируются среди обычных файлов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изнаки за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8680" indent="-2685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вывод на экран непредусмотренных сообщений или изображений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8680" indent="-2685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подача непредусмотренных звуковых сигналов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8680" indent="-2685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неожиданное открытие и закрытие лотка CD-ROM-устройства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8680" indent="-2685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произвольный, без вашего участия, запуск на компьютере каких-либо программ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8680" indent="-2685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при наличии на вашем компьютере межсетевого экрана, появление предупреждений о попытке какой-либо из программ вашего компьютера выйти в Интернет, хотя вы это никак не инициировал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86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ак вирус может появиться в компьютер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1. переместиться с гибкого диска;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2. при решении математической задачи;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3. при подключении к компьютеру модема;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4. самопроизвольно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603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Среди Антивирусных программ Выделя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57200" y="1600200"/>
          <a:ext cx="8229600" cy="41148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buSzPct val="102872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рограммы-детектор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buSzPct val="102768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1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1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рограммы-доктора (фаги)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buSzPct val="102805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рограммы-ревизоры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buSzPct val="102805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9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Доктора-ревизоры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SzPct val="102805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рограммы-фильт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buSzPct val="102833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7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рограммы-вакцины (иммунизаторы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6.Признаки, указывающие на поражение программ вирусо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532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Неправильная работа програ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Медленная работа компью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Невозможность загрузки операционн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Исчезновение фай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Изменение даты, времени создания файла или его разм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Вывод на экран непредусмотренных сообщений или изобра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Частые зависания компьютера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Парад лучших антивирусов</a:t>
            </a:r>
            <a:br>
              <a:rPr sz="3200"/>
            </a:b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(в алфавитном порядк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Aladdin Knowledge Systems e</a:t>
            </a: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Command AntiVi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Computer Associates Inoculat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Doctor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Eset NOD 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F-Secure Anti-Vi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Kaspersky Antivi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Network Associates McAfee VirusS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Norman Viru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Panda Antivirus Plati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ymantec Norton AntiVir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Лично я бы посоветовал </a:t>
            </a:r>
            <a:br>
              <a:rPr sz="3600"/>
            </a:b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что-нибудь из этого спис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8045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Doctor Web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Eset NOD 3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Kaspersky Antivi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en-US" sz="3200" spc="-1" strike="noStrike" u="sng">
                <a:solidFill>
                  <a:srgbClr val="99cc00"/>
                </a:solidFill>
                <a:uFillTx/>
                <a:latin typeface="Arial"/>
              </a:rPr>
              <a:t>(</a:t>
            </a:r>
            <a:r>
              <a:rPr b="1" lang="ru-RU" sz="3200" spc="-1" strike="noStrike" u="sng">
                <a:solidFill>
                  <a:srgbClr val="99cc00"/>
                </a:solidFill>
                <a:uFillTx/>
                <a:latin typeface="Arial"/>
              </a:rPr>
              <a:t>бывший </a:t>
            </a:r>
            <a:r>
              <a:rPr b="1" lang="en-US" sz="3200" spc="-1" strike="noStrike" u="sng">
                <a:solidFill>
                  <a:srgbClr val="99cc00"/>
                </a:solidFill>
                <a:uFillTx/>
                <a:latin typeface="Arial"/>
              </a:rPr>
              <a:t>Antiviral Toolkit 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cc00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99cc00"/>
                </a:solidFill>
                <a:uFillTx/>
                <a:latin typeface="Arial"/>
              </a:rPr>
              <a:t>Network Associates McAfee </a:t>
            </a: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1" lang="en-US" sz="3200" spc="-1" strike="noStrike" u="sng">
                <a:solidFill>
                  <a:srgbClr val="99cc00"/>
                </a:solidFill>
                <a:uFillTx/>
                <a:latin typeface="Arial"/>
              </a:rPr>
              <a:t>Virus</a:t>
            </a:r>
            <a:r>
              <a:rPr b="1" lang="ru-RU" sz="3200" spc="-1" strike="noStrike" u="sng">
                <a:solidFill>
                  <a:srgbClr val="99cc00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99cc00"/>
                </a:solidFill>
                <a:uFillTx/>
                <a:latin typeface="Arial"/>
              </a:rPr>
              <a:t>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cc00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99cc00"/>
                </a:solidFill>
                <a:uFillTx/>
                <a:latin typeface="Arial"/>
              </a:rPr>
              <a:t>Symantec Norton AntiVi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cc00"/>
                </a:solidFill>
                <a:uFillTx/>
                <a:latin typeface="Arial"/>
              </a:rPr>
              <a:t>Trend Micro PC-cil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372360" y="1450800"/>
            <a:ext cx="2087280" cy="1965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524720" y="4724280"/>
            <a:ext cx="1219320" cy="4572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227640" y="5865840"/>
            <a:ext cx="23227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9144000" cy="1467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ВЫВОД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395280" y="907560"/>
            <a:ext cx="8353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imes New Roman"/>
              </a:rPr>
              <a:t>Угроза исходит от компьютерных вирусов, которые уничтожают жизненно важную, ценную информацию, что может привести к финансовым потерям. В настоящее время известно более 5000 программных вирусов, число которых непрерывно расте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imes New Roman"/>
              </a:rPr>
              <a:t>Здоровье ваших компьютеров, сохранность ваших данных - в ваших руках!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24000" y="1268280"/>
            <a:ext cx="8497800" cy="4751280"/>
            <a:chOff x="324000" y="1268280"/>
            <a:chExt cx="8497800" cy="4751280"/>
          </a:xfrm>
        </p:grpSpPr>
        <p:grpSp>
          <p:nvGrpSpPr>
            <p:cNvPr id="45" name=""/>
            <p:cNvGrpSpPr/>
            <p:nvPr/>
          </p:nvGrpSpPr>
          <p:grpSpPr>
            <a:xfrm>
              <a:off x="324000" y="1268280"/>
              <a:ext cx="8497800" cy="4751280"/>
              <a:chOff x="324000" y="1268280"/>
              <a:chExt cx="8497800" cy="4751280"/>
            </a:xfrm>
          </p:grpSpPr>
          <p:pic>
            <p:nvPicPr>
              <p:cNvPr id="4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00" y="1268280"/>
                <a:ext cx="8497800" cy="475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>
                <a:off x="2556000" y="1699920"/>
                <a:ext cx="6048360" cy="3111480"/>
              </a:xfrm>
              <a:prstGeom prst="rect">
                <a:avLst/>
              </a:prstGeom>
              <a:solidFill>
                <a:srgbClr val="d3c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План презентаци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buClr>
                    <a:srgbClr val="000000"/>
                  </a:buClr>
                  <a:buFont typeface="Arial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Понятие вредоносного программного обеспечения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buClr>
                    <a:srgbClr val="000000"/>
                  </a:buClr>
                  <a:buFont typeface="Arial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Классификация вредоносного программного обеспечения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buClr>
                    <a:srgbClr val="000000"/>
                  </a:buClr>
                  <a:buFont typeface="Arial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Компьютерные вирусы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buClr>
                    <a:srgbClr val="000000"/>
                  </a:buClr>
                  <a:buFont typeface="Arial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Признаки появления и способы заражения вирусами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buClr>
                    <a:srgbClr val="000000"/>
                  </a:buClr>
                  <a:buFont typeface="Arial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Программные антивирусные средства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buClr>
                    <a:srgbClr val="000000"/>
                  </a:buClr>
                  <a:buFont typeface="Arial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Самостоятельные исследования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buClr>
                    <a:srgbClr val="000000"/>
                  </a:buClr>
                  <a:buFont typeface="Arial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Вывод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395280" y="1339560"/>
              <a:ext cx="8424720" cy="287640"/>
            </a:xfrm>
            <a:prstGeom prst="rect">
              <a:avLst/>
            </a:prstGeom>
            <a:gradFill rotWithShape="0">
              <a:gsLst>
                <a:gs pos="0">
                  <a:srgbClr val="7171b8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6767640" y="4624560"/>
            <a:ext cx="2376360" cy="2233440"/>
            <a:chOff x="6767640" y="4624560"/>
            <a:chExt cx="2376360" cy="22334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6767640" y="4624560"/>
              <a:ext cx="2376360" cy="22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954480" y="6162120"/>
              <a:ext cx="487800" cy="1465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. Понятие вредоносного программного обеспечен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84872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К вредоносному программному обеспечению относятся сетевые черви, компьютерные вирусы, троянские программы, хакерские утилиты и прочие программы, наносящие какой-либо вред компьютеру, на котором </a:t>
            </a:r>
            <a:br>
              <a:rPr sz="3200"/>
            </a:b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они запускаются, или другим </a:t>
            </a:r>
            <a:br>
              <a:rPr sz="3200"/>
            </a:b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компьютерам в се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99cc00"/>
                </a:solidFill>
                <a:latin typeface="Arial"/>
              </a:rPr>
              <a:t>http://www.viruslist.com/ru</a:t>
            </a: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16360" y="2276640"/>
            <a:ext cx="504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1413000"/>
            <a:ext cx="8905680" cy="5068440"/>
            <a:chOff x="0" y="1413000"/>
            <a:chExt cx="8905680" cy="5068440"/>
          </a:xfrm>
        </p:grpSpPr>
        <p:sp>
          <p:nvSpPr>
            <p:cNvPr id="56" name=""/>
            <p:cNvSpPr/>
            <p:nvPr/>
          </p:nvSpPr>
          <p:spPr>
            <a:xfrm>
              <a:off x="2592360" y="1413000"/>
              <a:ext cx="3384360" cy="57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редоносно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программно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обеспечени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87280" y="2709720"/>
              <a:ext cx="1371600" cy="685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135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Классические компьютерные вирус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592360" y="2709720"/>
              <a:ext cx="1371600" cy="685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135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Троянские программ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11640" y="2349360"/>
              <a:ext cx="0" cy="34272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80000" y="2709720"/>
              <a:ext cx="1600200" cy="685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189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Сетевые чер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64000" y="3600360"/>
              <a:ext cx="923760" cy="570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Проникно</a:t>
              </a:r>
              <a:r>
                <a:rPr b="0" lang="en-US" sz="800" spc="-1" strike="noStrike">
                  <a:solidFill>
                    <a:srgbClr val="333333"/>
                  </a:solidFill>
                  <a:latin typeface="Arial"/>
                </a:rPr>
                <a:t>-</a:t>
              </a: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вение на удаленные компьютеры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64000" y="4424400"/>
              <a:ext cx="901800" cy="685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</a:rPr>
                <a:t>Запуск своей копии на удаленном компьютере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64000" y="5338800"/>
              <a:ext cx="901800" cy="924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</a:rPr>
                <a:t>Дальнейшее распространение на другие компьютеры в сет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79920" y="3395520"/>
              <a:ext cx="0" cy="228564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87640" y="3510000"/>
              <a:ext cx="1076040" cy="685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</a:rPr>
                <a:t>Сбор информации и ее передача злоумышленнику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87640" y="4309920"/>
              <a:ext cx="1076040" cy="571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</a:rPr>
                <a:t>Разрушение или злонамеренная модификаци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87640" y="4995720"/>
              <a:ext cx="1076040" cy="571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Нарушение работо</a:t>
              </a:r>
              <a:r>
                <a:rPr b="0" lang="en-US" sz="800" spc="-1" strike="noStrike">
                  <a:solidFill>
                    <a:srgbClr val="333333"/>
                  </a:solidFill>
                  <a:latin typeface="Arial"/>
                </a:rPr>
                <a:t>-</a:t>
              </a: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способности компьютер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92280" y="3395520"/>
              <a:ext cx="0" cy="182844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392280" y="3852720"/>
              <a:ext cx="11448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392280" y="4653000"/>
              <a:ext cx="11448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92280" y="5224320"/>
              <a:ext cx="11448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280" y="3671640"/>
              <a:ext cx="792360" cy="477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Последую</a:t>
              </a:r>
              <a:r>
                <a:rPr b="0" lang="en-US" sz="800" spc="-1" strike="noStrike">
                  <a:solidFill>
                    <a:srgbClr val="333333"/>
                  </a:solidFill>
                  <a:latin typeface="Arial"/>
                </a:rPr>
                <a:t>-</a:t>
              </a: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щий запуск своего код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4437000"/>
              <a:ext cx="863640" cy="91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</a:rPr>
                <a:t>Дальнейшее внедрение в другие ресурсы компьютер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973080" y="3395520"/>
              <a:ext cx="0" cy="159984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087640" y="5681520"/>
              <a:ext cx="1076040" cy="799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</a:rPr>
                <a:t>Использование ресурсов компьютера в неблаговидных целях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708520" y="3624120"/>
              <a:ext cx="843120" cy="45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Worm.Win32.</a:t>
              </a:r>
              <a:br>
                <a:rPr sz="800"/>
              </a:b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Lovesa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08520" y="4195800"/>
              <a:ext cx="843120" cy="385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I-Worm.Swe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688000" y="4868640"/>
              <a:ext cx="896760" cy="333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I-Worm.Sobig.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5582880" y="3395520"/>
              <a:ext cx="11160" cy="164448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5365440" y="3852720"/>
              <a:ext cx="11412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5365440" y="4767120"/>
              <a:ext cx="11412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5365440" y="5681520"/>
              <a:ext cx="11412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594400" y="3852720"/>
              <a:ext cx="11412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94400" y="4309920"/>
              <a:ext cx="11412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3240" y="5040360"/>
              <a:ext cx="11412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278160" y="3395520"/>
              <a:ext cx="0" cy="262872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3163680" y="6024600"/>
              <a:ext cx="11448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3163680" y="5224320"/>
              <a:ext cx="11448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3163680" y="4653000"/>
              <a:ext cx="11448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3163680" y="3852720"/>
              <a:ext cx="11448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06760" y="3624120"/>
              <a:ext cx="762120" cy="571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Trojan-Proxy.</a:t>
              </a:r>
              <a:br>
                <a:rPr sz="800"/>
              </a:b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Win32.</a:t>
              </a:r>
              <a:br>
                <a:rPr sz="800"/>
              </a:b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Mitglied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06760" y="4424400"/>
              <a:ext cx="812880" cy="45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Backdoor.</a:t>
              </a:r>
              <a:br>
                <a:rPr sz="800"/>
              </a:b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Agobot.ge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06760" y="4995720"/>
              <a:ext cx="812880" cy="571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Trojan-Downloader.BAT.Ftp.a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858600" y="3967200"/>
              <a:ext cx="11412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97000" y="3600360"/>
              <a:ext cx="647640" cy="45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</a:rPr>
                <a:t>Win32.FunLove.</a:t>
              </a:r>
              <a:br>
                <a:rPr sz="800"/>
              </a:br>
              <a:r>
                <a:rPr b="0" lang="en-US" sz="800" spc="-1" strike="noStrike">
                  <a:solidFill>
                    <a:srgbClr val="333333"/>
                  </a:solidFill>
                  <a:latin typeface="Arial"/>
                </a:rPr>
                <a:t>3662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197000" y="4176720"/>
              <a:ext cx="647640" cy="342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Win32.</a:t>
              </a:r>
              <a:br>
                <a:rPr sz="800"/>
              </a:b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Xoral</a:t>
              </a:r>
              <a:r>
                <a:rPr b="0" lang="ru-RU" sz="1000" spc="-1" strike="noStrike">
                  <a:solidFill>
                    <a:srgbClr val="333333"/>
                  </a:solidFill>
                  <a:latin typeface="Arial"/>
                </a:rPr>
                <a:t>a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01680" y="4767120"/>
              <a:ext cx="642960" cy="45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</a:rPr>
                <a:t>Win32.Parite.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01680" y="5338800"/>
              <a:ext cx="642960" cy="421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Win95.</a:t>
              </a:r>
              <a:br>
                <a:rPr sz="800"/>
              </a:b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Spaces.</a:t>
              </a:r>
              <a:br>
                <a:rPr sz="800"/>
              </a:b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124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87560" y="3395520"/>
              <a:ext cx="0" cy="217152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87560" y="5567400"/>
              <a:ext cx="11412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87560" y="4881600"/>
              <a:ext cx="11412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87560" y="4309920"/>
              <a:ext cx="11412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87560" y="3738600"/>
              <a:ext cx="11412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72360" y="2709720"/>
              <a:ext cx="1368360" cy="685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189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рочие вредоносные программ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29560" y="3395520"/>
              <a:ext cx="0" cy="251424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58160" y="3395520"/>
              <a:ext cx="0" cy="182844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45320" y="3624120"/>
              <a:ext cx="755640" cy="596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«</a:t>
              </a:r>
              <a:r>
                <a:rPr b="0" lang="en-US" sz="800" spc="-1" strike="noStrike">
                  <a:solidFill>
                    <a:srgbClr val="333333"/>
                  </a:solidFill>
                  <a:latin typeface="Arial"/>
                </a:rPr>
                <a:t>З</a:t>
              </a: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амусо</a:t>
              </a:r>
              <a:r>
                <a:rPr b="0" lang="en-US" sz="800" spc="-1" strike="noStrike">
                  <a:solidFill>
                    <a:srgbClr val="333333"/>
                  </a:solidFill>
                  <a:latin typeface="Arial"/>
                </a:rPr>
                <a:t>-</a:t>
              </a: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ривание» сет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45320" y="4424400"/>
              <a:ext cx="755640" cy="342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</a:rPr>
                <a:t>Сетевые атак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745320" y="4881600"/>
              <a:ext cx="755640" cy="685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Взломщики удаленных компью</a:t>
              </a:r>
              <a:r>
                <a:rPr b="0" lang="en-US" sz="800" spc="-1" strike="noStrike">
                  <a:solidFill>
                    <a:srgbClr val="333333"/>
                  </a:solidFill>
                  <a:latin typeface="Arial"/>
                </a:rPr>
                <a:t>-</a:t>
              </a: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теров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5320" y="5688000"/>
              <a:ext cx="784080" cy="570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</a:rPr>
                <a:t>Фатальные сетевые атак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7500600" y="3967200"/>
              <a:ext cx="22860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7500600" y="4538520"/>
              <a:ext cx="22860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7500600" y="5110200"/>
              <a:ext cx="22860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7500600" y="5910120"/>
              <a:ext cx="22860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072280" y="3510000"/>
              <a:ext cx="833400" cy="342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DoS.Perl.</a:t>
              </a:r>
              <a:br>
                <a:rPr sz="800"/>
              </a:b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Avi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72280" y="3967200"/>
              <a:ext cx="833400" cy="45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</a:rPr>
                <a:t>HackTool.Win32.CrackSearch.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072280" y="4538520"/>
              <a:ext cx="833400" cy="45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Flooder.</a:t>
              </a:r>
              <a:br>
                <a:rPr sz="800"/>
              </a:b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Win32</a:t>
              </a:r>
              <a:br>
                <a:rPr sz="800"/>
              </a:b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.Fux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082000" y="5113080"/>
              <a:ext cx="823680" cy="45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DoS.Win32</a:t>
              </a:r>
              <a:br>
                <a:rPr sz="800"/>
              </a:br>
              <a:r>
                <a:rPr b="0" lang="ru-RU" sz="800" spc="-1" strike="noStrike">
                  <a:solidFill>
                    <a:srgbClr val="333333"/>
                  </a:solidFill>
                  <a:latin typeface="Arial"/>
                </a:rPr>
                <a:t>.DieW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58160" y="5224320"/>
              <a:ext cx="11412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58160" y="3738600"/>
              <a:ext cx="11412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958160" y="4309920"/>
              <a:ext cx="11412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958160" y="4767120"/>
              <a:ext cx="11412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858600" y="4995720"/>
              <a:ext cx="11412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34920" y="2349360"/>
              <a:ext cx="0" cy="34272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43640" y="2349360"/>
              <a:ext cx="0" cy="34272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848720" y="2349360"/>
              <a:ext cx="0" cy="34272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48000" y="1989000"/>
              <a:ext cx="0" cy="36000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34920" y="2349360"/>
              <a:ext cx="691380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468360" y="18900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Классификация вредоносного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ограммного обеспе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79280" y="274680"/>
          <a:ext cx="8507520" cy="6416640"/>
        </p:xfrm>
        <a:graphic>
          <a:graphicData uri="http://schemas.openxmlformats.org/drawingml/2006/table">
            <a:tbl>
              <a:tblPr/>
              <a:tblGrid>
                <a:gridCol w="2127240"/>
                <a:gridCol w="2194200"/>
                <a:gridCol w="2058840"/>
                <a:gridCol w="2127240"/>
              </a:tblGrid>
              <a:tr h="32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лассические компьютерные виру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 данной категории относятся программы, распространяющие свои копии по ресурсам локального компьютера с целью: последующего запуска своего кода при каких-либо действиях пользователя; дальнейшего внедрения в другие ресурсы компьютер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оянские програм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данную категорию входят программы, осу-ществляющие несанкцио-нированные пользовате-лем действия: сбор ин-формации и ее передачу злоумышленнику, ее раз-рушение или модифика-цию, нарушение работо-способности компьютера, использование ресурсов компьютера в неблаго-видных целя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тевые чер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 данной катего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носятся программы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пространяющие сво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пии по локальным и/и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лобальным сетям с целью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87480"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никновения на удаленные компьютеры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87480"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пуска своей копии на удаленном компьютере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87480"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льнейшего распространения на другие компьютеры се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0000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чие вредоносные програм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0000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 данной катего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0000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носятс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0000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тилиты автоматизации создания сетевых червей, вирусов и троянских програ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0000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иблиотеки, разработанные для создания вредоносного ПО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0000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тилиты скрытия кода зараженных файлов от антивирусной пров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2014560" cy="2016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588000" y="3933720"/>
            <a:ext cx="2043360" cy="2374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rcRect l="27614" t="0" r="12980" b="0"/>
          <a:stretch/>
        </p:blipFill>
        <p:spPr>
          <a:xfrm>
            <a:off x="6659640" y="836640"/>
            <a:ext cx="2016000" cy="2232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rcRect l="29989" t="11395" r="14078" b="12094"/>
          <a:stretch/>
        </p:blipFill>
        <p:spPr>
          <a:xfrm>
            <a:off x="324000" y="3860640"/>
            <a:ext cx="1917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. Основное поня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99cc00"/>
                </a:solidFill>
                <a:uFillTx/>
                <a:latin typeface="Arial"/>
              </a:rPr>
              <a:t>Компьютерный виру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это программный код, встроенный в другую программу или документ, или в определённые области носителя данных и предназначенный для выполнения несанкционированных действий на несущем компьютере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По «среде обитания» вирусы делятся н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2492280"/>
            <a:ext cx="3384720" cy="16574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Файловые вир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16360" y="4508640"/>
            <a:ext cx="3384360" cy="16570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Макровир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2421000"/>
            <a:ext cx="3384720" cy="16574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етевые вир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92360" y="1700280"/>
            <a:ext cx="79200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11640" y="1700280"/>
            <a:ext cx="865080" cy="2665440"/>
          </a:xfrm>
          <a:prstGeom prst="downArrow">
            <a:avLst>
              <a:gd name="adj1" fmla="val 50000"/>
              <a:gd name="adj2" fmla="val 770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659640" y="1700280"/>
            <a:ext cx="792000" cy="64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Файловые вирусы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1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недряются в программу и активизируются при их запуске. После запуска заражённой программы вирусы находятся в оперативной памяти компьютера и могут заражать другие файлы до момента выключения компьютера или перезагрузки операционной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Макровирусы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Заражают файлы документов, например, текстовых документов. После загрузки заражённого документа в текстовый редактор макровирус постоянно присутствует в оперативной памяти компьютера и может заражать другие документы. Угроза заражения прекращается только после закрытия текстового докум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5:09:47Z</dcterms:created>
  <dc:creator>Артём</dc:creator>
  <dc:description/>
  <dc:language>en-US</dc:language>
  <cp:lastModifiedBy>-</cp:lastModifiedBy>
  <dcterms:modified xsi:type="dcterms:W3CDTF">2008-05-25T16:09:45Z</dcterms:modified>
  <cp:revision>9</cp:revision>
  <dc:subject/>
  <dc:title>Компьютерные вирусы</dc:title>
</cp:coreProperties>
</file>