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98E-C9B7-4613-965D-40FC9ED8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811-232C-416E-A948-123FF696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351-8DDD-463E-822B-D252E8DE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B97-FA82-40C7-A2C0-563E1EE2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F7DE-22A7-4373-A8A8-B42A1A8C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F98A-AA44-44AF-8F16-21619863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C59C-9ABE-4FE0-A4D4-0E42C450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11FF-D67B-4262-B89D-AC65FB69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8A2D-7121-428E-A575-1C34C3F0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0511-ED8C-4ADB-B2DE-F0974476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EDB0-5D4F-44B2-884A-81D3A900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432-1794-4989-BF9F-BE063614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0357-AA43-4222-98B0-DFB9B3F5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877D-1A5F-40D4-A930-2EEB8793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06AC-55AB-4281-91D9-8B1C2ED1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3E15-277D-48FE-BECA-D9B31CAA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8BAE-65C1-43AF-96E8-37CB6C09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C8132-ECEB-4038-B662-7601C90E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7F1A-1EEB-4BBD-8D50-0197169D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D441-8675-47D1-8002-86584DFD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C8903-059E-48DE-ADE5-C9D8F6A6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37842-9B9F-4375-B9FD-04FF7DE3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716E-477E-402A-9E09-C89EF1F6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B14D2-DAE2-4B56-8098-3278811A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46FE-BA21-4D54-BEF7-1861C7B8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B56A9-C9A0-41D1-89AC-07F936B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91DB-9668-4728-BF8B-3FC24D27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78012-A442-442B-81DA-1C4DF8C1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B6F5B-CA8D-4842-A948-9E1BDAB4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FD52F-8436-4DD4-BECE-0FC7E366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88E-E213-4C5C-A0A0-19CD9A44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645-779E-40BB-9FE8-EE26D65D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846-7F53-4C83-969E-6A1081DB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242-ECC0-4811-AE17-10C39603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576-8E14-408A-AE20-C6DC56AA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114-CAEB-4CB5-B912-213B4583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494A-377B-4122-879F-6DE1FD4E48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B62A-648F-48EB-BA17-23D0081525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2AB0-4BED-4703-8D9A-50975E3F7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31640" y="3284280"/>
            <a:ext cx="54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ОГНЕСТРЕЛЬНОЕ ОРУЖ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00"/>
                            </p:stCondLst>
                            <p:childTnLst>
                              <p:par>
                                <p:cTn id="13" nodeType="afterEffect" fill="hold" presetClass="exit" presetID="55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ий вид пистолета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- мушк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- кожух-затво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 - рамк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 - окно для экстракции гильз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- затворная задержк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- насечк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 - целик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 - курок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 - предохранитель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 - рычаг безопасного спуска курк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 - крышка магазин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 - рукоять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 - защелка магазин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 - спусковой крючок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5 - спусковая скоб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 - упор для стрельбы двумя руками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 - направляющие для установки аксессуаров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8 - дул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stol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4103640" cy="27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3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3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3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3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3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3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935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5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eretta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92 предназначен для вооружения полиции и армии. Пистолет серийно выпускался с 1976 года и в различных модификациях был принят на вооружение более чем в 50 странах. В настоящее время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Beretta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92 не производитс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мка пистолета изготавливается из алюминиевого сплава, а затвор из стали. Щечки рукоятки деревянные. Предохранитель расположен на рамке слева, а кнопка извлечения магазина в нижней части рукоятки. На кожухе-затворе имеется индикатор наличия патрона в патроннике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beretta9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374472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3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3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3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4" dur="3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5" dur="3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3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450"/>
                            </p:stCondLst>
                            <p:childTnLst>
                              <p:par>
                                <p:cTn id="408" nodeType="after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3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5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Автома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сновные наступательные оружия современной пехот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временные автоматы обычно имеют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калибр от 5,45 до 7,62м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емкость магазинов от 20 до 30 и более патронов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режимы огня полностью автоматический (очередями) и одиночными выстрелами, а некоторые модели - еще и с отсечкой (т.е. очередями по 2 или 3 выстрела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ффективная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дальность стрельбы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в среднем до 600 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эффективная практическая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скорострельность - до 400 выстр/мин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чередями. Многие автоматы являются "прародителями" или составными частями целых семейств автоматического оружия (от коротких "карабинов" до ручных пулеметов - хороший тому пример австрийский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UG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или семейство АК/РПК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чти все автоматы 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могут оснащаться штыком, ночным, оптическим или коллиматорным прицело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а некоторые - еще и подствольным 30-40мм гранатометом или насадкой для метания ружейных гранат (ружейные гранаты одеваются на ствол и выстреливаются холостым патроном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850"/>
                            </p:stCondLst>
                            <p:childTnLst>
                              <p:par>
                                <p:cTn id="42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3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30"/>
                            </p:stCondLst>
                            <p:childTnLst>
                              <p:par>
                                <p:cTn id="437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3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310"/>
                            </p:stCondLst>
                            <p:childTnLst>
                              <p:par>
                                <p:cTn id="445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3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250"/>
                            </p:stCondLst>
                            <p:childTnLst>
                              <p:par>
                                <p:cTn id="453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3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3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8300"/>
                            </p:stCondLst>
                            <p:childTnLst>
                              <p:par>
                                <p:cTn id="461" nodeType="after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014_i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201080" cy="19447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4365360"/>
            <a:ext cx="8153640" cy="13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-47 - Патрон 7.62*39, автоматика - газоотвод, длина - 870 мм, длина ствола - 414 мм, масса - 3.8 кг, емкость магазина - 30 патронов, темп стрельбы - 600 в/мин, прицельная дальность - 800 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3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3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3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370"/>
                            </p:stCondLst>
                            <p:childTnLst>
                              <p:par>
                                <p:cTn id="489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r>
              <a:rPr b="0" lang="en-US" sz="33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"/>
              </a:rPr>
              <a:t>-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"/>
              </a:rPr>
              <a:t>это оружие,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"/>
              </a:rPr>
              <a:t>в котором для выбрасывания снаряда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"/>
              </a:rPr>
              <a:t> (мины, пули)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"/>
              </a:rPr>
              <a:t>из канала ствола используется энергия взрывчатого вещ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755640" y="1915920"/>
            <a:ext cx="77040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Появилось в 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XII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в. у арабов (Модфа), в </a:t>
            </a:r>
            <a:r>
              <a:rPr b="0" lang="en-US" sz="2400" spc="-1" strike="noStrike">
                <a:solidFill>
                  <a:srgbClr val="ffffff"/>
                </a:solidFill>
                <a:latin typeface="Century"/>
              </a:rPr>
              <a:t>XIV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в. в Зап. Европе и на Рус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рельба из модфы (старинная гравюр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59280" y="2708280"/>
            <a:ext cx="295272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1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1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7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2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4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39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10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r>
              <a:rPr b="0" lang="en-US" sz="33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Делится 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entury"/>
              </a:rPr>
              <a:t>артиллерийское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(гаубицы, пушки, минометы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entury"/>
              </a:rPr>
              <a:t>стрелковое</a:t>
            </a:r>
            <a:r>
              <a:rPr b="0" lang="ru-RU" sz="2800" spc="-1" strike="noStrike">
                <a:solidFill>
                  <a:srgbClr val="990000"/>
                </a:solidFill>
                <a:latin typeface="Century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(пистолеты, автоматы, винтовки, пулеметы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а также </a:t>
            </a:r>
            <a:r>
              <a:rPr b="1" lang="ru-RU" sz="2800" spc="-1" strike="noStrike">
                <a:solidFill>
                  <a:srgbClr val="990000"/>
                </a:solidFill>
                <a:latin typeface="Century"/>
              </a:rPr>
              <a:t>гранатометы</a:t>
            </a:r>
            <a:r>
              <a:rPr b="0" lang="ru-RU" sz="2800" spc="-1" strike="noStrike">
                <a:solidFill>
                  <a:srgbClr val="990000"/>
                </a:solidFill>
                <a:latin typeface="Century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50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300"/>
                            </p:stCondLst>
                            <p:childTnLst>
                              <p:par>
                                <p:cTn id="88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70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550"/>
                            </p:stCondLst>
                            <p:childTnLst>
                              <p:par>
                                <p:cTn id="104" nodeType="afterEffect" fill="hold" presetClass="exit" presetID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53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87320" indent="-78732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entury"/>
              </a:rPr>
              <a:t>Артиллерийское орудие</a:t>
            </a:r>
            <a:r>
              <a:rPr b="0" lang="en-US" sz="2800" spc="-1" strike="noStrike">
                <a:solidFill>
                  <a:srgbClr val="990000"/>
                </a:solidFill>
                <a:latin typeface="Century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8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Имеются различные типы артиллерийских орудий: </a:t>
            </a:r>
            <a:r>
              <a:rPr b="0" lang="ru-RU" sz="2400" spc="-1" strike="noStrike">
                <a:solidFill>
                  <a:srgbClr val="990000"/>
                </a:solidFill>
                <a:latin typeface="Century"/>
              </a:rPr>
              <a:t>пушки, гаубицы, минометы, безоткатные орудия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и другие. Также по назначению и месту установки: </a:t>
            </a:r>
            <a:r>
              <a:rPr b="0" lang="ru-RU" sz="2400" spc="-1" strike="noStrike">
                <a:solidFill>
                  <a:srgbClr val="990000"/>
                </a:solidFill>
                <a:latin typeface="Century"/>
              </a:rPr>
              <a:t>наземные, зенитные, авиационные, танковые, корабельные и береговые.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8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Артиллерийское орудие состоит из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ствола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(с казенником и дульным тормозом),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затвора и лаф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260"/>
                            </p:stCondLst>
                            <p:childTnLst>
                              <p:par>
                                <p:cTn id="137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93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1532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87320" indent="-78732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уш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7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артиллерийские орудия для настильной стрельбы по наземным (надводным) целям или для стрельбы по воздушным целя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7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либр современных пушек 20-210 мм, длина ствола 40-80 калибров, дальность стрельбы до 35 км и более; состоит на вооружении наземной и зенитной артиллерии сухопутных войск, самолетов, вертолетов, кораблей, береговых артиллерийских час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87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ются также пушки - гаубицы, которые сочетают в себе боевые свойства пушки и гаубицы  с преобладанием перв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700"/>
                            </p:stCondLst>
                            <p:childTnLst>
                              <p:par>
                                <p:cTn id="1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3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940"/>
                            </p:stCondLst>
                            <p:childTnLst>
                              <p:par>
                                <p:cTn id="1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3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45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3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4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-х пудовая бомбовая пушка образца 1849 года. Россия. В 1830-1840-х годах пушки для настильной стрельбы бомбами по кораблям интенсивно внедрялись на всех флотах ми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53 году Сталинградский завод «Баррикады» начал производство 180-мм пушки С-23 конструкции В. Г. Грабина. В 1960-х годах С-23 поставлялись в Сирию и приняли участие в арабо-израильских войн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26920" y="2565360"/>
            <a:ext cx="3527640" cy="2654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84360" y="2133720"/>
            <a:ext cx="3382920" cy="28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5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5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5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100"/>
                            </p:stCondLst>
                            <p:childTnLst>
                              <p:par>
                                <p:cTn id="209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600"/>
                            </p:stCondLst>
                            <p:childTnLst>
                              <p:par>
                                <p:cTn id="2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5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5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5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9992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аубицы  (нем. 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Haubitze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артиллерийские орудия для навесной стрельбы по укрытым целя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либр от 100 мм и выше, длина ствола 15-30 калибров, дальность стрельбы до 24 км и боле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0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кое применение во всех армиях гаубицы получили в 1-ю и 2-ю мировые вой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859280" y="1988640"/>
            <a:ext cx="3456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05-мм гаубица Бр-18 изготавливалась в 1938-1941 годах в СССР по лицензии чешской фирмы «Шкод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3744720" cy="29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700"/>
                            </p:stCondLst>
                            <p:childTnLst>
                              <p:par>
                                <p:cTn id="2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85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55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455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5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5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5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7150"/>
                            </p:stCondLst>
                            <p:childTnLst>
                              <p:par>
                                <p:cTn id="29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87320" indent="-78732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Century"/>
              </a:rPr>
              <a:t>Стрелковое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0000"/>
                </a:solidFill>
                <a:latin typeface="Century"/>
              </a:rPr>
              <a:t>оруж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8732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78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- огнестрельное оружие для стрельбы пулями или др. поражающими элементами: </a:t>
            </a:r>
            <a:r>
              <a:rPr b="0" lang="ru-RU" sz="2400" spc="-1" strike="noStrike">
                <a:solidFill>
                  <a:srgbClr val="990000"/>
                </a:solidFill>
                <a:latin typeface="Century"/>
              </a:rPr>
              <a:t>пистолеты, револьверы, пистолеты - пулеметы, автоматы, автоматические винтовки, пулем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250"/>
                            </p:stCondLst>
                            <p:childTnLst>
                              <p:par>
                                <p:cTn id="30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3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9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0000"/>
                </a:solidFill>
                <a:latin typeface="Century"/>
              </a:rPr>
              <a:t>ОГНЕСТРЕЛЬНОЕ ОРУЖИЕ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истоле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едставляют собой самозарядное оружие. В них энергия пороховых газов при каждом выстреле используется для приведения в действие всех механизмов, обеспечивающих подготовку к каждому новому выстрел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уществуют и автоматические пистолеты способные вести непрерывный автоматический огонь, они могут иметь дополнительную рукоятку или жесткую приставную кобуру-приклад для повышения устойчивости при стрельбе очередям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4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400"/>
                            </p:stCondLst>
                            <p:childTnLst>
                              <p:par>
                                <p:cTn id="346" nodeType="afterEffect" fill="hold" presetClass="exit" presetID="10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7:12:03Z</dcterms:created>
  <dc:creator>Janna</dc:creator>
  <dc:description/>
  <dc:language>en-US</dc:language>
  <cp:lastModifiedBy>Janna</cp:lastModifiedBy>
  <dcterms:modified xsi:type="dcterms:W3CDTF">2006-01-24T02:10:49Z</dcterms:modified>
  <cp:revision>3</cp:revision>
  <dc:subject/>
  <dc:title>ОГНЕСТРЕЛЬНОЕ ОРУЖИЕ</dc:title>
</cp:coreProperties>
</file>