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553-30D9-404B-AC83-8EAC03D0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10F-6DE4-4F77-93EB-9F57F4E8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A8D-898C-411C-94D4-32236BF8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5AD-468B-499C-B04E-8477D09B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80F5-4934-4018-B96C-6CD05E99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0305-5C4E-42BA-9E03-8556E075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4EAA-46DA-4712-9467-654F50AE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1F51-A098-41ED-A4C0-FC9D181F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49E8-CFF6-486B-8F6D-AC6F066B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9F91-F746-430F-A51B-9D8961F1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EBE8-6E41-484F-A0A1-F323F30F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5A9-9D66-4FF1-A499-8A50DEAF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72D5-BED5-4798-92C3-16865FE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1375-F049-486E-8476-4C5AAF22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0FD3-EC6F-44F9-B655-E973668C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A9AD-EC4F-434F-8F38-7E112BD8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A899-8968-441C-A018-A0CAF928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6096-624D-4657-9324-6B67FF56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0EC1-36E5-46EC-8162-89EA12B8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6ED0-5F4B-4022-9FFF-EEA58C8F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D913-EBBC-4DB4-9B97-DBD1E45F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A800-B632-486D-8338-7D041523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5BC-8C2D-417E-851D-1108109D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0343A-883F-42FA-AF29-46F3F7AC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14E9-E37E-4A6C-A4A9-94AFE8E0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19A7-72A3-4B48-8EC7-643D7236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9267-F6F1-4A8A-8B32-C95CA583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0981-261D-4A45-8CB7-E033C7B1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CFF8-D2F1-4E18-912C-00ABCB9E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637C-61BF-44A0-AAB7-00F6F47F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755-2EEF-4DB7-A02D-94AD25C1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17E-BDF7-4D72-8416-01C44738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64E-339C-4893-B6DA-A9B74812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83E-9D50-4E4A-A91F-757CF8C6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C84-7B3B-4ACF-9B9B-2A78C281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1C9-669C-4824-9E4A-5D93AA42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04C0-2F07-436B-85D0-E370E66FB3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9E17-69FD-4683-B0E9-0B601AC4A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AB5D-EFBE-4DB8-8BC1-BD27A7CDE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31640" y="3284280"/>
            <a:ext cx="54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ОГНЕСТРЕЛЬНОЕ ОРУЖ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xit" presetID="55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вид пистолета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- муш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- кожух-затво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- рам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 - окно для экстракции гильз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- затворная задерж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- насеч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- целик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 - курок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- предохранитель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- рычаг безопасного спуска кур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 - крышка магазин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- рукоять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 - защелка магазин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 - спусковой крючок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 - спусковая скоб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 - упор для стрельбы двумя руками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- направляющие для установки аксессуаров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 - дул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stol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4103640" cy="27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3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3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3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3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3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3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935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5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erett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92 предназначен для вооружения полиции и армии. Пистолет серийно выпускался с 1976 года и в различных модификациях был принят на вооружение более чем в 50 странах. В настоящее время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erett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92 не производитс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мка пистолета изготавливается из алюминиевого сплава, а затвор из стали. Щечки рукоятки деревянные. Предохранитель расположен на рамке слева, а кнопка извлечения магазина в нижней части рукоятки. На кожухе-затворе имеется индикатор наличия патрона в патроннике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beretta9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7447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3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3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3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3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3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3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450"/>
                            </p:stCondLst>
                            <p:childTnLst>
                              <p:par>
                                <p:cTn id="408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втома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сновные наступательные оружия современной пехо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ременные автоматы обычно имеют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калибр от 5,45 до 7,62м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емкость магазинов от 20 до 30 и более патроно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режимы огня полностью автоматический (очередями) и одиночными выстрелами, а некоторые модели - еще и с отсечкой (т.е. очередями по 2 или 3 выстрела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ффективная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дальность стрельб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в среднем до 600 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эффективная практическая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скорострельность - до 400 выстр/ми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чередями. Многие автоматы являются "прародителями" или составными частями целых семейств автоматического оружия (от коротких "карабинов" до ручных пулеметов - хороший тому пример австрийский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U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ли семейство АК/РПК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чти все автоматы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могут оснащаться штыком, ночным, оптическим или коллиматорным прицел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а некоторые - еще и подствольным 30-40мм гранатометом или насадкой для метания ружейных гранат (ружейные гранаты одеваются на ствол и выстреливаются холостым патроном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50"/>
                            </p:stCondLst>
                            <p:childTnLst>
                              <p:par>
                                <p:cTn id="4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3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30"/>
                            </p:stCondLst>
                            <p:childTnLst>
                              <p:par>
                                <p:cTn id="437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3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310"/>
                            </p:stCondLst>
                            <p:childTnLst>
                              <p:par>
                                <p:cTn id="445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250"/>
                            </p:stCondLst>
                            <p:childTnLst>
                              <p:par>
                                <p:cTn id="45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3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8300"/>
                            </p:stCondLst>
                            <p:childTnLst>
                              <p:par>
                                <p:cTn id="461" nodeType="after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014_i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201080" cy="1944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4365360"/>
            <a:ext cx="815364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-47 - Патрон 7.62*39, автоматика - газоотвод, длина - 870 мм, длина ствола - 414 мм, масса - 3.8 кг, емкость магазина - 30 патронов, темп стрельбы - 600 в/мин, прицельная дальность - 800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3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3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3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370"/>
                            </p:stCondLst>
                            <p:childTnLst>
                              <p:par>
                                <p:cTn id="489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r>
              <a:rPr b="0" lang="en-US" sz="33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"/>
              </a:rPr>
              <a:t>это оружие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"/>
              </a:rPr>
              <a:t>в котором для выбрасывания снаряда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"/>
              </a:rPr>
              <a:t> (мины, пули)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"/>
              </a:rPr>
              <a:t>из канала ствола используется энергия взрывчатого ве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55640" y="1915920"/>
            <a:ext cx="77040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Появилось в 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XII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в. у арабов (Модфа), в 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в. в Зап. Европе и на Ру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ельба из модфы (старинная гравю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7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2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4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9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r>
              <a:rPr b="0" lang="en-US" sz="33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Делится 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entury"/>
              </a:rPr>
              <a:t>артиллерийское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(гаубицы, пушки, минометы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entury"/>
              </a:rPr>
              <a:t>стрелковое</a:t>
            </a: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(пистолеты, автоматы, винтовки, пулеметы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а также </a:t>
            </a:r>
            <a:r>
              <a:rPr b="1" lang="ru-RU" sz="2800" spc="-1" strike="noStrike">
                <a:solidFill>
                  <a:srgbClr val="990000"/>
                </a:solidFill>
                <a:latin typeface="Century"/>
              </a:rPr>
              <a:t>гранатометы</a:t>
            </a: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5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30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7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55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87320" indent="-78732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Артиллерийское орудие</a:t>
            </a:r>
            <a:r>
              <a:rPr b="0" lang="en-US" sz="2800" spc="-1" strike="noStrike">
                <a:solidFill>
                  <a:srgbClr val="990000"/>
                </a:solidFill>
                <a:latin typeface="Century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Имеются различные типы артиллерийских орудий: </a:t>
            </a:r>
            <a:r>
              <a:rPr b="0" lang="ru-RU" sz="2400" spc="-1" strike="noStrike">
                <a:solidFill>
                  <a:srgbClr val="990000"/>
                </a:solidFill>
                <a:latin typeface="Century"/>
              </a:rPr>
              <a:t>пушки, гаубицы, минометы, безоткатные орудия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и другие. Также по назначению и месту установки: </a:t>
            </a:r>
            <a:r>
              <a:rPr b="0" lang="ru-RU" sz="2400" spc="-1" strike="noStrike">
                <a:solidFill>
                  <a:srgbClr val="990000"/>
                </a:solidFill>
                <a:latin typeface="Century"/>
              </a:rPr>
              <a:t>наземные, зенитные, авиационные, танковые, корабельные и береговые.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Артиллерийское орудие состоит из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ствола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(с казенником и дульным тормозом),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затвора и лаф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6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93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87320" indent="-7873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у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артиллерийские орудия для настильной стрельбы по наземным (надводным) целям или для стрельбы по воздушным цел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либр современных пушек 20-210 мм, длина ствола 40-80 калибров, дальность стрельбы до 35 км и более; состоит на вооружении наземной и зенитной артиллерии сухопутных войск, самолетов, вертолетов, кораблей, береговых артиллерийских ч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ются также пушки - гаубицы, которые сочетают в себе боевые свойства пушки и гаубицы  с преобладанием пер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"/>
                            </p:stCondLst>
                            <p:childTnLst>
                              <p:par>
                                <p:cTn id="1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94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45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4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-х пудовая бомбовая пушка образца 1849 года. Россия. В 1830-1840-х годах пушки для настильной стрельбы бомбами по кораблям интенсивно внедрялись на всех флотах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3 году Сталинградский завод «Баррикады» начал производство 180-мм пушки С-23 конструкции В. Г. Грабина. В 1960-х годах С-23 поставлялись в Сирию и приняли участие в арабо-израильских вой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26920" y="2565360"/>
            <a:ext cx="3527640" cy="2654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84360" y="2133720"/>
            <a:ext cx="338292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5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5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5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1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600"/>
                            </p:stCondLst>
                            <p:childTnLst>
                              <p:par>
                                <p:cTn id="2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9992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аубицы  (нем. 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Haubitze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тиллерийские орудия для навесной стрельбы по укрытым целя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бр от 100 мм и выше, длина ствола 15-30 калибров, дальность стрельбы до 24 км и бол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ое применение во всех армиях гаубицы получили в 1-ю и 2-ю мировые во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859280" y="1988640"/>
            <a:ext cx="3456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05-мм гаубица Бр-18 изготавливалась в 1938-1941 годах в СССР по лицензии чешской фирмы «Шкод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374472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700"/>
                            </p:stCondLst>
                            <p:childTnLst>
                              <p:par>
                                <p:cTn id="2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85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5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55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5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5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5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715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87320" indent="-78732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Стрелковое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оруж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- огнестрельное оружие для стрельбы пулями или др. поражающими элементами: </a:t>
            </a:r>
            <a:r>
              <a:rPr b="0" lang="ru-RU" sz="2400" spc="-1" strike="noStrike">
                <a:solidFill>
                  <a:srgbClr val="990000"/>
                </a:solidFill>
                <a:latin typeface="Century"/>
              </a:rPr>
              <a:t>пистолеты, револьверы, пистолеты - пулеметы, автоматы, автоматические винтовки, пулем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5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3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9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истол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едставляют собой самозарядное оружие. В них энергия пороховых газов при каждом выстреле используется для приведения в действие всех механизмов, обеспечивающих подготовку к каждому новому выстрел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ществуют и автоматические пистолеты способные вести непрерывный автоматический огонь, они могут иметь дополнительную рукоятку или жесткую приставную кобуру-приклад для повышения устойчивости при стрельбе очередя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400"/>
                            </p:stCondLst>
                            <p:childTnLst>
                              <p:par>
                                <p:cTn id="346" nodeType="afterEffect" fill="hold" presetClass="exit" presetID="1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7:12:03Z</dcterms:created>
  <dc:creator>Janna</dc:creator>
  <dc:description/>
  <dc:language>en-US</dc:language>
  <cp:lastModifiedBy>Janna</cp:lastModifiedBy>
  <dcterms:modified xsi:type="dcterms:W3CDTF">2006-01-24T02:10:49Z</dcterms:modified>
  <cp:revision>3</cp:revision>
  <dc:subject/>
  <dc:title>ОГНЕСТРЕЛЬНОЕ ОРУЖИЕ</dc:title>
</cp:coreProperties>
</file>