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media/coin.wav" ContentType="audio/x-wav"/>
  <Override PartName="/ppt/media/push.wav" ContentType="audio/x-wav"/>
  <Override PartName="/ppt/media/hammer.wav" ContentType="audio/x-wav"/>
  <Override PartName="/ppt/media/whoosh.wav" ContentType="audio/x-wav"/>
  <Override PartName="/ppt/media/cashreg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C47A-C407-40FA-9833-69E01DA2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FB27-43F1-4CD3-BABC-45E0AB3B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D4A52-3A93-4BBD-9E62-22F6024E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ADF35-330B-4E51-9068-403408A6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A9F38-8E2A-4CF3-919D-74A16C73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07A09-F520-47C7-B982-67939BCE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A48C2-0203-419F-9163-7032BFB4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3EFEB-FF6E-46AA-81C1-CB22151A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DAF49-3C18-4E3C-9FEC-040AF2B0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2E726-0095-4DBD-B066-61434A13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498DD-454B-4250-9315-7F2BF387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70402-E143-4C72-A7AF-DDD15235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E94D-5580-43BA-ADD9-1E0A2341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76228-A611-4EF6-A403-50D3C3DB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2F209-A439-4A8B-BA50-2216D07A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D66F7-68B5-4A05-879A-B403E3E6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22082-57FC-4E6A-8AA1-4CA20795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6B1D5-53BC-4D80-A32B-1CABF2C6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C3E21-56F7-496C-AC5A-755E76A3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32C61-9910-448D-A4E2-D176494D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E23B8-1095-4C84-9FB5-F528FC1D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A58A8-84C4-4F93-9EC3-C34EE3EB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BA90A-6E32-4286-9DC0-D4DE2771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48D6-230F-4FC1-9688-5D078B7C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6266E-8B16-48D4-9CA9-C491C27A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68115-F57B-4DE8-98E0-9ADEBE79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396CF-F1C0-49BD-BC63-B0016B5C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0A1D5-D56A-4DA7-9C42-E57D878F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59BCC-08B7-4B20-ADA2-6133990B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2DFE7-AB35-4751-B5A9-19A8ABB3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6E6B4-1909-4353-B588-44FA7EFA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2D707-EF49-4688-8FBD-D6AF39BF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87C0D-E2CD-4073-8EFF-DAD70DF9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26A68-859D-4184-8C52-4C55B2EC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C3E9-2741-419A-AAF4-E12EC84F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C0BE9-6180-4C17-AD29-5B805FD0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4587B-7342-4794-8B62-ECE5C715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81969-D296-4A12-9225-42C57BDE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A5784-5AF9-4A7C-BD20-9465DBBF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27F65-09DC-4A22-9502-606DCA62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D555C-8ED8-4DFF-8B2B-EF6F88DA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D09C3-0664-4773-BBAD-BE33CB2B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6AB2D-FB15-48D0-B2E9-DD21CB21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5BEC5-5816-4235-9BF4-F4EDC853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E8E5D-8551-490E-86D8-B089945A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F22F-0052-403E-B6A6-AC37ACCB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FE07B-5241-4DAD-9608-28738CD5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05FC1-B7C7-460F-9A7D-C1EDCFE9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C0B19-BB7B-4DD3-AC49-5CF275FD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7BB88-F112-4998-A53E-4EB02C52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CD901-1E5A-4340-8C8F-AC0C9880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ADD3-267C-4A8A-8783-AB5ED157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24C6-0DD3-46DD-A0FC-FC272096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1472-408B-4179-9AD8-53CF8482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9258-ABA7-47F4-8F58-E21B47A6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5CB5-96D4-4240-90CE-2E8F1CDE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7556-ABA4-464A-9881-A719328D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FCF8-36CC-4643-8D45-702940E3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1EE6-03FB-4F29-B87F-C4ED5CFC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9A4C-7CDE-4E24-9C89-CBB4EFFE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C8BF-0CAE-4C16-9A87-8015A394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6011-DC8C-4FCF-AAF7-1A1E4B9C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EEF9D-64AD-491F-B693-DE2DAD85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E7919-9A6E-4BDF-8B20-40207972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D6711-2872-43AD-93EA-0C96BC67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57482-BD3C-4235-8AD9-6B684705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C5B1B-C827-4AF6-9407-1F84439C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1153-B920-4D09-915A-D53DBD69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79489-F7F0-47C2-9696-9A4BE5FF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E78CA-94D0-4F5D-8D26-44678269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23726-A424-412E-8661-CDA8B3B7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8BAA6-04CD-4B9E-A5A5-0DF829B1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862DC-4CF9-4698-AE1C-9E63B6B7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BB774-305B-44EB-96AA-42D6673A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CE718-1D21-426A-B24A-9DE03FE0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1C38A-01B9-4FE9-A2B1-42E77095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458A7-60D1-4F61-A78B-D4A8357E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1F01F-A1C1-49DC-A48B-00B86BBE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04B1-620C-4990-9BB3-FF7DD4D4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B904B-1DCC-43B2-910E-B7A246A8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6DC54-8FD5-4078-8A7E-C5404730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66B2D-2D49-48D2-9E27-432A9C8B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023D4-C0FE-4726-AAFE-BCD0EE75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0581E-E5D3-468C-9FA7-2DED79A6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F94F6-5D72-4B34-B8C3-564CB019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EEFED-43D3-4437-A201-7A69DBFB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AB1A7-1824-497A-934C-ADE33852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DE24A-0D33-4604-89A8-4849FC30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6CF44-211D-4CA9-BC9C-39C840AA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B202-323B-4430-8C16-D1EEF774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C8515-A6A0-4FE4-8E8C-C3ED58AB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73373-90ED-4515-967B-C12D5024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B14F2-DC64-42C9-BC5F-1D7FE7C1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89E89-96F5-4D53-96FD-5D5F8853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88A33-1FC8-46BF-B3BB-2785B33D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3E530-A0B9-480D-BBDB-38A37BEC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322A7-0461-438C-8DA6-F760C18E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CE4D1-7349-4958-B517-769698A8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6DAD3-0176-44AB-BFB4-95B0F60C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3AF47-DE54-42E1-9C23-C666490E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E148-3487-49AF-BF31-211A98AA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D013F-2FE1-490D-95BA-C346651F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9BB25-8194-4EA0-869F-F30436FF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D33E0-84EB-452A-9E68-18F29530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95130-E580-4778-AE70-BA63FC93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EC9D5-AF42-4687-93EA-6621108A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C98A1-152B-4FC5-BB12-77C34C10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2DFA0-D4BC-4799-B305-CD076908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51A96-12FB-4923-9E9D-7685D35B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FA7B9-B8E4-47FD-A36A-C28253A6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2E353-792B-47AE-BDF9-8715B914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BB3E-0552-4BAD-AEE4-7DD2EEC2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CB146-76F8-4D5E-AFC9-F26461C0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72560-AABB-4330-A1BB-D5D79279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77705-CEB0-4841-8F20-CFF58BE9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9D5DA-86CC-40CA-B6D0-664B1BFD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E9977-3101-4EF3-9064-156932C9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9CB0F-B90B-4C2B-88C4-88426A6E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D5357-4BC1-46FA-AEFD-042848C7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C97C8-5F13-494C-8D4B-D9850280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F6D92-C65A-47AA-86F8-690BC7B7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0860B-FD67-4859-B677-1F8F33AE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AE19-BB94-4B26-96EB-43A94A57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44EE2-C22F-4EBF-841B-44427EDE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BEDE8-B625-4756-9C9A-D2F2F3C1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05902-1BCD-4A78-915F-981AF0E0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3D250-0035-4ADC-887B-1BE6A965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E44E2-23B6-4A48-9122-27419271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12C04-7EDE-4418-8E1A-675A1597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7BC97-106F-4970-8CCF-45D529D7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5C2F2-A7E5-4C35-B740-77B48EE7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17456-3783-48F6-A08F-418D390E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18E8B-46D0-4C22-99C3-8CC2AE02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910E-4A3B-4EFC-8FD4-0E0E1A00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87553-61F2-45EC-B345-77BBA973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A2782-412E-4020-824D-038D9799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FB27E-F819-484A-9DB8-1DC8A171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D3504-0B28-424B-834A-20C7662E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45163-EC8B-4D87-B825-714152BF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263D8-83F1-4535-8B53-9B78A77C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233F1-2F26-45F1-89A9-43512E1C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6A9CD-E08C-47CA-ADDA-59F47566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AE414-7F93-4FC6-AD71-B34A6151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0AE0C-52F2-4BD4-8699-E97B1813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95B1-5BFD-4EB8-93EA-C8BDD6E07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1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7587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260000"/>
            </a:solidFill>
            <a:ln w="57240">
              <a:solidFill>
                <a:srgbClr val="7587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962E-51AF-4E96-B010-E7840F9F06D6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3C89-BE4A-4DB7-B8B2-6ED22AF4176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1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2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4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4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4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4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9E7B-E093-4512-BF32-397145F64E2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9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0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0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60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61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A47A-B427-48AE-80D8-6995BCD56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59DB-D5F1-425A-A02B-D91A6284A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382D-271A-4576-B119-C9B8C25D4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18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8E61-731D-443B-BF9D-3D044B3040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788E-CFEE-44AF-ADC5-1AD016A3C2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30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1F1A-8583-4263-B5BE-ACB90704516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36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A267-CED0-4758-9B29-8D414D7AE1B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16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7587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3A9A-0C61-4E0D-A59A-2AC1C6A7D78F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image" Target="../media/image4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drumroll.wav" TargetMode="External"/><Relationship Id="rId4" Type="http://schemas.openxmlformats.org/officeDocument/2006/relationships/image" Target="../media/image4.png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71280" y="1844640"/>
            <a:ext cx="779148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6600"/>
                </a:solidFill>
                <a:latin typeface="GothicE"/>
              </a:rPr>
              <a:t>ENIGMA</a:t>
            </a:r>
            <a:r>
              <a:rPr b="1" lang="en-US" sz="9600" spc="-1" strike="noStrike">
                <a:solidFill>
                  <a:srgbClr val="cc6600"/>
                </a:solidFill>
                <a:latin typeface="Arial Black"/>
              </a:rPr>
              <a:t> </a:t>
            </a:r>
            <a:endParaRPr b="1" lang="en-US" sz="96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"Творчество многогранно... Однако, Искусство должно создавать целое из множества деталей, фрагментов и идей. 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Enigma становится своего рода синтезом всех оттенков Музыки,"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ИШЕЛЬ КРЕ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>
            <a:hlinkClick r:id="" action="ppaction://hlinkshowjump?jump=nextslide"/>
            <a:hlinkClick r:id="rId1"/>
          </p:cNvPr>
          <p:cNvSpPr/>
          <p:nvPr/>
        </p:nvSpPr>
        <p:spPr>
          <a:xfrm>
            <a:off x="4356000" y="6021360"/>
            <a:ext cx="900360" cy="53964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36029" h="21600">
                <a:moveTo>
                  <a:pt x="0" y="0"/>
                </a:moveTo>
                <a:lnTo>
                  <a:pt x="36029" y="0"/>
                </a:lnTo>
                <a:lnTo>
                  <a:pt x="36029" y="21600"/>
                </a:lnTo>
                <a:lnTo>
                  <a:pt x="0" y="21600"/>
                </a:lnTo>
                <a:close/>
              </a:path>
              <a:path fill="lightenLess" w="36029" h="21600">
                <a:moveTo>
                  <a:pt x="0" y="0"/>
                </a:moveTo>
                <a:lnTo>
                  <a:pt x="36029" y="0"/>
                </a:lnTo>
                <a:lnTo>
                  <a:pt x="34629" y="1400"/>
                </a:lnTo>
                <a:lnTo>
                  <a:pt x="1400" y="1400"/>
                </a:lnTo>
                <a:close/>
              </a:path>
              <a:path fill="darken" w="36029" h="21600">
                <a:moveTo>
                  <a:pt x="36029" y="0"/>
                </a:moveTo>
                <a:lnTo>
                  <a:pt x="36029" y="21600"/>
                </a:lnTo>
                <a:lnTo>
                  <a:pt x="34629" y="20200"/>
                </a:lnTo>
                <a:lnTo>
                  <a:pt x="34629" y="1400"/>
                </a:lnTo>
                <a:close/>
              </a:path>
              <a:path fill="darkenLess" w="36029" h="21600">
                <a:moveTo>
                  <a:pt x="36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9" y="20200"/>
                </a:lnTo>
                <a:close/>
              </a:path>
              <a:path fill="lighten" w="36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9" h="21600">
                <a:moveTo>
                  <a:pt x="11008" y="3794"/>
                </a:moveTo>
                <a:lnTo>
                  <a:pt x="25021" y="10800"/>
                </a:lnTo>
                <a:lnTo>
                  <a:pt x="1100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push dir="u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NIGM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вый альбом Enigma вышел в Европе 3 декабря 1990 г.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rgin Germany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и 12 февраля 1991 г. - в США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rgin/Charism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, очаровав слушателей и 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итиков во всем мире своим звуковым коллажем. Cингл "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eness part 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главил чарты в 23 странах, в то время как сам MCMXC a. D. стал хитом №  1 в 41 странах и завоевал 57 платиновых вознаграждений, включая тройное платиновое свидетельство в Америке, и был на вершин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p 20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 течение более чем пяти лет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3600360" y="6093000"/>
            <a:ext cx="900360" cy="53964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36029" h="21600">
                <a:moveTo>
                  <a:pt x="0" y="0"/>
                </a:moveTo>
                <a:lnTo>
                  <a:pt x="36029" y="0"/>
                </a:lnTo>
                <a:lnTo>
                  <a:pt x="36029" y="21600"/>
                </a:lnTo>
                <a:lnTo>
                  <a:pt x="0" y="21600"/>
                </a:lnTo>
                <a:close/>
              </a:path>
              <a:path fill="lightenLess" w="36029" h="21600">
                <a:moveTo>
                  <a:pt x="0" y="0"/>
                </a:moveTo>
                <a:lnTo>
                  <a:pt x="36029" y="0"/>
                </a:lnTo>
                <a:lnTo>
                  <a:pt x="34629" y="1400"/>
                </a:lnTo>
                <a:lnTo>
                  <a:pt x="1400" y="1400"/>
                </a:lnTo>
                <a:close/>
              </a:path>
              <a:path fill="darken" w="36029" h="21600">
                <a:moveTo>
                  <a:pt x="36029" y="0"/>
                </a:moveTo>
                <a:lnTo>
                  <a:pt x="36029" y="21600"/>
                </a:lnTo>
                <a:lnTo>
                  <a:pt x="34629" y="20200"/>
                </a:lnTo>
                <a:lnTo>
                  <a:pt x="34629" y="1400"/>
                </a:lnTo>
                <a:close/>
              </a:path>
              <a:path fill="darkenLess" w="36029" h="21600">
                <a:moveTo>
                  <a:pt x="36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9" y="20200"/>
                </a:lnTo>
                <a:close/>
              </a:path>
              <a:path fill="lighten" w="36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9" h="21600">
                <a:moveTo>
                  <a:pt x="11008" y="10800"/>
                </a:moveTo>
                <a:lnTo>
                  <a:pt x="25021" y="3794"/>
                </a:lnTo>
                <a:lnTo>
                  <a:pt x="25021" y="17806"/>
                </a:ln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>
            <a:hlinkClick r:id="" action="ppaction://hlinkshowjump?jump=nextslide"/>
            <a:hlinkClick r:id="rId2"/>
          </p:cNvPr>
          <p:cNvSpPr/>
          <p:nvPr/>
        </p:nvSpPr>
        <p:spPr>
          <a:xfrm>
            <a:off x="4896000" y="6093000"/>
            <a:ext cx="900000" cy="539640"/>
          </a:xfrm>
          <a:custGeom>
            <a:avLst/>
            <a:gdLst>
              <a:gd name="textAreaLeft" fmla="*/ 34920 w 900000"/>
              <a:gd name="textAreaRight" fmla="*/ 865080 w 90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36014" h="21600">
                <a:moveTo>
                  <a:pt x="0" y="0"/>
                </a:moveTo>
                <a:lnTo>
                  <a:pt x="36014" y="0"/>
                </a:lnTo>
                <a:lnTo>
                  <a:pt x="36014" y="21600"/>
                </a:lnTo>
                <a:lnTo>
                  <a:pt x="0" y="21600"/>
                </a:lnTo>
                <a:close/>
              </a:path>
              <a:path fill="lightenLess" w="36014" h="21600">
                <a:moveTo>
                  <a:pt x="0" y="0"/>
                </a:moveTo>
                <a:lnTo>
                  <a:pt x="36014" y="0"/>
                </a:lnTo>
                <a:lnTo>
                  <a:pt x="34614" y="1400"/>
                </a:lnTo>
                <a:lnTo>
                  <a:pt x="1400" y="1400"/>
                </a:lnTo>
                <a:close/>
              </a:path>
              <a:path fill="darken" w="36014" h="21600">
                <a:moveTo>
                  <a:pt x="36014" y="0"/>
                </a:moveTo>
                <a:lnTo>
                  <a:pt x="36014" y="21600"/>
                </a:lnTo>
                <a:lnTo>
                  <a:pt x="34614" y="20200"/>
                </a:lnTo>
                <a:lnTo>
                  <a:pt x="34614" y="1400"/>
                </a:lnTo>
                <a:close/>
              </a:path>
              <a:path fill="darkenLess" w="36014" h="21600">
                <a:moveTo>
                  <a:pt x="36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4" y="20200"/>
                </a:lnTo>
                <a:close/>
              </a:path>
              <a:path fill="lighten" w="36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4" h="21600">
                <a:moveTo>
                  <a:pt x="11001" y="3794"/>
                </a:moveTo>
                <a:lnTo>
                  <a:pt x="25014" y="10800"/>
                </a:lnTo>
                <a:lnTo>
                  <a:pt x="11001" y="17806"/>
                </a:lnTo>
                <a:close/>
              </a:path>
            </a:pathLst>
          </a:cu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3500000"/>
          </a:gra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3"/>
          <a:stretch/>
        </p:blipFill>
        <p:spPr>
          <a:xfrm>
            <a:off x="6156360" y="321300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4" name="co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3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6" dur="1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NIGM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ту расценивает каждую песню как "главу в книге", и поэтому истинное представление о работе можно получить только от целого альбома. Смесь григорианских песнопений шестого века, околдовывающего французского шепота Сандры, гипнотической, эфирной музыки с опьяняющими ритмами танца делают "</a:t>
            </a:r>
            <a:r>
              <a:rPr b="0" lang="la-VA" sz="2400" spc="-1" strike="noStrike">
                <a:solidFill>
                  <a:srgbClr val="000000"/>
                </a:solidFill>
                <a:latin typeface="Arial"/>
              </a:rPr>
              <a:t>MCMXC a.D.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корее удивительным слуховым путешествием, нежели собранием индивидуальных пес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4572000" y="6093000"/>
            <a:ext cx="900000" cy="539640"/>
          </a:xfrm>
          <a:custGeom>
            <a:avLst/>
            <a:gdLst>
              <a:gd name="textAreaLeft" fmla="*/ 34920 w 900000"/>
              <a:gd name="textAreaRight" fmla="*/ 865080 w 90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36014" h="21600">
                <a:moveTo>
                  <a:pt x="0" y="0"/>
                </a:moveTo>
                <a:lnTo>
                  <a:pt x="36014" y="0"/>
                </a:lnTo>
                <a:lnTo>
                  <a:pt x="36014" y="21600"/>
                </a:lnTo>
                <a:lnTo>
                  <a:pt x="0" y="21600"/>
                </a:lnTo>
                <a:close/>
              </a:path>
              <a:path fill="lightenLess" w="36014" h="21600">
                <a:moveTo>
                  <a:pt x="0" y="0"/>
                </a:moveTo>
                <a:lnTo>
                  <a:pt x="36014" y="0"/>
                </a:lnTo>
                <a:lnTo>
                  <a:pt x="34614" y="1400"/>
                </a:lnTo>
                <a:lnTo>
                  <a:pt x="1400" y="1400"/>
                </a:lnTo>
                <a:close/>
              </a:path>
              <a:path fill="darken" w="36014" h="21600">
                <a:moveTo>
                  <a:pt x="36014" y="0"/>
                </a:moveTo>
                <a:lnTo>
                  <a:pt x="36014" y="21600"/>
                </a:lnTo>
                <a:lnTo>
                  <a:pt x="34614" y="20200"/>
                </a:lnTo>
                <a:lnTo>
                  <a:pt x="34614" y="1400"/>
                </a:lnTo>
                <a:close/>
              </a:path>
              <a:path fill="darkenLess" w="36014" h="21600">
                <a:moveTo>
                  <a:pt x="36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4" y="20200"/>
                </a:lnTo>
                <a:close/>
              </a:path>
              <a:path fill="lighten" w="36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4" h="21600">
                <a:moveTo>
                  <a:pt x="11001" y="10800"/>
                </a:moveTo>
                <a:lnTo>
                  <a:pt x="25014" y="3794"/>
                </a:lnTo>
                <a:lnTo>
                  <a:pt x="25014" y="17806"/>
                </a:ln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>
            <a:hlinkClick r:id="" action="ppaction://hlinkshowjump?jump=nextslide"/>
            <a:hlinkClick r:id="rId2"/>
          </p:cNvPr>
          <p:cNvSpPr/>
          <p:nvPr/>
        </p:nvSpPr>
        <p:spPr>
          <a:xfrm>
            <a:off x="5867280" y="6093000"/>
            <a:ext cx="900360" cy="53964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36029" h="21600">
                <a:moveTo>
                  <a:pt x="0" y="0"/>
                </a:moveTo>
                <a:lnTo>
                  <a:pt x="36029" y="0"/>
                </a:lnTo>
                <a:lnTo>
                  <a:pt x="36029" y="21600"/>
                </a:lnTo>
                <a:lnTo>
                  <a:pt x="0" y="21600"/>
                </a:lnTo>
                <a:close/>
              </a:path>
              <a:path fill="lightenLess" w="36029" h="21600">
                <a:moveTo>
                  <a:pt x="0" y="0"/>
                </a:moveTo>
                <a:lnTo>
                  <a:pt x="36029" y="0"/>
                </a:lnTo>
                <a:lnTo>
                  <a:pt x="34629" y="1400"/>
                </a:lnTo>
                <a:lnTo>
                  <a:pt x="1400" y="1400"/>
                </a:lnTo>
                <a:close/>
              </a:path>
              <a:path fill="darken" w="36029" h="21600">
                <a:moveTo>
                  <a:pt x="36029" y="0"/>
                </a:moveTo>
                <a:lnTo>
                  <a:pt x="36029" y="21600"/>
                </a:lnTo>
                <a:lnTo>
                  <a:pt x="34629" y="20200"/>
                </a:lnTo>
                <a:lnTo>
                  <a:pt x="34629" y="1400"/>
                </a:lnTo>
                <a:close/>
              </a:path>
              <a:path fill="darkenLess" w="36029" h="21600">
                <a:moveTo>
                  <a:pt x="36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9" y="20200"/>
                </a:lnTo>
                <a:close/>
              </a:path>
              <a:path fill="lighten" w="36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9" h="21600">
                <a:moveTo>
                  <a:pt x="11008" y="3794"/>
                </a:moveTo>
                <a:lnTo>
                  <a:pt x="25021" y="10800"/>
                </a:lnTo>
                <a:lnTo>
                  <a:pt x="11008" y="17806"/>
                </a:lnTo>
                <a:close/>
              </a:path>
            </a:pathLst>
          </a:cu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3500000"/>
          </a:gra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newsflash/>
    <p:sndAc>
      <p:stSnd>
        <p:snd r:embed="rId3" name="pu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NIGM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ENIGMA 2 продолжила всемирный успех предшественника. Начиная с выпуска в декабре 1993, "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ROSS Of Changes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" отмечен 21 платиновым и 24 золотыми  альбомами во всем мире, и двойной платиновой продажей в США. Сингл "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urn to Innocence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тал хитом № 1 в восьми странах, достиг вершины 10 Чартов на  пяти различных континентах, и стал вершиной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p 5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 Америке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9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3600360" y="5877000"/>
            <a:ext cx="900360" cy="53964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36029" h="21600">
                <a:moveTo>
                  <a:pt x="0" y="0"/>
                </a:moveTo>
                <a:lnTo>
                  <a:pt x="36029" y="0"/>
                </a:lnTo>
                <a:lnTo>
                  <a:pt x="36029" y="21600"/>
                </a:lnTo>
                <a:lnTo>
                  <a:pt x="0" y="21600"/>
                </a:lnTo>
                <a:close/>
              </a:path>
              <a:path fill="lightenLess" w="36029" h="21600">
                <a:moveTo>
                  <a:pt x="0" y="0"/>
                </a:moveTo>
                <a:lnTo>
                  <a:pt x="36029" y="0"/>
                </a:lnTo>
                <a:lnTo>
                  <a:pt x="34629" y="1400"/>
                </a:lnTo>
                <a:lnTo>
                  <a:pt x="1400" y="1400"/>
                </a:lnTo>
                <a:close/>
              </a:path>
              <a:path fill="darken" w="36029" h="21600">
                <a:moveTo>
                  <a:pt x="36029" y="0"/>
                </a:moveTo>
                <a:lnTo>
                  <a:pt x="36029" y="21600"/>
                </a:lnTo>
                <a:lnTo>
                  <a:pt x="34629" y="20200"/>
                </a:lnTo>
                <a:lnTo>
                  <a:pt x="34629" y="1400"/>
                </a:lnTo>
                <a:close/>
              </a:path>
              <a:path fill="darkenLess" w="36029" h="21600">
                <a:moveTo>
                  <a:pt x="36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9" y="20200"/>
                </a:lnTo>
                <a:close/>
              </a:path>
              <a:path fill="lighten" w="36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9" h="21600">
                <a:moveTo>
                  <a:pt x="11008" y="10800"/>
                </a:moveTo>
                <a:lnTo>
                  <a:pt x="25021" y="3794"/>
                </a:lnTo>
                <a:lnTo>
                  <a:pt x="25021" y="17806"/>
                </a:ln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>
            <a:hlinkClick r:id="" action="ppaction://hlinkshowjump?jump=nextslide"/>
            <a:hlinkClick r:id="rId3"/>
          </p:cNvPr>
          <p:cNvSpPr/>
          <p:nvPr/>
        </p:nvSpPr>
        <p:spPr>
          <a:xfrm>
            <a:off x="4896000" y="5877000"/>
            <a:ext cx="900000" cy="539640"/>
          </a:xfrm>
          <a:custGeom>
            <a:avLst/>
            <a:gdLst>
              <a:gd name="textAreaLeft" fmla="*/ 34920 w 900000"/>
              <a:gd name="textAreaRight" fmla="*/ 865080 w 90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36014" h="21600">
                <a:moveTo>
                  <a:pt x="0" y="0"/>
                </a:moveTo>
                <a:lnTo>
                  <a:pt x="36014" y="0"/>
                </a:lnTo>
                <a:lnTo>
                  <a:pt x="36014" y="21600"/>
                </a:lnTo>
                <a:lnTo>
                  <a:pt x="0" y="21600"/>
                </a:lnTo>
                <a:close/>
              </a:path>
              <a:path fill="lightenLess" w="36014" h="21600">
                <a:moveTo>
                  <a:pt x="0" y="0"/>
                </a:moveTo>
                <a:lnTo>
                  <a:pt x="36014" y="0"/>
                </a:lnTo>
                <a:lnTo>
                  <a:pt x="34614" y="1400"/>
                </a:lnTo>
                <a:lnTo>
                  <a:pt x="1400" y="1400"/>
                </a:lnTo>
                <a:close/>
              </a:path>
              <a:path fill="darken" w="36014" h="21600">
                <a:moveTo>
                  <a:pt x="36014" y="0"/>
                </a:moveTo>
                <a:lnTo>
                  <a:pt x="36014" y="21600"/>
                </a:lnTo>
                <a:lnTo>
                  <a:pt x="34614" y="20200"/>
                </a:lnTo>
                <a:lnTo>
                  <a:pt x="34614" y="1400"/>
                </a:lnTo>
                <a:close/>
              </a:path>
              <a:path fill="darkenLess" w="36014" h="21600">
                <a:moveTo>
                  <a:pt x="36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4" y="20200"/>
                </a:lnTo>
                <a:close/>
              </a:path>
              <a:path fill="lighten" w="36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4" h="21600">
                <a:moveTo>
                  <a:pt x="11001" y="3794"/>
                </a:moveTo>
                <a:lnTo>
                  <a:pt x="25014" y="10800"/>
                </a:lnTo>
                <a:lnTo>
                  <a:pt x="11001" y="17806"/>
                </a:lnTo>
                <a:close/>
              </a:path>
            </a:pathLst>
          </a:cu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3500000"/>
          </a:gra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4"/>
          <a:stretch/>
        </p:blipFill>
        <p:spPr>
          <a:xfrm>
            <a:off x="5219640" y="3860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5" name="hammer.wav"/>
      </p:stSnd>
    </p:sndAc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0598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NIG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выпуском "</a:t>
            </a:r>
            <a:r>
              <a:rPr b="0" lang="la-VA" sz="2800" spc="-1" strike="noStrike">
                <a:solidFill>
                  <a:srgbClr val="ffffff"/>
                </a:solidFill>
                <a:latin typeface="Arial"/>
              </a:rPr>
              <a:t>Le Roi Est Mort, Vive Le Roi!"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ломающий стереотипы  музыкальный проек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igma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тал трилогией. Обладая исключительной  гармоничностью, ENIGMA 3 - результат многих "пробных стилистических камней" и атмосферы двух предыдущих альбомов Мишеля Крету, чья творческая  сила и талант стоят за всемирным успехо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igma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4824360" y="476280"/>
            <a:ext cx="900000" cy="539640"/>
          </a:xfrm>
          <a:custGeom>
            <a:avLst/>
            <a:gdLst>
              <a:gd name="textAreaLeft" fmla="*/ 34920 w 900000"/>
              <a:gd name="textAreaRight" fmla="*/ 865080 w 90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36014" h="21600">
                <a:moveTo>
                  <a:pt x="0" y="0"/>
                </a:moveTo>
                <a:lnTo>
                  <a:pt x="36014" y="0"/>
                </a:lnTo>
                <a:lnTo>
                  <a:pt x="36014" y="21600"/>
                </a:lnTo>
                <a:lnTo>
                  <a:pt x="0" y="21600"/>
                </a:lnTo>
                <a:close/>
              </a:path>
              <a:path fill="lightenLess" w="36014" h="21600">
                <a:moveTo>
                  <a:pt x="0" y="0"/>
                </a:moveTo>
                <a:lnTo>
                  <a:pt x="36014" y="0"/>
                </a:lnTo>
                <a:lnTo>
                  <a:pt x="34614" y="1400"/>
                </a:lnTo>
                <a:lnTo>
                  <a:pt x="1400" y="1400"/>
                </a:lnTo>
                <a:close/>
              </a:path>
              <a:path fill="darken" w="36014" h="21600">
                <a:moveTo>
                  <a:pt x="36014" y="0"/>
                </a:moveTo>
                <a:lnTo>
                  <a:pt x="36014" y="21600"/>
                </a:lnTo>
                <a:lnTo>
                  <a:pt x="34614" y="20200"/>
                </a:lnTo>
                <a:lnTo>
                  <a:pt x="34614" y="1400"/>
                </a:lnTo>
                <a:close/>
              </a:path>
              <a:path fill="darkenLess" w="36014" h="21600">
                <a:moveTo>
                  <a:pt x="36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4" y="20200"/>
                </a:lnTo>
                <a:close/>
              </a:path>
              <a:path fill="lighten" w="36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4" h="21600">
                <a:moveTo>
                  <a:pt x="11001" y="10800"/>
                </a:moveTo>
                <a:lnTo>
                  <a:pt x="25014" y="3794"/>
                </a:lnTo>
                <a:lnTo>
                  <a:pt x="25014" y="17806"/>
                </a:ln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>
            <a:hlinkClick r:id="" action="ppaction://hlinkshowjump?jump=nextslide"/>
            <a:hlinkClick r:id="rId2"/>
          </p:cNvPr>
          <p:cNvSpPr/>
          <p:nvPr/>
        </p:nvSpPr>
        <p:spPr>
          <a:xfrm>
            <a:off x="6119640" y="476280"/>
            <a:ext cx="900360" cy="53964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36029" h="21600">
                <a:moveTo>
                  <a:pt x="0" y="0"/>
                </a:moveTo>
                <a:lnTo>
                  <a:pt x="36029" y="0"/>
                </a:lnTo>
                <a:lnTo>
                  <a:pt x="36029" y="21600"/>
                </a:lnTo>
                <a:lnTo>
                  <a:pt x="0" y="21600"/>
                </a:lnTo>
                <a:close/>
              </a:path>
              <a:path fill="lightenLess" w="36029" h="21600">
                <a:moveTo>
                  <a:pt x="0" y="0"/>
                </a:moveTo>
                <a:lnTo>
                  <a:pt x="36029" y="0"/>
                </a:lnTo>
                <a:lnTo>
                  <a:pt x="34629" y="1400"/>
                </a:lnTo>
                <a:lnTo>
                  <a:pt x="1400" y="1400"/>
                </a:lnTo>
                <a:close/>
              </a:path>
              <a:path fill="darken" w="36029" h="21600">
                <a:moveTo>
                  <a:pt x="36029" y="0"/>
                </a:moveTo>
                <a:lnTo>
                  <a:pt x="36029" y="21600"/>
                </a:lnTo>
                <a:lnTo>
                  <a:pt x="34629" y="20200"/>
                </a:lnTo>
                <a:lnTo>
                  <a:pt x="34629" y="1400"/>
                </a:lnTo>
                <a:close/>
              </a:path>
              <a:path fill="darkenLess" w="36029" h="21600">
                <a:moveTo>
                  <a:pt x="36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9" y="20200"/>
                </a:lnTo>
                <a:close/>
              </a:path>
              <a:path fill="lighten" w="36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9" h="21600">
                <a:moveTo>
                  <a:pt x="11008" y="3794"/>
                </a:moveTo>
                <a:lnTo>
                  <a:pt x="25021" y="10800"/>
                </a:lnTo>
                <a:lnTo>
                  <a:pt x="11008" y="17806"/>
                </a:lnTo>
                <a:close/>
              </a:path>
            </a:pathLst>
          </a:cu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3500000"/>
          </a:gra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blinds dir="horz"/>
    <p:sndAc>
      <p:stSnd>
        <p:snd r:embed="rId3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IG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ультиплатиновый дебют ENIGMA 1, "</a:t>
            </a:r>
            <a:r>
              <a:rPr b="0" lang="la-VA" sz="2400" spc="-1" strike="noStrike">
                <a:solidFill>
                  <a:srgbClr val="000000"/>
                </a:solidFill>
                <a:latin typeface="Comic Sans MS"/>
              </a:rPr>
              <a:t>MCMXC a.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", был наполнен Григорианскими песнопениями, флейтами и глубоко чувственными углублениями. Потрясающий альбом ENIGMA 2, "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ROSS Of Changes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", показал широчайший панкультурный гобелен. ENIGMA 3, "</a:t>
            </a:r>
            <a:r>
              <a:rPr b="0" lang="la-VA" sz="2400" spc="-1" strike="noStrike">
                <a:solidFill>
                  <a:srgbClr val="000000"/>
                </a:solidFill>
                <a:latin typeface="Comic Sans MS"/>
              </a:rPr>
              <a:t>Le Roi Est Mort, Vive Le Roi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!", объединяет и повторно раскрывает эти элементы, обеспечивая эволюционный синтез предыдущих работ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igm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">
            <a:hlinkClick r:id="" action="ppaction://hlinkshowjump?jump=firstslide"/>
            <a:hlinkClick r:id="rId1"/>
          </p:cNvPr>
          <p:cNvSpPr/>
          <p:nvPr/>
        </p:nvSpPr>
        <p:spPr>
          <a:xfrm>
            <a:off x="4248000" y="5516640"/>
            <a:ext cx="900360" cy="53964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36029" h="21600">
                <a:moveTo>
                  <a:pt x="0" y="0"/>
                </a:moveTo>
                <a:lnTo>
                  <a:pt x="36029" y="0"/>
                </a:lnTo>
                <a:lnTo>
                  <a:pt x="36029" y="21600"/>
                </a:lnTo>
                <a:lnTo>
                  <a:pt x="0" y="21600"/>
                </a:lnTo>
                <a:close/>
              </a:path>
              <a:path fill="lightenLess" w="36029" h="21600">
                <a:moveTo>
                  <a:pt x="0" y="0"/>
                </a:moveTo>
                <a:lnTo>
                  <a:pt x="36029" y="0"/>
                </a:lnTo>
                <a:lnTo>
                  <a:pt x="34629" y="1400"/>
                </a:lnTo>
                <a:lnTo>
                  <a:pt x="1400" y="1400"/>
                </a:lnTo>
                <a:close/>
              </a:path>
              <a:path fill="darken" w="36029" h="21600">
                <a:moveTo>
                  <a:pt x="36029" y="0"/>
                </a:moveTo>
                <a:lnTo>
                  <a:pt x="36029" y="21600"/>
                </a:lnTo>
                <a:lnTo>
                  <a:pt x="34629" y="20200"/>
                </a:lnTo>
                <a:lnTo>
                  <a:pt x="34629" y="1400"/>
                </a:lnTo>
                <a:close/>
              </a:path>
              <a:path fill="darkenLess" w="36029" h="21600">
                <a:moveTo>
                  <a:pt x="36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9" y="20200"/>
                </a:lnTo>
                <a:close/>
              </a:path>
              <a:path fill="lighten" w="36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9" h="21600">
                <a:moveTo>
                  <a:pt x="18014" y="3837"/>
                </a:moveTo>
                <a:lnTo>
                  <a:pt x="20591" y="6448"/>
                </a:lnTo>
                <a:lnTo>
                  <a:pt x="20591" y="4707"/>
                </a:lnTo>
                <a:lnTo>
                  <a:pt x="22366" y="4707"/>
                </a:lnTo>
                <a:lnTo>
                  <a:pt x="22366" y="8224"/>
                </a:lnTo>
                <a:lnTo>
                  <a:pt x="24977" y="10800"/>
                </a:lnTo>
                <a:lnTo>
                  <a:pt x="23324" y="10800"/>
                </a:lnTo>
                <a:lnTo>
                  <a:pt x="23324" y="17989"/>
                </a:lnTo>
                <a:lnTo>
                  <a:pt x="12705" y="17989"/>
                </a:lnTo>
                <a:lnTo>
                  <a:pt x="12705" y="10800"/>
                </a:lnTo>
                <a:lnTo>
                  <a:pt x="11051" y="10800"/>
                </a:lnTo>
                <a:close/>
              </a:path>
              <a:path fill="darkenLess" w="36029" h="21600">
                <a:moveTo>
                  <a:pt x="20591" y="6448"/>
                </a:moveTo>
                <a:lnTo>
                  <a:pt x="20591" y="4707"/>
                </a:lnTo>
                <a:lnTo>
                  <a:pt x="22366" y="4707"/>
                </a:lnTo>
                <a:lnTo>
                  <a:pt x="22366" y="8224"/>
                </a:lnTo>
                <a:close/>
              </a:path>
              <a:path fill="darkenLess" w="36029" h="21600">
                <a:moveTo>
                  <a:pt x="17092" y="14299"/>
                </a:moveTo>
                <a:lnTo>
                  <a:pt x="18937" y="14299"/>
                </a:lnTo>
                <a:lnTo>
                  <a:pt x="18937" y="17989"/>
                </a:lnTo>
                <a:lnTo>
                  <a:pt x="23324" y="17989"/>
                </a:lnTo>
                <a:lnTo>
                  <a:pt x="23324" y="10800"/>
                </a:lnTo>
                <a:lnTo>
                  <a:pt x="12705" y="10800"/>
                </a:lnTo>
                <a:lnTo>
                  <a:pt x="12705" y="17989"/>
                </a:lnTo>
                <a:lnTo>
                  <a:pt x="17092" y="17989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5472000" y="5516640"/>
            <a:ext cx="900360" cy="53964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36029" h="21600">
                <a:moveTo>
                  <a:pt x="0" y="0"/>
                </a:moveTo>
                <a:lnTo>
                  <a:pt x="36029" y="0"/>
                </a:lnTo>
                <a:lnTo>
                  <a:pt x="36029" y="21600"/>
                </a:lnTo>
                <a:lnTo>
                  <a:pt x="0" y="21600"/>
                </a:lnTo>
                <a:close/>
              </a:path>
              <a:path fill="lightenLess" w="36029" h="21600">
                <a:moveTo>
                  <a:pt x="0" y="0"/>
                </a:moveTo>
                <a:lnTo>
                  <a:pt x="36029" y="0"/>
                </a:lnTo>
                <a:lnTo>
                  <a:pt x="34629" y="1400"/>
                </a:lnTo>
                <a:lnTo>
                  <a:pt x="1400" y="1400"/>
                </a:lnTo>
                <a:close/>
              </a:path>
              <a:path fill="darken" w="36029" h="21600">
                <a:moveTo>
                  <a:pt x="36029" y="0"/>
                </a:moveTo>
                <a:lnTo>
                  <a:pt x="36029" y="21600"/>
                </a:lnTo>
                <a:lnTo>
                  <a:pt x="34629" y="20200"/>
                </a:lnTo>
                <a:lnTo>
                  <a:pt x="34629" y="1400"/>
                </a:lnTo>
                <a:close/>
              </a:path>
              <a:path fill="darkenLess" w="36029" h="21600">
                <a:moveTo>
                  <a:pt x="36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9" y="20200"/>
                </a:lnTo>
                <a:close/>
              </a:path>
              <a:path fill="lighten" w="36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9" h="21600">
                <a:moveTo>
                  <a:pt x="11008" y="10800"/>
                </a:moveTo>
                <a:lnTo>
                  <a:pt x="25021" y="3794"/>
                </a:lnTo>
                <a:lnTo>
                  <a:pt x="25021" y="17806"/>
                </a:ln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  <p:sndAc>
      <p:stSnd>
        <p:snd r:embed="rId3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8:30:26Z</dcterms:created>
  <dc:creator>Кенжигалиев Асхат</dc:creator>
  <dc:description/>
  <dc:language>en-US</dc:language>
  <cp:lastModifiedBy>Кенжигалиев Асхат</cp:lastModifiedBy>
  <dcterms:modified xsi:type="dcterms:W3CDTF">2008-12-17T08:39:07Z</dcterms:modified>
  <cp:revision>7</cp:revision>
  <dc:subject/>
  <dc:title>ENIGM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