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ABA-4A40-4901-9E53-490E06BC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215E-19BC-4A27-990C-C767F929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11C-D96A-4825-8489-4602E8E4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9F6-66F0-4BBD-9DAC-732BCA2A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91D-6739-4BEB-A4FA-BAD7B564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E99-A761-49AC-93CC-729D5CF1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7E3-DE3D-4EC7-BC71-90BAA183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F1C-0458-4E13-B4BE-D740A44B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C46-5D38-461A-85F1-93B4F1C9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7C0-F22E-4040-9647-D9C13AF9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1CE-9D3E-4A2F-BFB0-A12AAD95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439-B54C-4D37-975C-CBDC3307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45C8-318A-48CB-8B59-7B1555D29B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етонные смеси и их основные свойств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30028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ru-RU" sz="3600" spc="-1" strike="noStrike" baseline="-25000">
                <a:solidFill>
                  <a:srgbClr val="000000"/>
                </a:solidFill>
                <a:latin typeface="Tahoma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предельное напряжение сдвиг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остаточная вязко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ahoma"/>
              </a:rPr>
              <a:t>c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критическое значение напря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4005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995640" y="108000"/>
                <a:ext cx="514836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95280" y="3970800"/>
            <a:ext cx="820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q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диент скорости сдви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E0E7-5BB3-4FD5-B678-520806FBA5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ение скорости течения бетонной смес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градиент скорости) в зависимости от напряжения сдвига </a:t>
            </a: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5688000" cy="406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0D6-CF7E-431A-8F19-9E781B1300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сткие бетонные сме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их сопротивление сдвигу увеличивается за сч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вышенной вяз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явления внутреннего сухого трения между зернами заполн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е Кул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нормальное напряже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ол внутреннего трения смес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структурная вязкость смес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710-12AC-4C08-B492-0695A05C81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ксотроп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особность дисперсных систем терять устойчивость структуры (разжижаться) при интенсивных механических воздействия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при их прекращении восстанавливать устойчивость структуры (загустевать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853-4DE1-44B6-AA4B-0617A5B4A6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ехнологические свой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обоукладываем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пособность бетонной смеси растекаться и заполнять форму (опалубку) при сохранении однородности своей структ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з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пособность бетонной смеси сохранять однородность структуры при транспортировании и форм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193-ADEC-4764-8A69-BF57AD6E3DE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арактеризуется показателями подвижности и жестк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ижност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способность бетонной смеси растекаться и заполнять форму под действием своей тяже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движность оценивается осадкой стандартного конуса в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добоукладывае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EAC-00BF-4131-ACE2-37A477EFA52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ус Абрам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76680" y="1341360"/>
            <a:ext cx="34351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522-4E49-4656-809E-1FC9890210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611280" y="1557360"/>
          <a:ext cx="800892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57360"/>
                    <a:ext cx="800892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еделение осадки кон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DEB-DF3E-4006-A88A-4AD5F8A266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еделение осадки кон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554120" y="1324080"/>
            <a:ext cx="6402600" cy="48020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88B-2D5A-4068-8A57-BBA958C46A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 расплыва кон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52760"/>
          <a:ext cx="82296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52760"/>
                    <a:ext cx="8229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095-981C-4759-9E75-4C3DA8C73B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войства бетонной смес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олог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хнолог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2FD-B0D6-48A9-A224-D53082FD018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 расплыва кон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6408720" cy="4807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352-266C-426D-B697-45D63532EA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особность бетонной смеси растекаться и заполнять форму под действием вибрации и сил тяже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меряется в секунд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сткость бетонной сме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2AA-46F1-49A4-9E36-81C22781336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боры для определения жесткости бетонной см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581-E60D-4235-8D1A-5C0986937E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бор В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87640" y="1341360"/>
            <a:ext cx="311004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ECD-3AF5-49C0-9B72-AEB9750714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бор В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1333440"/>
            <a:ext cx="7632720" cy="4873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7632720" cy="487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AF4-6750-4E62-9E76-EAA6E42168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бор Крас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049800" cy="422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AC6-60FC-460E-AD56-F0F51209E3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бор Скрамта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887560" cy="4967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зультат умножается на коэффициент 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E2D-CFD0-4C72-8CBC-CB57AB918B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рки по удобоукладываем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3141720"/>
          <a:ext cx="8229600" cy="2984400"/>
        </p:xfrm>
        <a:graphic>
          <a:graphicData uri="http://schemas.openxmlformats.org/drawingml/2006/table">
            <a:tbl>
              <a:tblPr/>
              <a:tblGrid>
                <a:gridCol w="3035160"/>
                <a:gridCol w="5194440"/>
              </a:tblGrid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0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1 до 100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с и мене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2268360" y="2133000"/>
            <a:ext cx="47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верхжесткие смес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06F3-671A-42BF-901F-C279493A9E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рки по удобоукладываем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133000"/>
            <a:ext cx="47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есткие смес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3068640"/>
          <a:ext cx="8229600" cy="3057480"/>
        </p:xfrm>
        <a:graphic>
          <a:graphicData uri="http://schemas.openxmlformats.org/drawingml/2006/table">
            <a:tbl>
              <a:tblPr/>
              <a:tblGrid>
                <a:gridCol w="3467160"/>
                <a:gridCol w="476244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1до 60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1 до 30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 до 20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19A-62AE-483D-A83F-26B97135B2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рки по удобоукладываем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1483920"/>
            <a:ext cx="47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движные смес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8000" y="2133720"/>
          <a:ext cx="8856720" cy="4032000"/>
        </p:xfrm>
        <a:graphic>
          <a:graphicData uri="http://schemas.openxmlformats.org/drawingml/2006/table">
            <a:tbl>
              <a:tblPr/>
              <a:tblGrid>
                <a:gridCol w="1008000"/>
                <a:gridCol w="2063880"/>
                <a:gridCol w="2743200"/>
                <a:gridCol w="30416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ка кону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лыв кону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с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 до 4 с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9 с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15 с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6 до 20 с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6 до 30 с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см и боле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см и боле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B0CD-5533-4932-B256-792CB99E6D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еологические свойств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руппа свойств бетонной смеси, характеризующих ее способность последовательно претерпевать упругие и вязко-пластические деформации под действием внешних си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5D7-BB60-40F0-9915-02386567B4C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арактеризуется показателями расслаиваем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твороот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оот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яз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2CC-672D-4A87-87D7-A989FE72387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 водоот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92360" y="1339920"/>
            <a:ext cx="6119640" cy="485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8D9-C808-46F1-8CEB-80C92E8BC6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713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960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оотделение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ют по форму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масса воды, отделившейся при стандартных испытаниях из бетонной смеси, г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объем металлического стандартного цилиндра,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835280" y="2637000"/>
                <a:ext cx="482436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 водоот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94E-404D-4231-B87A-5FE9D95A164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ение раствороотд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16360" y="1268280"/>
            <a:ext cx="3705120" cy="482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90D-F7D9-458C-99B5-0C8C9A87CC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вороотделение </a:t>
            </a:r>
            <a:r>
              <a:rPr b="0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ahoma"/>
              </a:rPr>
              <a:t>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ют по форму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bs inf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массы раствора в верхней и нижней частях образца бето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суммарная масса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2492280"/>
                <a:ext cx="82468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up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f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ение раствороотд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C95-BC9B-486B-AADB-2F53014C924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чество бетонных смесей оцениваю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1774440"/>
            <a:ext cx="78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 удобоукладываемост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ней плотност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му вовлеченного воздух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лаиваемости (при необходимости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храняемости основных свойств во времени (при необходимости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713-D0DE-4BAD-8CC7-E03F7F08B7E2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еологические свойств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чальная прочность бетонной смес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ластич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куче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E25-BCBC-4A9D-9AB5-9882C7D624B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ьная прочность бетонной смес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4365720"/>
            <a:ext cx="82803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двигающее усилие, 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площадь поверхности сдвига, 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627280" y="1557360"/>
          <a:ext cx="3888000" cy="26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557360"/>
                    <a:ext cx="388800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905-CC9D-40D1-B858-5F7257D727F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ьная прочность бетонной смес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365720"/>
            <a:ext cx="82803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двигающее усилие, 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площадь поверхности сдвига, 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700360" y="1700280"/>
          <a:ext cx="424800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700280"/>
                    <a:ext cx="4248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341-7D49-4981-9030-929E89556E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ьная прочность бетонной смес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арактеризуется величиной напряжения сдвига </a:t>
            </a:r>
            <a:r>
              <a:rPr b="0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МП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98840" y="3125880"/>
                <a:ext cx="366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95280" y="4365720"/>
            <a:ext cx="82803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двигающее усилие, 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площадь поверхности сдвига, 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1D7-A693-48AE-A44C-4B49BAA75D5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ластич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арактеризуется величиной динамической вязкости смеси </a:t>
            </a:r>
            <a:r>
              <a:rPr b="0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МПа</a:t>
            </a: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145-9F34-48E7-9348-43B0D126191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Текуче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рактеризуется величиной скорости сдвига </a:t>
            </a:r>
            <a:r>
              <a:rPr b="0" i="1" lang="en-US" sz="4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US" sz="4800" spc="-1" strike="noStrike" baseline="-25000">
                <a:solidFill>
                  <a:srgbClr val="000000"/>
                </a:solidFill>
                <a:latin typeface="Tahoma"/>
              </a:rPr>
              <a:t>q</a:t>
            </a:r>
            <a:r>
              <a:rPr b="0" i="1" lang="ru-RU" sz="4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/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федра 13, Коноплев С.Н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CFF-6B64-4BEC-9F59-442F4B8F7C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7:27:02Z</dcterms:created>
  <dc:creator>user</dc:creator>
  <dc:description/>
  <dc:language>en-US</dc:language>
  <cp:lastModifiedBy>Кон</cp:lastModifiedBy>
  <dcterms:modified xsi:type="dcterms:W3CDTF">2007-09-22T05:23:13Z</dcterms:modified>
  <cp:revision>114</cp:revision>
  <dc:subject/>
  <dc:title>ЗАПОЛНИТЕЛИ ДЛЯ БЕТОНА</dc:title>
</cp:coreProperties>
</file>