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907588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5130-85F9-447E-954A-57C97DE60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480060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28520" y="6935760"/>
            <a:ext cx="480060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9D53-909C-4616-B0E6-8160C60B9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2852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48840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4CF9-3A84-4619-A9D1-81CBF3477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651760" y="561312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274640" y="561312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28520" y="693576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2651760" y="693576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4274640" y="693576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4C1B-A917-429B-A930-6E4C6B86E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298E6-94C5-4B2E-93B7-E77FBFA35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BFBB2-992D-4B76-BB4F-08F62EF24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5BB52-8FA0-43CE-8BB0-2E99F91DB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8AE76-D2D5-41B2-9597-35CDD4D97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E17DC-4652-4DF4-ADE9-3A719FE07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514440" y="3301920"/>
            <a:ext cx="5829120" cy="76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CC052-CCF4-4BD8-ACEF-D90784A23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2852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0EC10-982D-4B50-9FE1-945F902E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F82F-2C62-4379-9B8A-FA4BE5DBF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48840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DBEDC-21EF-41F3-A198-63911956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28520" y="6935760"/>
            <a:ext cx="480060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B1F42-251F-4F9B-B033-155944A1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480060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028520" y="6935760"/>
            <a:ext cx="480060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25CB9-3740-496F-9EF5-87D2AF53D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02852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348840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5E989-EDB4-46D3-83EA-58E30442E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651760" y="561312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274640" y="561312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028520" y="693576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2651760" y="693576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4274640" y="693576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ADFB3-7314-4A1D-B686-78CC2E353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04B0-AD9E-46EA-8761-1DA7109C3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2B74-077A-49D1-8455-2040BD59C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DDBD-57C2-4240-9C3E-0859CC41D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514440" y="3301920"/>
            <a:ext cx="5829120" cy="76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314E-B01E-4EA5-BA5F-31B27E91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2852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4519-EE9D-4A11-BDCE-7B0BD116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48840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74CB-CA9C-4FD2-BC08-A887110D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28520" y="6935760"/>
            <a:ext cx="480060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43D4-9D5E-4FB9-98BD-8F9E89A9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588000" y="641520"/>
            <a:ext cx="270000" cy="455436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6858000" cy="308124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679400"/>
            <a:ext cx="6858000" cy="822672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420840"/>
            <a:ext cx="6858000" cy="123480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3473280"/>
            <a:ext cx="6858000" cy="154656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857240" y="2200320"/>
            <a:ext cx="5000760" cy="770580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973760"/>
            <a:ext cx="6858000" cy="4414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5132520"/>
            <a:ext cx="4678200" cy="486072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052DC-D99F-45E5-8B02-24EFCE267A17}" type="datetime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3C163-0598-4746-AD85-64744DB362EE}" type="slidenum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588000" y="641520"/>
            <a:ext cx="270000" cy="455436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6858000" cy="308124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679400"/>
            <a:ext cx="6858000" cy="822672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20840"/>
            <a:ext cx="6858000" cy="123480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473280"/>
            <a:ext cx="6858000" cy="154656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57240" y="2200320"/>
            <a:ext cx="5000760" cy="770580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973760"/>
            <a:ext cx="6858000" cy="4414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132520"/>
            <a:ext cx="4678200" cy="486072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ED089-3B00-421E-87F5-DCBD0D5BBA69}" type="datetime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5C983-81DD-428F-A95F-2C79A570560F}" type="slidenum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143000" y="825480"/>
            <a:ext cx="4724280" cy="239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99"/>
                    </a:gs>
                    <a:gs pos="50000">
                      <a:srgbClr val="ffcc00"/>
                    </a:gs>
                    <a:gs pos="100000">
                      <a:srgbClr val="cc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Белки и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0099"/>
                  </a:gs>
                  <a:gs pos="50000">
                    <a:srgbClr val="ffcc00"/>
                  </a:gs>
                  <a:gs pos="100000">
                    <a:srgbClr val="cc0099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99"/>
                    </a:gs>
                    <a:gs pos="50000">
                      <a:srgbClr val="ffcc00"/>
                    </a:gs>
                    <a:gs pos="100000">
                      <a:srgbClr val="cc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аминокислоты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0099"/>
                  </a:gs>
                  <a:gs pos="50000">
                    <a:srgbClr val="ffcc00"/>
                  </a:gs>
                  <a:gs pos="100000">
                    <a:srgbClr val="cc0099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733920" y="8007480"/>
            <a:ext cx="2819160" cy="94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84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cc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лимовец Александр и</a:t>
            </a:r>
            <a:endParaRPr b="0" lang="en-US" sz="2400" spc="1" strike="noStrike">
              <a:ln w="12600">
                <a:solidFill>
                  <a:srgbClr val="ffffcc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cc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ихайлов Алексей</a:t>
            </a:r>
            <a:endParaRPr b="0" lang="en-US" sz="2400" spc="1" strike="noStrike">
              <a:ln w="12600">
                <a:solidFill>
                  <a:srgbClr val="ffffcc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62120" y="8172360"/>
            <a:ext cx="714240" cy="82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cc00"/>
                  </a:solidFill>
                  <a:miter/>
                </a:ln>
                <a:solidFill>
                  <a:srgbClr val="220011"/>
                </a:solidFill>
                <a:latin typeface="Impact"/>
              </a:rPr>
              <a:t>11-3</a:t>
            </a:r>
            <a:endParaRPr b="0" lang="en-US" sz="2400" spc="1" strike="noStrike">
              <a:ln w="12600">
                <a:solidFill>
                  <a:srgbClr val="ffcc00"/>
                </a:solidFill>
                <a:miter/>
              </a:ln>
              <a:solidFill>
                <a:srgbClr val="220011"/>
              </a:solidFill>
              <a:latin typeface="Impact"/>
              <a:ea typeface="Impact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8T20:12:51Z</dcterms:created>
  <dc:creator>Алексей</dc:creator>
  <dc:description/>
  <dc:language>en-US</dc:language>
  <cp:lastModifiedBy>Алексей</cp:lastModifiedBy>
  <cp:lastPrinted>2002-03-18T20:47:09Z</cp:lastPrinted>
  <dcterms:modified xsi:type="dcterms:W3CDTF">2002-03-19T13:01:34Z</dcterms:modified>
  <cp:revision>4</cp:revision>
  <dc:subject/>
  <dc:title>Заголовок слайда отсутствует</dc:title>
</cp:coreProperties>
</file>