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686-A3DF-41D6-A665-CD8BFC12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5BF-797B-4839-8BA4-90C3B7AE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465-8DDB-4642-94D8-BCF38E3E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15E1-A6C0-4E6F-9047-B40EF0A8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2234-F793-41AE-8FA2-E135ADDC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294B-4876-45A9-A346-97C63EFD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2442-EA39-45BD-9B24-97BCA09A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DAAB-731E-4BA1-91F5-D9CC3808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0337-81EB-42E0-9FFD-09382A37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363C-9422-4105-90B3-F374F145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5CBA-4FE1-4FB0-85E3-435227CB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282-697B-462B-AEB5-9DCECFE6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60B4-603C-49B1-9041-8807DBD0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24FB-3051-42C7-A91D-0E35A01E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E7EB-4470-4BF6-800E-4F829F31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E7AC-A96B-4FAF-A995-4E9AEACA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09C4-03F6-4763-984A-AFE3973F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E3F-3DF4-4224-A4CE-F402E454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D870-8B8F-450E-B63C-3668FEA9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51B2-4C52-4704-A4CD-A5ABE5C5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BF5-7C50-4C68-A052-214F2759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4EA-D254-4CF0-B3F7-18C2AEA3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33D-B873-4C74-B0E4-A96AD506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994-3A10-4672-AC5B-248E8E64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8E7B-4ED3-4E13-BC5F-DA80E9FC69F6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97A1-6499-4C29-BDAE-E260862725F9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4F2C-B9DB-404A-BB91-EBD5DE198358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37D4-B929-42F0-9429-A016F5F1C493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143000" y="825480"/>
            <a:ext cx="4724280" cy="23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елки и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аминокислот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33920" y="8007480"/>
            <a:ext cx="2819160" cy="94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лимовец Александр и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хайлов Алексей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8172360"/>
            <a:ext cx="71424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220011"/>
                </a:solidFill>
                <a:latin typeface="Impact"/>
              </a:rPr>
              <a:t>11-3</a:t>
            </a:r>
            <a:endParaRPr b="0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220011"/>
              </a:solidFill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20:12:51Z</dcterms:created>
  <dc:creator>Алексей</dc:creator>
  <dc:description/>
  <dc:language>en-US</dc:language>
  <cp:lastModifiedBy>Алексей</cp:lastModifiedBy>
  <cp:lastPrinted>2002-03-18T20:47:09Z</cp:lastPrinted>
  <dcterms:modified xsi:type="dcterms:W3CDTF">2002-03-19T13:01:34Z</dcterms:modified>
  <cp:revision>4</cp:revision>
  <dc:subject/>
  <dc:title>Заголовок слайда отсутствует</dc:title>
</cp:coreProperties>
</file>