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86B-3735-4F45-97A9-6AD001F4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AB4-C8E8-4A25-A6C2-3D55732B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262-0133-4565-A492-55457E7E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BDD-169A-4DDC-927A-23BB03F8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849-BBC8-4A03-B9A5-24865E9B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FEC-4B95-4BA5-931F-95A87E87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7F1-CB5F-44E5-A31E-42AF5512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785-C618-48E2-BB5A-BF8B853A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0D8-4ED6-4F96-84BD-7E5F9046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715-D971-4D59-98C3-D0A3F5C0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EAA-395F-4E04-A03D-E2664E6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70B-07D7-4BC5-8387-EADBF88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C3D1-F188-4094-9195-84DC13A5A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.xml"/><Relationship Id="rId3" Type="http://schemas.openxmlformats.org/officeDocument/2006/relationships/image" Target="../media/image11.jpeg"/><Relationship Id="rId4" Type="http://schemas.openxmlformats.org/officeDocument/2006/relationships/slide" Target="slide8.xml"/><Relationship Id="rId5" Type="http://schemas.openxmlformats.org/officeDocument/2006/relationships/image" Target="../media/image12.jpeg"/><Relationship Id="rId6" Type="http://schemas.openxmlformats.org/officeDocument/2006/relationships/slide" Target="slide9.xml"/><Relationship Id="rId7" Type="http://schemas.openxmlformats.org/officeDocument/2006/relationships/image" Target="../media/image13.jpeg"/><Relationship Id="rId8" Type="http://schemas.openxmlformats.org/officeDocument/2006/relationships/slide" Target="slide10.xml"/><Relationship Id="rId9" Type="http://schemas.openxmlformats.org/officeDocument/2006/relationships/image" Target="../media/image14.jpeg"/><Relationship Id="rId10" Type="http://schemas.openxmlformats.org/officeDocument/2006/relationships/slide" Target="slide11.xml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6.jpeg"/><Relationship Id="rId14" Type="http://schemas.openxmlformats.org/officeDocument/2006/relationships/slide" Target="slide13.xml"/><Relationship Id="rId15" Type="http://schemas.openxmlformats.org/officeDocument/2006/relationships/image" Target="../media/image17.jpeg"/><Relationship Id="rId16" Type="http://schemas.openxmlformats.org/officeDocument/2006/relationships/slide" Target="slide14.xml"/><Relationship Id="rId17" Type="http://schemas.openxmlformats.org/officeDocument/2006/relationships/image" Target="../media/image18.jpeg"/><Relationship Id="rId18" Type="http://schemas.openxmlformats.org/officeDocument/2006/relationships/slide" Target="slide15.xml"/><Relationship Id="rId19" Type="http://schemas.openxmlformats.org/officeDocument/2006/relationships/image" Target="../media/image19.jpeg"/><Relationship Id="rId20" Type="http://schemas.openxmlformats.org/officeDocument/2006/relationships/slide" Target="slide16.xml"/><Relationship Id="rId21" Type="http://schemas.openxmlformats.org/officeDocument/2006/relationships/image" Target="../media/image20.jpeg"/><Relationship Id="rId22" Type="http://schemas.openxmlformats.org/officeDocument/2006/relationships/slide" Target="slide17.xml"/><Relationship Id="rId23" Type="http://schemas.openxmlformats.org/officeDocument/2006/relationships/image" Target="../media/image21.jpe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55736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Урок ИЗО на тему </a:t>
            </a:r>
            <a:endParaRPr b="0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292428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"осень во дворе"</a:t>
            </a:r>
            <a:endParaRPr b="0" i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260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ОУ лицей № 1, 4 «А»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4869000"/>
            <a:ext cx="453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ктикант: Чемерис Д.Ю. ПНО увп – 55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лассный руководитель: Прокопьева Анна Михайл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489800" cy="5994720"/>
          </a:xfrm>
          <a:prstGeom prst="rect">
            <a:avLst/>
          </a:prstGeom>
          <a:ln w="0">
            <a:noFill/>
          </a:ln>
        </p:spPr>
      </p:pic>
      <p:sp>
        <p:nvSpPr>
          <p:cNvPr id="77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7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8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964040" cy="6337440"/>
          </a:xfrm>
          <a:prstGeom prst="rect">
            <a:avLst/>
          </a:prstGeom>
          <a:ln w="0">
            <a:noFill/>
          </a:ln>
        </p:spPr>
      </p:pic>
      <p:sp>
        <p:nvSpPr>
          <p:cNvPr id="87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72320" cy="5886360"/>
          </a:xfrm>
          <a:prstGeom prst="rect">
            <a:avLst/>
          </a:prstGeom>
          <a:ln w="0">
            <a:noFill/>
          </a:ln>
        </p:spPr>
      </p:pic>
      <p:sp>
        <p:nvSpPr>
          <p:cNvPr id="89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38640" cy="6337440"/>
          </a:xfrm>
          <a:prstGeom prst="rect">
            <a:avLst/>
          </a:prstGeom>
          <a:ln w="0">
            <a:noFill/>
          </a:ln>
        </p:spPr>
      </p:pic>
      <p:sp>
        <p:nvSpPr>
          <p:cNvPr id="9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292720" y="189000"/>
            <a:ext cx="3456000" cy="1152360"/>
          </a:xfrm>
          <a:prstGeom prst="cloudCallout">
            <a:avLst>
              <a:gd name="adj1" fmla="val -70393"/>
              <a:gd name="adj2" fmla="val 7575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1989000"/>
            <a:ext cx="3456000" cy="1152720"/>
          </a:xfrm>
          <a:prstGeom prst="cloudCallout">
            <a:avLst>
              <a:gd name="adj1" fmla="val -82796"/>
              <a:gd name="adj2" fmla="val -13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3789360"/>
            <a:ext cx="3456000" cy="1152360"/>
          </a:xfrm>
          <a:prstGeom prst="cloudCallout">
            <a:avLst>
              <a:gd name="adj1" fmla="val -83212"/>
              <a:gd name="adj2" fmla="val -9779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еще раз – 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873080" y="5526000"/>
            <a:ext cx="1873080" cy="266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40360" y="5950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15024 C 0.05729 -0.2463 0.07136 -0.34237 0.08281 -0.37246 C 0.09427 -0.40255 0.10538 -0.34375 0.11198 -0.33079 C 0.11858 -0.31783 0.11615 -0.30394 0.1224 -0.29468 C 0.12865 -0.28542 0.14011 -0.272 0.14948 -0.27524 C 0.15886 -0.27848 0.17031 -0.29468 0.17865 -0.31412 C 0.18698 -0.33357 0.18524 -0.39005 0.19948 -0.3919 C 0.21372 -0.39375 0.24774 -0.32431 0.26406 -0.32524 C 0.28038 -0.32616 0.28142 -0.40811 0.2974 -0.39746 C 0.31337 -0.38681 0.33247 -0.25672 0.3599 -0.26135 C 0.38733 -0.26598 0.44566 -0.39792 0.46198 -0.42524 E">
                                      <p:cBhvr>
                                        <p:cTn id="6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5840" y="0"/>
            <a:ext cx="1838160" cy="174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5073480"/>
            <a:ext cx="2016000" cy="178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80360" y="5048280"/>
            <a:ext cx="176364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852560" y="476280"/>
            <a:ext cx="5676840" cy="59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37120" y="1701000"/>
            <a:ext cx="463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Там сумрачно и тих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шь отголоски лета суеты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ства кружа отплясывает лихо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 улетают с птицами мечты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И голоса друзей не слышн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сё замерло, боясь пошевелиться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 счастье вдруг становится здесь лишни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но теперь нам будет только сниться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В предверии снег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Здесь тишина воспоминани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юда приносят тысячи ветр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юбимый запах лета и тума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70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87000" y="802800"/>
            <a:ext cx="3076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сель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ород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парко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мор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архитектур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ндустриаль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еро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декоратив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стор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эт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романтически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косм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43280" y="0"/>
            <a:ext cx="3817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пейзажа: 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20000" y="1052640"/>
            <a:ext cx="1838160" cy="174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16360" cy="178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4640"/>
            <a:ext cx="8496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оны перспекти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 Все ближние предметы воспринимаются подробно, а удаленные - обобщенно. Для передачи пространства ближние предметы надо изображать детально, а дальние - обобщ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 Все ближние предметы воспринимаются четко, а удаленные - неопределенно. Для передачи пространства контуры ближних предметов надо делать резче, а удаленные - мягч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 большом расстоянии светлые предметы кажутся темнее, а темны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ветлее ближних. Для передачи пространства удаленные светлые предметы надо слегка притенить, а темные -осветл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 ближние предметы обладают контрастной, сильной светотенью и видятся объемными, все дальние - слабо выраженной светотенью и кажутся плоскими. Для передачи пространства ближние предметы надо изображать объемно, а дальние - плоск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481040" cy="187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476280"/>
            <a:ext cx="1943280" cy="144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500720" y="549360"/>
            <a:ext cx="2376360" cy="136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6000" y="260280"/>
            <a:ext cx="1238040" cy="17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2276640"/>
            <a:ext cx="1944360" cy="155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700360" y="242100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788000" y="220500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4000" y="436572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484360" y="4437000"/>
            <a:ext cx="2001960" cy="1501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788000" y="4221000"/>
            <a:ext cx="154296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443640" y="4292640"/>
            <a:ext cx="2484360" cy="1708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093080" y="2133720"/>
            <a:ext cx="1339560" cy="20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881600" cy="6165720"/>
          </a:xfrm>
          <a:prstGeom prst="rect">
            <a:avLst/>
          </a:prstGeom>
          <a:ln w="0">
            <a:noFill/>
          </a:ln>
        </p:spPr>
      </p:pic>
      <p:sp>
        <p:nvSpPr>
          <p:cNvPr id="6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56720" cy="5911920"/>
          </a:xfrm>
          <a:prstGeom prst="rect">
            <a:avLst/>
          </a:prstGeom>
          <a:ln w="0">
            <a:noFill/>
          </a:ln>
        </p:spPr>
      </p:pic>
      <p:sp>
        <p:nvSpPr>
          <p:cNvPr id="71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4778640"/>
          </a:xfrm>
          <a:prstGeom prst="rect">
            <a:avLst/>
          </a:prstGeom>
          <a:ln w="0">
            <a:noFill/>
          </a:ln>
        </p:spPr>
      </p:pic>
      <p:sp>
        <p:nvSpPr>
          <p:cNvPr id="7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467240" cy="6381720"/>
          </a:xfrm>
          <a:prstGeom prst="rect">
            <a:avLst/>
          </a:prstGeom>
          <a:ln w="0">
            <a:noFill/>
          </a:ln>
        </p:spPr>
      </p:pic>
      <p:sp>
        <p:nvSpPr>
          <p:cNvPr id="7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0-18T04:31:27Z</dcterms:modified>
  <cp:revision>8</cp:revision>
  <dc:subject/>
  <dc:title>PowerPoint Presentation</dc:title>
</cp:coreProperties>
</file>