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42F-7A0A-4209-A35A-CCDE1955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69B-1C3F-4F2F-ACC8-47B18C4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468-79AF-4628-9212-BEAF396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91C-A662-4898-9D72-DC4ED7FF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883-705C-43E0-89B5-F178C8A6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BFF-CDA3-4910-B479-DAD9C91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9BC-89D8-4999-8194-925AFEC5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017-2B1C-47F5-A5A9-CF276C13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0F9-501D-41A4-9A9B-908216B9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D0B-96D9-41A6-ADC1-C82B48A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69D-3B26-4AEB-B3DC-BB95466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8B1-A229-451C-B1BD-95EE266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8961-919F-4FED-BBFB-6E424F8BA9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jpeg"/><Relationship Id="rId4" Type="http://schemas.openxmlformats.org/officeDocument/2006/relationships/slide" Target="slide8.xml"/><Relationship Id="rId5" Type="http://schemas.openxmlformats.org/officeDocument/2006/relationships/image" Target="../media/image12.jpeg"/><Relationship Id="rId6" Type="http://schemas.openxmlformats.org/officeDocument/2006/relationships/slide" Target="slide9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11.xml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6.jpeg"/><Relationship Id="rId14" Type="http://schemas.openxmlformats.org/officeDocument/2006/relationships/slide" Target="slide13.xml"/><Relationship Id="rId15" Type="http://schemas.openxmlformats.org/officeDocument/2006/relationships/image" Target="../media/image17.jpeg"/><Relationship Id="rId16" Type="http://schemas.openxmlformats.org/officeDocument/2006/relationships/slide" Target="slide14.xml"/><Relationship Id="rId17" Type="http://schemas.openxmlformats.org/officeDocument/2006/relationships/image" Target="../media/image18.jpeg"/><Relationship Id="rId18" Type="http://schemas.openxmlformats.org/officeDocument/2006/relationships/slide" Target="slide15.xml"/><Relationship Id="rId19" Type="http://schemas.openxmlformats.org/officeDocument/2006/relationships/image" Target="../media/image19.jpeg"/><Relationship Id="rId20" Type="http://schemas.openxmlformats.org/officeDocument/2006/relationships/slide" Target="slide16.xml"/><Relationship Id="rId21" Type="http://schemas.openxmlformats.org/officeDocument/2006/relationships/image" Target="../media/image20.jpeg"/><Relationship Id="rId22" Type="http://schemas.openxmlformats.org/officeDocument/2006/relationships/slide" Target="slide17.xml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55736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Урок ИЗО на тему 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292428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"осень во дворе"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6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ОУ лицей № 1, 4 «А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869000"/>
            <a:ext cx="453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ктикант: Чемерис Д.Ю. ПНО увп – 55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: Прокопьева Ан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89800" cy="5994720"/>
          </a:xfrm>
          <a:prstGeom prst="rect">
            <a:avLst/>
          </a:prstGeom>
          <a:ln w="0">
            <a:noFill/>
          </a:ln>
        </p:spPr>
      </p:pic>
      <p:sp>
        <p:nvSpPr>
          <p:cNvPr id="77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8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404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886360"/>
          </a:xfrm>
          <a:prstGeom prst="rect">
            <a:avLst/>
          </a:prstGeom>
          <a:ln w="0">
            <a:noFill/>
          </a:ln>
        </p:spPr>
      </p:pic>
      <p:sp>
        <p:nvSpPr>
          <p:cNvPr id="89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3864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92720" y="189000"/>
            <a:ext cx="3456000" cy="1152360"/>
          </a:xfrm>
          <a:prstGeom prst="cloudCallout">
            <a:avLst>
              <a:gd name="adj1" fmla="val -70393"/>
              <a:gd name="adj2" fmla="val 75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989000"/>
            <a:ext cx="3456000" cy="1152720"/>
          </a:xfrm>
          <a:prstGeom prst="cloudCallout">
            <a:avLst>
              <a:gd name="adj1" fmla="val -82796"/>
              <a:gd name="adj2" fmla="val -13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789360"/>
            <a:ext cx="3456000" cy="1152360"/>
          </a:xfrm>
          <a:prstGeom prst="cloudCallout">
            <a:avLst>
              <a:gd name="adj1" fmla="val -83212"/>
              <a:gd name="adj2" fmla="val -977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ще раз – 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73080" y="5526000"/>
            <a:ext cx="187308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595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15024 C 0.05729 -0.2463 0.07136 -0.34237 0.08281 -0.37246 C 0.09427 -0.40255 0.10538 -0.34375 0.11198 -0.33079 C 0.11858 -0.31783 0.11615 -0.30394 0.1224 -0.29468 C 0.12865 -0.28542 0.14011 -0.272 0.14948 -0.27524 C 0.15886 -0.27848 0.17031 -0.29468 0.17865 -0.31412 C 0.18698 -0.33357 0.18524 -0.39005 0.19948 -0.3919 C 0.21372 -0.39375 0.24774 -0.32431 0.26406 -0.32524 C 0.28038 -0.32616 0.28142 -0.40811 0.2974 -0.39746 C 0.31337 -0.38681 0.33247 -0.25672 0.3599 -0.26135 C 0.38733 -0.26598 0.44566 -0.39792 0.46198 -0.42524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4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073480"/>
            <a:ext cx="2016000" cy="178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80360" y="504828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852560" y="476280"/>
            <a:ext cx="5676840" cy="59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37120" y="1701000"/>
            <a:ext cx="463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Там сумрачно и тих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шь отголоски лета сует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ства кружа отплясывает лих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улетают с птицами мечт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И голоса друзей не слышн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ё замерло, боясь пошевели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счастье вдруг становится здесь лишн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о теперь нам будет только сниться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В предверии сне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десь тишина воспомина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юда приносят тысячи вет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бимый запах лета и тум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70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7000" y="802800"/>
            <a:ext cx="3076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сель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ород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парко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мор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архитектур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ндустри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еро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декоратив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стор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эт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романтическ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косм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0"/>
            <a:ext cx="3817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ейзажа: 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838160" cy="17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4640"/>
            <a:ext cx="8496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ны перспекти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Все ближние предметы воспринимаются подробно, а удаленные - обобщенно. Для передачи пространства ближние предметы надо изображать детально, а дальние - обобщ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Все ближние предметы воспринимаются четко, а удаленные - неопределенно. Для передачи пространства контуры ближних предметов надо делать резче, а удаленные - мяг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 большом расстоянии светлые предметы кажутся темнее, а тем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ветлее ближних. Для передачи пространства удаленные светлые предметы надо слегка притенить, а темные -освет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ближние предметы обладают контрастной, сильной светотенью и видятся объемными, все дальние - слабо выраженной светотенью и кажутся плоскими. Для передачи пространства ближние предметы надо изображать объемно, а дальние - плоск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104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00720" y="549360"/>
            <a:ext cx="237636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6000" y="260280"/>
            <a:ext cx="123804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2276640"/>
            <a:ext cx="194436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00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88000" y="220500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436572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484360" y="4437000"/>
            <a:ext cx="2001960" cy="150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88000" y="4221000"/>
            <a:ext cx="15429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443640" y="4292640"/>
            <a:ext cx="2484360" cy="170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093080" y="2133720"/>
            <a:ext cx="1339560" cy="20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81600" cy="6165720"/>
          </a:xfrm>
          <a:prstGeom prst="rect">
            <a:avLst/>
          </a:prstGeom>
          <a:ln w="0">
            <a:noFill/>
          </a:ln>
        </p:spPr>
      </p:pic>
      <p:sp>
        <p:nvSpPr>
          <p:cNvPr id="6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911920"/>
          </a:xfrm>
          <a:prstGeom prst="rect">
            <a:avLst/>
          </a:prstGeom>
          <a:ln w="0">
            <a:noFill/>
          </a:ln>
        </p:spPr>
      </p:pic>
      <p:sp>
        <p:nvSpPr>
          <p:cNvPr id="71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4778640"/>
          </a:xfrm>
          <a:prstGeom prst="rect">
            <a:avLst/>
          </a:prstGeom>
          <a:ln w="0">
            <a:noFill/>
          </a:ln>
        </p:spPr>
      </p:pic>
      <p:sp>
        <p:nvSpPr>
          <p:cNvPr id="7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724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18T04:31:27Z</dcterms:modified>
  <cp:revision>8</cp:revision>
  <dc:subject/>
  <dc:title>PowerPoint Presentation</dc:title>
</cp:coreProperties>
</file>