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8.wmf" ContentType="image/x-wmf"/>
  <Override PartName="/ppt/media/image12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20.jpeg" ContentType="image/jpeg"/>
  <Override PartName="/ppt/media/image1.jpeg" ContentType="image/jpeg"/>
  <Override PartName="/ppt/media/image4.wmf" ContentType="image/x-wmf"/>
  <Override PartName="/ppt/media/image6.wmf" ContentType="image/x-wmf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2227-62C4-4CEF-AB49-9D1B64569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54F0-2590-44F7-B3E4-5E66DCBE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DEF3-605C-439F-AF37-82D85D68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AEA8-DBBD-49EE-BD26-66CA6A309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F6C3-3694-4913-BE63-A09B3039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53B8-2E3F-422D-9ECE-27AAEF30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53AA-3535-4DBE-9937-FFA1100D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88E6-27BD-457F-B68C-61A8E293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F704-B22F-4D40-A303-B099E014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EA44-F33E-4741-BF8B-25A96C79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EE86-04F5-45C2-84E7-AD68F706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EB06-B034-4437-8484-99381343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75EF-E8EF-427E-AD51-E841852626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7.xml"/><Relationship Id="rId3" Type="http://schemas.openxmlformats.org/officeDocument/2006/relationships/image" Target="../media/image11.jpeg"/><Relationship Id="rId4" Type="http://schemas.openxmlformats.org/officeDocument/2006/relationships/slide" Target="slide8.xml"/><Relationship Id="rId5" Type="http://schemas.openxmlformats.org/officeDocument/2006/relationships/image" Target="../media/image12.jpeg"/><Relationship Id="rId6" Type="http://schemas.openxmlformats.org/officeDocument/2006/relationships/slide" Target="slide9.xml"/><Relationship Id="rId7" Type="http://schemas.openxmlformats.org/officeDocument/2006/relationships/image" Target="../media/image13.jpeg"/><Relationship Id="rId8" Type="http://schemas.openxmlformats.org/officeDocument/2006/relationships/slide" Target="slide10.xml"/><Relationship Id="rId9" Type="http://schemas.openxmlformats.org/officeDocument/2006/relationships/image" Target="../media/image14.jpeg"/><Relationship Id="rId10" Type="http://schemas.openxmlformats.org/officeDocument/2006/relationships/slide" Target="slide11.xml"/><Relationship Id="rId11" Type="http://schemas.openxmlformats.org/officeDocument/2006/relationships/image" Target="../media/image15.jpeg"/><Relationship Id="rId12" Type="http://schemas.openxmlformats.org/officeDocument/2006/relationships/slide" Target="slide12.xml"/><Relationship Id="rId13" Type="http://schemas.openxmlformats.org/officeDocument/2006/relationships/image" Target="../media/image16.jpeg"/><Relationship Id="rId14" Type="http://schemas.openxmlformats.org/officeDocument/2006/relationships/slide" Target="slide13.xml"/><Relationship Id="rId15" Type="http://schemas.openxmlformats.org/officeDocument/2006/relationships/image" Target="../media/image17.jpeg"/><Relationship Id="rId16" Type="http://schemas.openxmlformats.org/officeDocument/2006/relationships/slide" Target="slide14.xml"/><Relationship Id="rId17" Type="http://schemas.openxmlformats.org/officeDocument/2006/relationships/image" Target="../media/image18.jpeg"/><Relationship Id="rId18" Type="http://schemas.openxmlformats.org/officeDocument/2006/relationships/slide" Target="slide15.xml"/><Relationship Id="rId19" Type="http://schemas.openxmlformats.org/officeDocument/2006/relationships/image" Target="../media/image19.jpeg"/><Relationship Id="rId20" Type="http://schemas.openxmlformats.org/officeDocument/2006/relationships/slide" Target="slide16.xml"/><Relationship Id="rId21" Type="http://schemas.openxmlformats.org/officeDocument/2006/relationships/image" Target="../media/image20.jpeg"/><Relationship Id="rId22" Type="http://schemas.openxmlformats.org/officeDocument/2006/relationships/slide" Target="slide17.xml"/><Relationship Id="rId23" Type="http://schemas.openxmlformats.org/officeDocument/2006/relationships/image" Target="../media/image21.jpeg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35280" y="1557360"/>
            <a:ext cx="583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lbionicTtlCmDc2Cmb"/>
              </a:rPr>
              <a:t>Урок ИЗО на тему </a:t>
            </a:r>
            <a:endParaRPr b="0" i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lbionicTtlCmDc2Cmb"/>
              <a:ea typeface="a_AlbionicTtlCmDc2Cmb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5280" y="2924280"/>
            <a:ext cx="583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lbionicTtlCmDc2Cmb"/>
              </a:rPr>
              <a:t>"осень во дворе"</a:t>
            </a:r>
            <a:endParaRPr b="0" i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lbionicTtlCmDc2Cmb"/>
              <a:ea typeface="a_AlbionicTtlCmDc2Cmb"/>
            </a:endParaRPr>
          </a:p>
        </p:txBody>
      </p:sp>
      <p:sp>
        <p:nvSpPr>
          <p:cNvPr id="43" name=""/>
          <p:cNvSpPr/>
          <p:nvPr/>
        </p:nvSpPr>
        <p:spPr>
          <a:xfrm>
            <a:off x="2195640" y="26028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Times New Roman"/>
              </a:rPr>
              <a:t>МОУ лицей № 1, 4 «А»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56000" y="4869000"/>
            <a:ext cx="4537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актикант: Чемерис Д.Ю. ПНО увп – 55 г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лассный руководитель: Прокопьева Анна Михайл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7489800" cy="5994720"/>
          </a:xfrm>
          <a:prstGeom prst="rect">
            <a:avLst/>
          </a:prstGeom>
          <a:ln w="0">
            <a:noFill/>
          </a:ln>
        </p:spPr>
      </p:pic>
      <p:sp>
        <p:nvSpPr>
          <p:cNvPr id="77" name="Homepage"/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6318360"/>
          </a:xfrm>
          <a:prstGeom prst="rect">
            <a:avLst/>
          </a:prstGeom>
          <a:ln w="0">
            <a:noFill/>
          </a:ln>
        </p:spPr>
      </p:pic>
      <p:sp>
        <p:nvSpPr>
          <p:cNvPr id="79" name="Homepage"/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72360"/>
          </a:xfrm>
          <a:prstGeom prst="rect">
            <a:avLst/>
          </a:prstGeom>
          <a:ln w="0">
            <a:noFill/>
          </a:ln>
        </p:spPr>
      </p:pic>
      <p:sp>
        <p:nvSpPr>
          <p:cNvPr id="81" name="Homepage">
            <a:hlinkClick r:id="rId2" action="ppaction://hlinksldjump"/>
          </p:cNvPr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72360"/>
          </a:xfrm>
          <a:prstGeom prst="rect">
            <a:avLst/>
          </a:prstGeom>
          <a:ln w="0">
            <a:noFill/>
          </a:ln>
        </p:spPr>
      </p:pic>
      <p:sp>
        <p:nvSpPr>
          <p:cNvPr id="83" name="Homepage"/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6427800"/>
          </a:xfrm>
          <a:prstGeom prst="rect">
            <a:avLst/>
          </a:prstGeom>
          <a:ln w="0">
            <a:noFill/>
          </a:ln>
        </p:spPr>
      </p:pic>
      <p:sp>
        <p:nvSpPr>
          <p:cNvPr id="85" name="Homepage"/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4964040" cy="6337440"/>
          </a:xfrm>
          <a:prstGeom prst="rect">
            <a:avLst/>
          </a:prstGeom>
          <a:ln w="0">
            <a:noFill/>
          </a:ln>
        </p:spPr>
      </p:pic>
      <p:sp>
        <p:nvSpPr>
          <p:cNvPr id="87" name="Homepage">
            <a:hlinkClick r:id="rId2" action="ppaction://hlinksldjump"/>
          </p:cNvPr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572320" cy="5886360"/>
          </a:xfrm>
          <a:prstGeom prst="rect">
            <a:avLst/>
          </a:prstGeom>
          <a:ln w="0">
            <a:noFill/>
          </a:ln>
        </p:spPr>
      </p:pic>
      <p:sp>
        <p:nvSpPr>
          <p:cNvPr id="89" name="Homepage">
            <a:hlinkClick r:id="rId2" action="ppaction://hlinksldjump"/>
          </p:cNvPr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4238640" cy="6337440"/>
          </a:xfrm>
          <a:prstGeom prst="rect">
            <a:avLst/>
          </a:prstGeom>
          <a:ln w="0">
            <a:noFill/>
          </a:ln>
        </p:spPr>
      </p:pic>
      <p:sp>
        <p:nvSpPr>
          <p:cNvPr id="91" name="Homepage">
            <a:hlinkClick r:id="rId2" action="ppaction://hlinksldjump"/>
          </p:cNvPr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292720" y="189000"/>
            <a:ext cx="3456000" cy="1152360"/>
          </a:xfrm>
          <a:prstGeom prst="cloudCallout">
            <a:avLst>
              <a:gd name="adj1" fmla="val -70393"/>
              <a:gd name="adj2" fmla="val 75759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ься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08720" y="1989000"/>
            <a:ext cx="3456000" cy="1152720"/>
          </a:xfrm>
          <a:prstGeom prst="cloudCallout">
            <a:avLst>
              <a:gd name="adj1" fmla="val -82796"/>
              <a:gd name="adj2" fmla="val -13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ься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08720" y="3789360"/>
            <a:ext cx="3456000" cy="1152360"/>
          </a:xfrm>
          <a:prstGeom prst="cloudCallout">
            <a:avLst>
              <a:gd name="adj1" fmla="val -83212"/>
              <a:gd name="adj2" fmla="val -9779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еще раз – Учиться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1873080" y="5526000"/>
            <a:ext cx="1873080" cy="2664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140360" y="59500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а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23 -0.15024 C 0.05729 -0.2463 0.07136 -0.34237 0.08281 -0.37246 C 0.09427 -0.40255 0.10538 -0.34375 0.11198 -0.33079 C 0.11858 -0.31783 0.11615 -0.30394 0.1224 -0.29468 C 0.12865 -0.28542 0.14011 -0.272 0.14948 -0.27524 C 0.15886 -0.27848 0.17031 -0.29468 0.17865 -0.31412 C 0.18698 -0.33357 0.18524 -0.39005 0.19948 -0.3919 C 0.21372 -0.39375 0.24774 -0.32431 0.26406 -0.32524 C 0.28038 -0.32616 0.28142 -0.40811 0.2974 -0.39746 C 0.31337 -0.38681 0.33247 -0.25672 0.3599 -0.26135 C 0.38733 -0.26598 0.44566 -0.39792 0.46198 -0.42524 E">
                                      <p:cBhvr>
                                        <p:cTn id="6" dur="3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50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06480" cy="1577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305840" y="0"/>
            <a:ext cx="1838160" cy="1749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0" y="5073480"/>
            <a:ext cx="2016000" cy="1784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380360" y="5048280"/>
            <a:ext cx="1763640" cy="1809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1852560" y="476280"/>
            <a:ext cx="5676840" cy="5977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337120" y="1701000"/>
            <a:ext cx="4638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Осенний двор. Там сумрачно и тихо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Лишь отголоски лета суеты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Листва кружа отплясывает лихо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И улетают с птицами мечты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Осенний двор. И голоса друзей не слышно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Всё замерло, боясь пошевелиться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А счастье вдруг становится здесь лишним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Оно теперь нам будет только сниться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Осенний двор. В предверии снегов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Здесь тишина воспоминаний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Сюда приносят тысячи ветров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Любимый запах лета и туман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f70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87000" y="802800"/>
            <a:ext cx="307620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сельски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городско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парко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морско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архитектурн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индустриальн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героически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декоративн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исторически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этически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романтический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космически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843280" y="0"/>
            <a:ext cx="381780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 пейзажа: </a:t>
            </a:r>
            <a:endParaRPr b="0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020000" y="1052640"/>
            <a:ext cx="1838160" cy="1749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9640" y="4653000"/>
            <a:ext cx="2016360" cy="1784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44640"/>
            <a:ext cx="849636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коны перспектив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.  Все ближние предметы воспринимаются подробно, а удаленные - обобщенно. Для передачи пространства ближние предметы надо изображать детально, а дальние - обобщен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  Все ближние предметы воспринимаются четко, а удаленные - неопределенно. Для передачи пространства контуры ближних предметов надо делать резче, а удаленные - мягч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а большом расстоянии светлые предметы кажутся темнее, а темны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ветлее ближних. Для передачи пространства удаленные светлые предметы надо слегка притенить, а темные -осветли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се ближние предметы обладают контрастной, сильной светотенью и видятся объемными, все дальние - слабо выраженной светотенью и кажутся плоскими. Для передачи пространства ближние предметы надо изображать объемно, а дальние - плоск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481040" cy="1871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124000" y="476280"/>
            <a:ext cx="1943280" cy="1442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500720" y="549360"/>
            <a:ext cx="2376360" cy="1360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236000" y="260280"/>
            <a:ext cx="1238040" cy="177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24000" y="2276640"/>
            <a:ext cx="1944360" cy="1555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2700360" y="2421000"/>
            <a:ext cx="1728720" cy="1297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788000" y="2205000"/>
            <a:ext cx="1727280" cy="1293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24000" y="4365720"/>
            <a:ext cx="1873080" cy="1404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2484360" y="4437000"/>
            <a:ext cx="2001960" cy="1501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4788000" y="4221000"/>
            <a:ext cx="1542960" cy="1970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6443640" y="4292640"/>
            <a:ext cx="2484360" cy="1708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7093080" y="2133720"/>
            <a:ext cx="1339560" cy="200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40000" y="333360"/>
            <a:ext cx="4881600" cy="6165720"/>
          </a:xfrm>
          <a:prstGeom prst="rect">
            <a:avLst/>
          </a:prstGeom>
          <a:ln w="0">
            <a:noFill/>
          </a:ln>
        </p:spPr>
      </p:pic>
      <p:sp>
        <p:nvSpPr>
          <p:cNvPr id="69" name="Homepage"/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956720" cy="5911920"/>
          </a:xfrm>
          <a:prstGeom prst="rect">
            <a:avLst/>
          </a:prstGeom>
          <a:ln w="0">
            <a:noFill/>
          </a:ln>
        </p:spPr>
      </p:pic>
      <p:sp>
        <p:nvSpPr>
          <p:cNvPr id="71" name="Homepage"/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353440" cy="4778640"/>
          </a:xfrm>
          <a:prstGeom prst="rect">
            <a:avLst/>
          </a:prstGeom>
          <a:ln w="0">
            <a:noFill/>
          </a:ln>
        </p:spPr>
      </p:pic>
      <p:sp>
        <p:nvSpPr>
          <p:cNvPr id="73" name="Homepage"/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56000" y="260280"/>
            <a:ext cx="4467240" cy="6381720"/>
          </a:xfrm>
          <a:prstGeom prst="rect">
            <a:avLst/>
          </a:prstGeom>
          <a:ln w="0">
            <a:noFill/>
          </a:ln>
        </p:spPr>
      </p:pic>
      <p:sp>
        <p:nvSpPr>
          <p:cNvPr id="75" name="Homepage"/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7-10-18T04:31:27Z</dcterms:modified>
  <cp:revision>8</cp:revision>
  <dc:subject/>
  <dc:title>PowerPoint Presentation</dc:title>
</cp:coreProperties>
</file>