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A51-A726-40F9-9541-5FB3760F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C20-B05E-4EFC-9294-C6770437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F46-EFD6-4AEF-9E20-7F1D628D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3CC-C599-44BA-A647-9BA98508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D534-E4B1-43E4-86D7-24371460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4618-39F0-485F-9E14-72020CB1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F596-C0DD-4EF2-953B-6417E1CF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3AE3-3DC2-45B5-B103-4E131CDE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8FBB-D72C-4F06-965A-29E3988E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AB6D-9D3A-43C8-89F8-DDD19FC7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D79B-4A66-44BD-A836-99B3EAD8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17C-6E25-4CB1-9236-6D08EE58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37DD-CDA9-4FD7-8A80-E0D39C15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778C-EF82-4B9E-8498-2AA868C6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6DF4-76E3-41E9-B4B6-B037FCE1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5D3A-1E1D-4982-A4C2-D10758FA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DD63-536C-42CE-90F8-C7A228C1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6E6-192C-4ABE-BD73-78F2984F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04E-0E37-4113-A0AE-391AFC8B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4B1-0D63-430B-B85B-08B77C43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7EA-4211-4BAF-B498-2C7D87BC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300-5D12-4F8E-A515-9846FA95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AE0-B3C6-4792-B187-841D2712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135-D5F2-44D6-896A-C8E5C737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5912-2295-4FE5-93F9-80CA10064A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AE50-A63B-49DD-8780-77EDF3DEEA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23.xml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адратные уравнения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Кв. уравнения в Древнем Вавило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Кв. уравнения в Инд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вадратные уравнения в Европе 13-17 в.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Определ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Неполные кв. урав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Полное кв. уравн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Теорема Ви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орема, обратная теореме Вие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7" action="ppaction://hlinksldjump"/>
              </a:rPr>
              <a:t>Кв. уравнения с комплексными перемен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ение кв. уравнений с помощью граф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ложение кв. трехчлена на множите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8" action="ppaction://hlinksldjump"/>
              </a:rPr>
              <a:t>Применение кв.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9" action="ppaction://hlinksldjump"/>
              </a:rPr>
              <a:t>Практику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0" action="ppaction://hlinksldjump"/>
              </a:rPr>
              <a:t>Заклю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Кв. уравнения с комплексными переменными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6300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начала рассмотрим простейшее кв. уравн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данное число, а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неизвестное. На множестве действительных чисел это уравн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На множестве комплексных чисел это уравнение всегда имеет корень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а1. Найти комплексные корни если а=-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           Т.к.    =-1, то это уравнение можно записать в виде         , или                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юда, раскладывая левую часть на множители, получаем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332000" y="1484280"/>
                <a:ext cx="485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84240" y="2059920"/>
            <a:ext cx="276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)Имеет один корень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0, если а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)Имеет два действительных кор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627280" y="2276640"/>
                <a:ext cx="6955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-20160" y="2275920"/>
            <a:ext cx="418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, если а&gt;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3)Не имеет действительных  корней, если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50920" y="3141720"/>
                <a:ext cx="54288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116000" y="3141720"/>
                <a:ext cx="14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00720" y="3141720"/>
                <a:ext cx="4316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292720" y="3141720"/>
                <a:ext cx="6602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427640" y="3429000"/>
                <a:ext cx="18954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45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4360" y="3645000"/>
                <a:ext cx="637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Решение кв. уравнений с помощью графиков.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49568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Не используя формул квадратное уравнение можно решить графическим способом. Наприме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ешим уравнени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Для этого построим два графика(рис.1)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50920" y="2492280"/>
          <a:ext cx="2736360" cy="647640"/>
        </p:xfrm>
        <a:graphic>
          <a:graphicData uri="http://schemas.openxmlformats.org/drawingml/2006/table">
            <a:tbl>
              <a:tblPr/>
              <a:tblGrid>
                <a:gridCol w="328680"/>
                <a:gridCol w="347040"/>
                <a:gridCol w="343080"/>
                <a:gridCol w="345240"/>
                <a:gridCol w="347040"/>
                <a:gridCol w="346320"/>
                <a:gridCol w="346680"/>
                <a:gridCol w="332280"/>
              </a:tblGrid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1268280"/>
                <a:ext cx="91440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22280" y="1627920"/>
            <a:ext cx="66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080" y="1988280"/>
            <a:ext cx="367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1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, квадратичная функция, график парабо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84360" y="2276640"/>
                <a:ext cx="2188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70560" y="3283920"/>
            <a:ext cx="334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+1, линейная функция, график пряма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3573360"/>
                <a:ext cx="21888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5" name=""/>
          <p:cNvGraphicFramePr/>
          <p:nvPr/>
        </p:nvGraphicFramePr>
        <p:xfrm>
          <a:off x="250920" y="3789360"/>
          <a:ext cx="2299680" cy="566280"/>
        </p:xfrm>
        <a:graphic>
          <a:graphicData uri="http://schemas.openxmlformats.org/drawingml/2006/table">
            <a:tbl>
              <a:tblPr/>
              <a:tblGrid>
                <a:gridCol w="552240"/>
                <a:gridCol w="582840"/>
                <a:gridCol w="582120"/>
                <a:gridCol w="582480"/>
              </a:tblGrid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81560" cy="3095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439040" y="494100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исунок 1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1480" y="4507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55640" y="4581360"/>
                <a:ext cx="10666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-168840" y="4868280"/>
            <a:ext cx="60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бсциссы точек пересечения графиков и будет корнями уравн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Если графики пересекаются в двух точках, то уравнение имеет два корн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Если графики пересекаются в одной точке, то уравнение имеет один корен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Если графики не пересекаются, то уравнение корней не име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Разложение кв. трехчлена на множители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219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ногочлен вид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- некоторые числа,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переменная, называется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квадратным трёхчленом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Пример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+7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вадратный трехчлен  разлагается на множители , где  и  корни трехчле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ано: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 квадратный трехчлен; и -корни ег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ь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ельство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по теореме Виета следует,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900000" y="1557360"/>
                <a:ext cx="8002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16000" y="1700280"/>
                <a:ext cx="1952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476360" y="1989000"/>
                <a:ext cx="1952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9280" y="2565360"/>
                <a:ext cx="62960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=&gt;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=&gt;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рименение кв. уравнений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73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ешение квадратных уравнений широко применяется в других разделах математики: в разложении квадратного трехчлена, в исследовании квадратичной функции, в решении уравнений высших степеней, в решении текстовых задач и задач по геометри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       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Некоторые уравнения высших степеней можно решить, сведя их к квадратному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) Иногда левую часть уравнения легко разложить на множители, из  которых каждый - многочлен не выше 2-ой степени. Тогда приравнивая каждый многочлен к нулю, решаем полученные уравнени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РИМЕ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)  Если уравнение имеет вид ax2n+bxn+c= 0, его можно свести к квадратному, введя новую переменную   t = x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РИМЕР: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)  В геометрии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Гипотенуза прямоугольного треугольника равна 10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Найти катеты, если один из них на 2 см. больше другого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ЕШЕНИЕ: по теореме  Пифагора  a2+ b2= c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Пусть х см.-1 катет, тогда (х+2) см.-2 катет. 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Составим уравнение:   x2+ (x+2)2= 10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Пифаго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451640" y="1413000"/>
            <a:ext cx="1428840" cy="1047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403280" y="3573360"/>
                <a:ext cx="9781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826920" y="3860640"/>
                <a:ext cx="214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оспользуемся подставкой 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03280" y="4149720"/>
                <a:ext cx="885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258920" y="2276640"/>
                <a:ext cx="13618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835280" y="2781360"/>
                <a:ext cx="9522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940360" y="4221000"/>
            <a:ext cx="1365480" cy="158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1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рактикум     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2" action="ppaction://hlinksldjump"/>
              </a:rPr>
              <a:t>             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0384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Неполные кв. урав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867280" y="1268280"/>
                <a:ext cx="85104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79280" y="1197000"/>
                <a:ext cx="10288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47640" y="1268280"/>
                <a:ext cx="139572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132000" y="1268280"/>
                <a:ext cx="24004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-46836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9280" y="3645000"/>
                <a:ext cx="30387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2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Практикум  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219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етод выделения полного квадра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24000" y="1197000"/>
                <a:ext cx="14763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5;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050920" y="1268280"/>
                <a:ext cx="17431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995640" y="1197000"/>
                <a:ext cx="19051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50920" y="2997360"/>
                <a:ext cx="15904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195640" y="3068640"/>
                <a:ext cx="20095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3,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  <m:r>
                          <m:t xml:space="preserve">−</m:t>
                        </m:r>
                        <m:r>
                          <m:t xml:space="preserve">3,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  <m:r>
                          <m:t xml:space="preserve">+</m:t>
                        </m:r>
                        <m:r>
                          <m:t xml:space="preserve">3,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2;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3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Практикум   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500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кв. уравнений по формуле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4a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5280" y="1484280"/>
                <a:ext cx="1108080" cy="24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 -3; 0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050920" y="1413000"/>
                <a:ext cx="1177920" cy="28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,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3,5;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940360" y="1341360"/>
                <a:ext cx="249552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,3</m:t>
                        </m:r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3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564000" y="1341360"/>
                <a:ext cx="198108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50920" y="4508640"/>
                <a:ext cx="205740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8;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4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Практикум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5292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иведённые кв. уравнения. Теорема Ви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писать приведённое кв. уравнение, имеющее корни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)                        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)                       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пользуемся  т.Ви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140360" y="1268280"/>
                <a:ext cx="4316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95280" y="1557360"/>
                <a:ext cx="9144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692360" y="1557360"/>
                <a:ext cx="847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95280" y="1989000"/>
                <a:ext cx="10191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692360" y="1989000"/>
                <a:ext cx="9237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79280" y="2924280"/>
                <a:ext cx="10191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547640" y="2924280"/>
                <a:ext cx="981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771640" y="2924280"/>
                <a:ext cx="11430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140360" y="2924280"/>
                <a:ext cx="10666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5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  Практикум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0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Решение кв. уравнений по теореме обратной т. Ви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15920" y="134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195640" y="1413000"/>
                <a:ext cx="8665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52360" y="162792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39640" y="1700280"/>
                <a:ext cx="14479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252000" y="1988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39640" y="2060640"/>
                <a:ext cx="181944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88560" y="2348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84360" y="2421000"/>
                <a:ext cx="9522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3102120" y="134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19640" y="1413000"/>
                <a:ext cx="83844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3349440" y="162792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635280" y="1700280"/>
                <a:ext cx="1095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349080" y="1988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635280" y="2060640"/>
                <a:ext cx="16765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400200" y="2348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924360" y="2421000"/>
                <a:ext cx="8287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6126480" y="134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8244000" y="1341360"/>
                <a:ext cx="771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6373800" y="169956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659640" y="1700280"/>
                <a:ext cx="10573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6373440" y="1988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6659640" y="1989000"/>
                <a:ext cx="1666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424200" y="22755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7020000" y="2349360"/>
                <a:ext cx="828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49400" y="270756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268360" y="2708280"/>
                <a:ext cx="9622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96720" y="299628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84360" y="3068640"/>
                <a:ext cx="13618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396360" y="33566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84360" y="3429000"/>
                <a:ext cx="18381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48920" y="37155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042920" y="3789360"/>
                <a:ext cx="828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3246480" y="278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364000" y="2852640"/>
                <a:ext cx="9622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3565440" y="314100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851280" y="3141720"/>
                <a:ext cx="13716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565080" y="34995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851280" y="3500280"/>
                <a:ext cx="18003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473280" y="3788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067280" y="3860640"/>
                <a:ext cx="9428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6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Практикум 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694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задач с помощью кв. уравн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цессы       Скорость  км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     Время  ч.   Расстояние  к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оезд до задержки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150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оезд после задержки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+15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4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о расписанию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6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Зная, что поезд был задержан на 1,5 часа, сост.у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Д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3851280" y="1484280"/>
                <a:ext cx="276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780000" y="1844640"/>
                <a:ext cx="428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851280" y="2276640"/>
                <a:ext cx="304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79280" y="3141720"/>
                <a:ext cx="3041640" cy="33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0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5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|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2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22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у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ч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время в пут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: поед был в пути 10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780000" y="2924280"/>
                <a:ext cx="466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. уравнения в Древнем Вавилоне.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55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457880" y="-72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babilo1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847800" cy="80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7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Практикум  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615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задач с помощью кв. уравн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цессы              Скорость  км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     Время  ч.   Расстояние  к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верх по реке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0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                                            3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верх по протоку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10-x+1                                         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ечения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притока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x+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Зная, что скорость в стоячей воде равна 10 км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, сост.у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Д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24360" y="1557360"/>
                <a:ext cx="428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924360" y="2060640"/>
                <a:ext cx="428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19240" y="3500280"/>
                <a:ext cx="272700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0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60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у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3 км/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564000" y="3645000"/>
                <a:ext cx="8636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9,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8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Практикум 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6012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задач с помощью кв. уравн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          Изменилось         Стало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год        20000                200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              20000+200x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год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20000+200x         200x+2x         20000+400x+2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я, что за 2 года население около 22050, сост.ур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6616800" y="2637000"/>
                <a:ext cx="1015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9280" y="2637000"/>
          <a:ext cx="204804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37000"/>
                    <a:ext cx="20480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79280" y="3716280"/>
                <a:ext cx="1187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у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9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 Практикум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0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кв. уравнений по формуле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k2-ac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24000" y="1341360"/>
                <a:ext cx="170496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314280" y="2349360"/>
            <a:ext cx="1689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т.к.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&lt;0, то корней нет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Ответ: К.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484360" y="1341360"/>
                <a:ext cx="179064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eqAr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680920" y="37155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76720" y="3645000"/>
                <a:ext cx="9144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08720" y="1268280"/>
                <a:ext cx="17143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003640" y="2133720"/>
                <a:ext cx="2638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eqAr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=&gt;</m:t>
                        </m:r>
                      </m:e>
                      <m:e/>
                    </m:eqAr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eqAr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=&gt;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5344920" y="3572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5867280" y="3500280"/>
                <a:ext cx="96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08000" y="3500280"/>
                <a:ext cx="262872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eqAr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=&gt;</m:t>
                        </m:r>
                      </m:e>
                      <m:e/>
                    </m:eqAr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=&gt;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448920" y="59493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042920" y="5877000"/>
                <a:ext cx="961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877080" y="3860640"/>
                <a:ext cx="212400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7216560" y="59493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812000" y="6021360"/>
                <a:ext cx="46692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Заключение    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   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Делая этот доклад, я открыл для себя много интересного и нового о кв. уравнениях  чего не мог прочитать в учебнике. Например, я узнал о том, что ещё в древности люди пользовались ими не зная, что это –кв. уравнения. В наше время невозможно представить себе решение как  простейших , так и сложных  задач не только в математике, но и в других точных науках , без применения решения кв.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Надеюсь и вы открыли для себя что-нибудь нов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. уравнения в Индии.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50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и на квадратные уравнения встречаются уже в 499 г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Древней Индии были распространены публичные соревнования в решении трудных задач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дной из старинных индийских книг говорится по поводу таких соревнований следующее: "Как солнце блеском своим затмевает звезды, так ученый человек затмит славу другого в народных собраниях, предлагая и решая алгебраические задач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а знаменитого   индийского математика  Бхаскары: 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Обезьянок резвых стая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Всласть  поевши, развлекаяс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Их в квадрате часть восьмая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На поляне забавлялас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А 12 по лианам....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Стали прыгать, повисая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Сколько было обезьянок,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Ты  скажи мне, в этой ста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012000" y="1125360"/>
            <a:ext cx="1218960" cy="1719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3284640"/>
            <a:ext cx="91440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2146320" y="-8705880"/>
          <a:ext cx="182520" cy="24269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2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003640" y="-1684440"/>
          <a:ext cx="215640" cy="2426976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242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46320" y="-8705880"/>
          <a:ext cx="182520" cy="24269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2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219640" y="3068640"/>
            <a:ext cx="3313080" cy="240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адратные уравнения в Европе 13-17 в.в.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980640"/>
            <a:ext cx="7272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Формулы решения квадратных уравнений в Европе были впервые  изложены в 1202 г. итальянским математиком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Леонардом Фибоначчи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щее правило решения квадратных уравнений, приведенных к единому каноническому виду х2+вх+с=0 , было сформулировано в Европе лишь в 1544 г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Штифелем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     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ывод формулы решения квадратного уравнения  в общем виде имеется у Виета, однако Виет признавал только положительные корни. Лишь в 17 в. благодаря трудам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екарта, Ньютона и других ученых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пособ решения квадратных уравнений принимает современный ви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Определение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      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  <a:hlinkClick r:id="rId2" action="ppaction://hlinksldjump"/>
              </a:rPr>
              <a:t>          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36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Уравнение вид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x2+bx+c=0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где a, b, c - действительные числа, причем a не равно 0, называют квадратным уравнением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a = 1 , то    квадратное  уравнение    называют приведенным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a ¹ 1,  то    неприведенным . </a:t>
            </a: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Числа a, b, c носят следующие названия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a -первый коэффициент,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b - второй коэффициент, c - свободный член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орни уравнения ax2+bx+c=0 находят по формул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ыражение D = b2- 4ac называют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искриминантом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квадратного уравнени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D &lt; 0, то уравнение не имеет действительных корней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D = 0, то уравнение имеет один действительный корень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D &gt; 0, то уравнение имеет два действительных корня.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 случае, когда D = 0, иногда говорят, что квадратное уравнение  имеет два одинаковых корн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спользуя обозначение D = b2- 4ac, можно переписать формулу в виде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b = 2k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то формула  принимает вид: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так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k = b / 2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8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следняя формула особенно удобна в тех случаях, когда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b / 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- целое число, т.е. коэффициент,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- четное число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708360" y="1916280"/>
            <a:ext cx="1467000" cy="514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1000080" cy="47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68360" y="4653000"/>
            <a:ext cx="4419720" cy="514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900000" y="5229360"/>
            <a:ext cx="1428840" cy="514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6156360" y="2349360"/>
            <a:ext cx="1873080" cy="1694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156360" y="4365720"/>
            <a:ext cx="1863720" cy="20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Неполные кв. уравнения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в квадратном уравнении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ax2+bx+c=0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второй коэффициент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или свободный член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равен нулю, то квадратное уравнение называется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неполным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Неполные уравнения выделяют потому, что для отыскания их корней можно не пользоваться формулой корней квадратного уравнения - проще решить уравнение методом разложения его левой части на множител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ffcc00"/>
                </a:solidFill>
                <a:latin typeface="Tahoma"/>
              </a:rPr>
              <a:t>Способы решения неполных квадратных уравнений</a:t>
            </a:r>
            <a:r>
              <a:rPr b="1" lang="en-US" sz="1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1) 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c = 0 , то уравнение примет вид 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x2+bx=0.              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( ax + b ) = 0 ,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 = 0 или ax + b = 0 ,    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 = -b : a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)  b = 0, то уравнени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примет вид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x2 + c = 0 ,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2  = -c : a ,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1  =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или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2 = -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3)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 = 0 и c = 0 , то уравнение примет вид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x2 = 0,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 =0.  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314280" cy="371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979640" y="4292640"/>
            <a:ext cx="314280" cy="37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олное квадратное уравнение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5292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квадратном уравнении второй коэффициент и свободный член не равны нулю, то такое уравнение называют полным квадратным уравнение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2590920" cy="215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Теорема Виета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6227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Теорема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Сумма корней приведённого квадратного уравнения равна второму коэффициенту, взятому с противоположным знаком, а произведение корней равно свободному члену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ельств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Рассмотрим приведённое квадратное уравнение. Обозначим второй коэффициент буквой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а свободный член - буквой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Дискриминант этого уравнения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равен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gt;0 .Тогда это уравнение имеет два корн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Найдём сумму и произведение корней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1640" y="1557360"/>
                <a:ext cx="981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48000" y="1916280"/>
                <a:ext cx="79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26920" y="2133720"/>
                <a:ext cx="9525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195640" y="2205000"/>
                <a:ext cx="10191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24000" y="2924280"/>
                <a:ext cx="3619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Теорема, обратная теореме Виета.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5219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Теорема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Если числ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таковы, что их сумма равна –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а произведени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равн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то эти числа являются корнями уравнен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ельств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По условию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Значит, уравнени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ожно записать в вид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дставив вмест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числ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получим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Значит, числ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является корнем уравнени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Аналогично можно показать, что числ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так же является корнем уравне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По праву в стихах быть воспе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О свойствах корней теорема Виет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Что лучше, скажи, постоянства такого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Умножишь ты корни и дробь уж готова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В числителе С, в знаменателе А,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А сумма корней тоже дроби равна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Хоть с минусом дробь эта, что за беда-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В числителе b, в знаменателе a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492360" y="1484280"/>
                <a:ext cx="1000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356000" y="1773360"/>
                <a:ext cx="1003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547640" y="1989000"/>
                <a:ext cx="147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79280" y="2349360"/>
                <a:ext cx="2886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8000" y="2997360"/>
                <a:ext cx="2743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1:47:03Z</dcterms:created>
  <dc:creator>Dron</dc:creator>
  <dc:description/>
  <dc:language>en-US</dc:language>
  <cp:lastModifiedBy>Dron</cp:lastModifiedBy>
  <dcterms:modified xsi:type="dcterms:W3CDTF">2004-03-23T10:34:54Z</dcterms:modified>
  <cp:revision>22</cp:revision>
  <dc:subject/>
  <dc:title>Квадратные уравнения</dc:title>
</cp:coreProperties>
</file>