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8CFD-BE68-4DCF-B184-7D93DBA3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5A46-F104-47EE-92BF-BA6EFBF3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07E-03C3-4E7C-BD46-4A047846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99FD-534C-4D96-B952-F00A7290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DC32-0504-41C2-B072-35867736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8CD3-8042-48F5-8F93-B55153C7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A25C-3F8D-4CE7-B4AE-82AA9A02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FFC8-AAD0-4D88-AE6D-2506221B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C363-75B4-4491-AAC8-7817F1AA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3307-4A39-4260-A166-86D074E1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5EA0-9514-437E-A205-15F2C4D0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DE5B-9B22-46CE-A00F-BED6D0D2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3B70-B5A2-4BC4-96F0-510B3D796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Grande"/>
              </a:rPr>
              <a:t>ДОКЛАД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“Современные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финансово-экономические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проблемы обеспечения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обороны страны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ПРОБЛЕМЫ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финансово-экономического обеспечения обороны 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33520" y="1397160"/>
          <a:ext cx="8076960" cy="4900320"/>
        </p:xfrm>
        <a:graphic>
          <a:graphicData uri="http://schemas.openxmlformats.org/drawingml/2006/table">
            <a:tbl>
              <a:tblPr/>
              <a:tblGrid>
                <a:gridCol w="3962160"/>
                <a:gridCol w="4114800"/>
              </a:tblGrid>
              <a:tr h="3762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d0000"/>
                          </a:solidFill>
                          <a:latin typeface="Lucida Grande"/>
                        </a:rPr>
                        <a:t>Внеш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d0000"/>
                          </a:solidFill>
                          <a:latin typeface="Lucida Grande"/>
                        </a:rPr>
                        <a:t>Внутрен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8000"/>
                          </a:solidFill>
                          <a:latin typeface="Lucida Grande"/>
                        </a:rPr>
                        <a:t>экон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8000"/>
                          </a:solidFill>
                          <a:latin typeface="Lucida Grande"/>
                        </a:rPr>
                        <a:t>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0" rIns="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8000"/>
                          </a:solidFill>
                          <a:latin typeface="Lucida Grande"/>
                        </a:rPr>
                        <a:t>соци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8000"/>
                          </a:solidFill>
                          <a:latin typeface="Lucida Grande"/>
                        </a:rPr>
                        <a:t>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0" rIns="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8000"/>
                          </a:solidFill>
                          <a:latin typeface="Lucida Grande"/>
                        </a:rPr>
                        <a:t>поли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8000"/>
                          </a:solidFill>
                          <a:latin typeface="Lucida Grande"/>
                        </a:rPr>
                        <a:t>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0" rIns="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09480" y="2133720"/>
          <a:ext cx="3886200" cy="115704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115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- необходимость внедрения рыночных принципов обеспе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- реформирование бюджетного проце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09480" y="3657600"/>
          <a:ext cx="3886200" cy="115740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Lucida Grande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переход на контрактную систему комплектования Вооруженных Си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снижение социального статуса военной служ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09480" y="5181480"/>
          <a:ext cx="3886200" cy="110664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11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несовершенство системы управ-ления Вооруженными Силами, диссонанс элементов военной организации государ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572000" y="2133720"/>
          <a:ext cx="3962520" cy="118260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11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многозвенная система финансово-экономического обеспечения Воо-руженных Сил, наличие дубли-рующих и излишних элем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572000" y="3657600"/>
          <a:ext cx="3962520" cy="118224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118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специфика военной службы и работы в войсках при низких дохо-дах стала причиной неукомплекто-ванности финансовых орга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572000" y="5181480"/>
          <a:ext cx="3962520" cy="110664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11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наличие разногласий между отдельными органами военного управления, распыление сил и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Lucida Grande"/>
              </a:rPr>
              <a:t>ОСНОВНЫЕ НАПРАВЛЕНИЯ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Lucida Grande"/>
              </a:rPr>
              <a:t>совершенствования финансового обеспечения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Lucida Grande"/>
              </a:rPr>
              <a:t>национальной обороны и деятельности Вооруженных С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Lucida Grande"/>
              </a:rPr>
              <a:t>Разработка согласованных по параметрам  федеральных и ведомственных целевых программ с применением методов военно-экономического анализа для обоснования потреб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Lucida Grande"/>
              </a:rPr>
              <a:t>Совершенствование системы управления, исключение дублирующих, излишних и неработоспособных 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Lucida Grande"/>
              </a:rPr>
              <a:t>Широкое и разноплановое применение современных  информационных технологий в сфере финансово-экономического и тылового обесп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Lucida Grande"/>
              </a:rPr>
              <a:t>ОСНОВНЫЕ ТЕНДЕНЦИИ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Lucida Grande"/>
              </a:rPr>
              <a:t>развития Российского государства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Lucida Grande"/>
              </a:rPr>
              <a:t>на современном эта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2285640"/>
            <a:ext cx="6629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Lucida Grande"/>
              </a:rPr>
              <a:t>Переход от административно-командной к рыночной экономике и становление инфраструктуры рыночной эконом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Lucida Grande"/>
              </a:rPr>
              <a:t>Совершенствование системы социальной защиты граждан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Lucida Grande"/>
              </a:rPr>
              <a:t>Административная реформа всех уровней власти и ветвей государственного упра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Lucida Grande"/>
              </a:rPr>
              <a:t>Реформа Вооруженных Сил Российской Федерации в части изменения видовой и предстоящих изменений организационной струк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Lucida Grande"/>
              </a:rPr>
              <a:t>ОСНОВНЫЕ КОМПОНЕНТЫ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Lucida Grande"/>
              </a:rPr>
              <a:t>военной организации госуда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Lucida Grande"/>
              </a:rPr>
              <a:t>Вооруженная составляющая (Вооруженные силы, пограничные войска, внутренние войска и другие вооруженные формиров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Lucida Grande"/>
              </a:rPr>
              <a:t>Система жизнеобеспечения военной организации государства (оборонно-промышленный комплекс, другие отрасти экономики и науки, работающие в сфере военной безопас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Lucida Grande"/>
              </a:rPr>
              <a:t>Органы и учреждения государственной власти и управления, непосредственно занимающиеся вопросами военной политики, военного строительства, военно-патриотического воспитания, согласования работы элементов военной организации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3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3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3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ПРОБЛЕМЫ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финансово-экономического обеспечения обороны 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33520" y="1397160"/>
          <a:ext cx="8076960" cy="4900320"/>
        </p:xfrm>
        <a:graphic>
          <a:graphicData uri="http://schemas.openxmlformats.org/drawingml/2006/table">
            <a:tbl>
              <a:tblPr/>
              <a:tblGrid>
                <a:gridCol w="4038480"/>
                <a:gridCol w="4038480"/>
              </a:tblGrid>
              <a:tr h="3762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d0000"/>
                          </a:solidFill>
                          <a:latin typeface="Lucida Grande"/>
                        </a:rPr>
                        <a:t>Внеш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d0000"/>
                          </a:solidFill>
                          <a:latin typeface="Lucida Grande"/>
                        </a:rPr>
                        <a:t>Внутрен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8000"/>
                          </a:solidFill>
                          <a:latin typeface="Lucida Grande"/>
                        </a:rPr>
                        <a:t>экон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8000"/>
                          </a:solidFill>
                          <a:latin typeface="Lucida Grande"/>
                        </a:rPr>
                        <a:t>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0" rIns="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8000"/>
                          </a:solidFill>
                          <a:latin typeface="Lucida Grande"/>
                        </a:rPr>
                        <a:t>соци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8000"/>
                          </a:solidFill>
                          <a:latin typeface="Lucida Grande"/>
                        </a:rPr>
                        <a:t>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0" rIns="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8000"/>
                          </a:solidFill>
                          <a:latin typeface="Lucida Grande"/>
                        </a:rPr>
                        <a:t>поли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8000"/>
                          </a:solidFill>
                          <a:latin typeface="Lucida Grande"/>
                        </a:rPr>
                        <a:t>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0" rIns="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609480" y="2133720"/>
          <a:ext cx="3886200" cy="115704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115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- необходимость внедрения рыночных принципов обеспе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- реформирование бюджетного проце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609480" y="3657600"/>
          <a:ext cx="3886200" cy="115740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Lucida Grande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переход на контрактную систему комплектования Вооруженных Си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снижение социального статуса военной служ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609480" y="5181480"/>
          <a:ext cx="3886200" cy="110664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11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несовершенство системы управления Вооруженными Силами, диссонанс элементов военной организации государ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04920" y="380880"/>
          <a:ext cx="8458200" cy="61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880"/>
                    <a:ext cx="84582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Grande"/>
              </a:rPr>
              <a:t>ДИНАМИКА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Grande"/>
              </a:rPr>
              <a:t>приоритетов государства с 1994 по 2004 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143000" y="1600200"/>
          <a:ext cx="6858000" cy="483228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06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Разделы функциональной классификации расх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1994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2004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V    Национальная обор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04 Национальная обор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VII  Правоохрани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деятельность и орг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безопас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05 Правоохрани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деятельность и обеспе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безопасности государ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Lucida Grande"/>
                        </a:rPr>
                        <a:t>VIII Федеральная судеб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Lucida Grande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Lucida Grande"/>
                        </a:rPr>
                        <a:t>систем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 и орг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прокурат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Lucida Grande"/>
                        </a:rPr>
                        <a:t>02 Судебная в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Lucida Grande"/>
                        </a:rPr>
                        <a:t>IX   Государствен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Lucida Grande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Lucida Grande"/>
                        </a:rPr>
                        <a:t>управлени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Lucida Grande"/>
                        </a:rPr>
                        <a:t>01 Государствен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Lucida Grande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Lucida Grande"/>
                        </a:rPr>
                        <a:t>управление и мест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Lucida Grande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Lucida Grande"/>
                        </a:rPr>
                        <a:t>самоу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33520" y="533520"/>
          <a:ext cx="8153280" cy="57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15328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33280" y="463680"/>
          <a:ext cx="8677440" cy="593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63680"/>
                    <a:ext cx="8677440" cy="59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09600" y="762120"/>
          <a:ext cx="8524800" cy="533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762120"/>
                    <a:ext cx="85248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6:46:38Z</dcterms:created>
  <dc:creator>A @ L Privetkin</dc:creator>
  <dc:description/>
  <dc:language>en-US</dc:language>
  <cp:lastModifiedBy>2</cp:lastModifiedBy>
  <dcterms:modified xsi:type="dcterms:W3CDTF">2006-04-05T04:31:19Z</dcterms:modified>
  <cp:revision>63</cp:revision>
  <dc:subject/>
  <dc:title>ДОКЛАД “Безопасность государства и динамика расходов на оборону”</dc:title>
</cp:coreProperties>
</file>