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AE0-082B-4CD4-B22F-C32E85EF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082-A216-4123-81BC-490FF18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247-501C-461D-899E-4DC78E4C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41E-EB09-4186-8340-33D2A51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8D1-8216-4872-BCE7-9169D27E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08D-D072-4B6E-A478-6EBF780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530-B5F0-4F4F-8180-EB997C2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D11-D86D-4479-AE8A-04B0BCB5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44C-5B6A-4B93-A14B-CA9D378F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524-C307-48C2-978B-1DC28823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E16-4F95-4941-B755-9E7866E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3A0-E978-4AC6-BB59-696A69D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6A1-2727-41FB-A451-BD011D2B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65360"/>
          </a:xfrm>
          <a:prstGeom prst="rect">
            <a:avLst/>
          </a:prstGeom>
          <a:solidFill>
            <a:srgbClr val="b5b2e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Comic Sans MS"/>
              </a:rPr>
              <a:t>МАКСИМ ГОРЬК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solidFill>
            <a:srgbClr val="b5b2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Comic Sans MS"/>
              </a:rPr>
              <a:t>Между двух революций (1905-1917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сле поражения революции 1905-07 Горький эмигрировал на остров Капри(в Италии). Его увлечения политической борьбой и идеи о социализме отразились в его произведениях: повесть «Мать», «городок Окуров», «Детство», «В людях», «Исповедь», цикл рассказов «По Руси». В повести «Исповедь» впервые прозвучала тема богостроительства, которую Горький потом проповедовал в партийной школе для рабочих, что вызвало его разногласия с Лени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59245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Годы эмиграции (1917-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Октябрьская революция подтвердила опасения Горького. Он услышал в ней страшный рев стомиллионной крестьянской стихии. В "Несвоевременных мыслях"  он обвинил Ленина в захвате власти и развязывании террора в стране. Эта позиция отразилась в его книге «О русском крестьянстве». Горький вёл энергичную работу по спасению научной и художественной от голодной смерти и расстрелов. Открылись «Дом учёных» и «Дом искусст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исатель по советам Ленина отправляется в эмиграцию и живёт в Италии. Пишет цикл рассказов, роман «дело Артамоновых»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388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врв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1928г. Горький,по договорённости со Сталинским руководством, совершает поездку в Советский Союз. Затем возвращается на родину и усиленно работает над панорамной картиной «Жизнь Клима Самг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Смерть Горь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Его смерть была таинственной, как и его сына - Максима Пешкова. Существует версия о насильственной смерти обоих, но он не доказана. Прах  Максима горького в урне помещён в Кремлёвской стене в Моск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2:55:17Z</dcterms:created>
  <dc:creator>Мастер</dc:creator>
  <dc:description/>
  <dc:language>en-US</dc:language>
  <cp:lastModifiedBy>Мастер</cp:lastModifiedBy>
  <dcterms:modified xsi:type="dcterms:W3CDTF">2002-03-27T03:52:03Z</dcterms:modified>
  <cp:revision>2</cp:revision>
  <dc:subject/>
  <dc:title>МАКСИМ ГОРЬКИЙ</dc:title>
</cp:coreProperties>
</file>