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D8FB5-C91C-40EF-BC42-3E19EB90D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9174B-44F3-4244-B0CC-639E2D506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18C38-2402-4026-9030-B1AD3AA61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E1707-3297-4150-906E-3CA707DD8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801CA9-835E-4AA5-A116-65B2D242DF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C8C47-AACF-4D55-B233-E37A5C078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35256-BC50-4B10-9614-79266F525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7F8D4-3591-40F6-A62A-2CE46EFEC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E162C-B14D-47C5-BC03-2C89A8460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C916E-6B35-498D-A534-2F2FBC562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23B6D-8A7D-436C-9370-340574975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BEFB3-8343-48BE-9B66-6C77057DD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A9F3C-073A-4008-8257-DB6F68A89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C764E-6A2F-47E6-80F8-A60E90BDD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D733A-A7C9-472B-8880-DAE6CB667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6F415-D180-4B63-93E2-30CC26B543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AEE0B-6FE6-4F13-BD20-BB0AAB166A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08D0A7-F611-460E-956D-BBE5F723E8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384B35-69DB-481A-91A2-01DB0918CE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693D40-81DB-42F5-BDA8-9EF63D1546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0CB2B1-B446-4E2A-A4F9-F1DA258615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9A7E99-4CED-4B07-BED6-D2DCF08E70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E2D78-6ED1-4064-BBCA-3A7EF4EEB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BF5AEF-AB85-4AAC-91ED-A94BE6C358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FFE6C1-42BC-414C-821C-CD10419C9E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C25D84-737E-4F25-AB8B-A9E5F301DB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2A0318-CB4D-46AD-B7C1-1B7AF6D889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6B4A1E-5EBF-4A93-8912-2AD88C3D0C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45D311-D3ED-4989-AEDB-4AE7367BAE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6EAB39-BC13-404F-AF1C-9ADD11D14C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10E75-8CCA-4E21-8061-9A4153DED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621FF-9505-4BCC-8758-B93C9AB33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FA5CD-0C01-4AA5-98F3-A9EFA14D0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FB500-1934-40C6-A007-D006D8644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10B1A-11B6-4832-BD71-EE188B9AE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AD441-95EB-4031-8306-535ADB7BA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5B07-93BB-4CB0-B3CD-1B275B9880C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FAB7D-B236-4988-9EFC-96462C83DAF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F3FA-E1C0-40E5-A4A4-CF00428AF6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40;&#1088;&#1077;&#1089;&#1080;&#1073;&#1086;_%28&#1086;&#1073;&#1089;&#1077;&#1088;&#1074;&#1072;&#1090;&#1086;&#1088;&#1080;&#1103;%29"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1280" y="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ecff"/>
                </a:solidFill>
                <a:latin typeface="Monotype Corsiva"/>
              </a:rPr>
              <a:t>Меркурий</a:t>
            </a:r>
            <a:endParaRPr b="0" lang="en-US" sz="9600" spc="-1" strike="noStrike">
              <a:solidFill>
                <a:srgbClr val="ccecff"/>
              </a:solidFill>
              <a:latin typeface="Arial"/>
            </a:endParaRPr>
          </a:p>
        </p:txBody>
      </p:sp>
      <p:pic>
        <p:nvPicPr>
          <p:cNvPr id="198" name="" descr=""/>
          <p:cNvPicPr/>
          <p:nvPr/>
        </p:nvPicPr>
        <p:blipFill>
          <a:blip r:embed="rId1"/>
          <a:stretch/>
        </p:blipFill>
        <p:spPr>
          <a:xfrm>
            <a:off x="2268360" y="1959120"/>
            <a:ext cx="4638960" cy="4638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108000" y="71280"/>
            <a:ext cx="8964720" cy="40053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ерку́рий</a:t>
            </a:r>
            <a:r>
              <a:rPr b="0" lang="ru-RU" sz="2400" spc="-1" strike="noStrike">
                <a:solidFill>
                  <a:srgbClr val="ffffff"/>
                </a:solidFill>
                <a:latin typeface="Times New Roman"/>
              </a:rPr>
              <a:t> — самая близкая к Солнцу планета Солнечной системы, обращается вокруг Солнца за 88 земных суток. Меркурий относится к внутренним планетам, земной группе. После лишения Плутона в 2006 году статуса планеты Меркурию перешло звание самой маленькой планеты Солнечной системы. Меркурий – это одновременно и самая ближайшая к Солнцу планета и, одновременно самая маленькая. Его радиус – 2 440 км, движется он в среднем на расстоянии 58 млн. км от Солнца.</a:t>
            </a:r>
            <a:r>
              <a:rPr b="0" lang="lt-LT" sz="2400" spc="-1" strike="noStrike">
                <a:solidFill>
                  <a:srgbClr val="ffffff"/>
                </a:solidFill>
                <a:latin typeface="Times New Roman"/>
              </a:rPr>
              <a:t> </a:t>
            </a:r>
            <a:r>
              <a:rPr b="0" lang="ru-RU" sz="2400" spc="-1" strike="noStrike">
                <a:solidFill>
                  <a:srgbClr val="ffffff"/>
                </a:solidFill>
                <a:latin typeface="Times New Roman"/>
              </a:rPr>
              <a:t>Масса Меркурия почти в 20 раз меньше массы Земли. Меркурий даже меньше некоторых спутников Юпитера и Сатурна. А</a:t>
            </a:r>
            <a:r>
              <a:rPr b="0" lang="lt-LT" sz="2400" spc="-1" strike="noStrike">
                <a:solidFill>
                  <a:srgbClr val="ffffff"/>
                </a:solidFill>
                <a:latin typeface="Times New Roman"/>
              </a:rPr>
              <a:t> </a:t>
            </a:r>
            <a:r>
              <a:rPr b="0" lang="ru-RU" sz="2400" spc="-1" strike="noStrike">
                <a:solidFill>
                  <a:srgbClr val="ffffff"/>
                </a:solidFill>
                <a:latin typeface="Times New Roman"/>
              </a:rPr>
              <a:t>естественных спутников у Меркурия нет.</a:t>
            </a:r>
            <a:endParaRPr b="0" lang="en-US" sz="2400" spc="-1" strike="noStrike">
              <a:solidFill>
                <a:srgbClr val="ffffff"/>
              </a:solidFill>
              <a:latin typeface="Verdana"/>
            </a:endParaRPr>
          </a:p>
        </p:txBody>
      </p:sp>
      <p:pic>
        <p:nvPicPr>
          <p:cNvPr id="200" name="" descr=""/>
          <p:cNvPicPr/>
          <p:nvPr/>
        </p:nvPicPr>
        <p:blipFill>
          <a:blip r:embed="rId1"/>
          <a:stretch/>
        </p:blipFill>
        <p:spPr>
          <a:xfrm>
            <a:off x="1258920" y="3500280"/>
            <a:ext cx="6948360" cy="30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250560" y="189000"/>
            <a:ext cx="8893080" cy="27352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Меркурий - самая близкая к Солнцу планета, поэтому Солнце на него светит и греет в 7 раз сильнее, чем на Землю. На дневной стороне Меркурия страшно жарко, там вечное пекло. Измерения показывают, что температура там поднимается до 400 градусов выше нуля. Зато на ночной стороне должен быть всегда сильный мороз, который, вероятно, доходит до 200 градусов ниже нуля. </a:t>
            </a:r>
            <a:endParaRPr b="0" lang="en-US" sz="2400" spc="-1" strike="noStrike">
              <a:solidFill>
                <a:srgbClr val="ffffff"/>
              </a:solidFill>
              <a:latin typeface="Verdana"/>
            </a:endParaRPr>
          </a:p>
        </p:txBody>
      </p:sp>
      <p:pic>
        <p:nvPicPr>
          <p:cNvPr id="202" name="" descr=""/>
          <p:cNvPicPr/>
          <p:nvPr/>
        </p:nvPicPr>
        <p:blipFill>
          <a:blip r:embed="rId1"/>
          <a:stretch/>
        </p:blipFill>
        <p:spPr>
          <a:xfrm>
            <a:off x="3635280" y="2565360"/>
            <a:ext cx="4176720" cy="41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0" y="-360"/>
            <a:ext cx="9144000" cy="3716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Поскольку орбита Меркурия столь близка к Солнцу, эта планета всегда появляется в небе вблизи Солнца. Поэтому видеть Меркурий можно только перед самым восходом или сразу после захода Солнца, когда слепящий диск находится чуть ниже горизонта. Невооруженному глазу Меркурий предстает как яркая звезда над самым горизонтом. Если же смотреть в телескоп, можно видеть изменения формы Меркурия. От узенького серпа он вырастает почти до полного диска, словно крошечная Луна. Эти различные формы астрономы называют фазами. За быстрое перемещение по небу вслед за Солнцем планета Меркурий была названа в честь древнеримского бога Меркурия - вестника богов, покровителя торговли, путешественников и воров. </a:t>
            </a:r>
            <a:endParaRPr b="0" lang="en-US" sz="2400" spc="-1" strike="noStrike">
              <a:solidFill>
                <a:srgbClr val="ffffff"/>
              </a:solidFill>
              <a:latin typeface="Verdana"/>
            </a:endParaRPr>
          </a:p>
        </p:txBody>
      </p:sp>
      <p:pic>
        <p:nvPicPr>
          <p:cNvPr id="204" name="" descr=""/>
          <p:cNvPicPr/>
          <p:nvPr/>
        </p:nvPicPr>
        <p:blipFill>
          <a:blip r:embed="rId1"/>
          <a:stretch/>
        </p:blipFill>
        <p:spPr>
          <a:xfrm>
            <a:off x="2627280" y="3525840"/>
            <a:ext cx="4613400" cy="335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0" y="0"/>
            <a:ext cx="8820000" cy="2735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По своим физическим характеристикам Меркурий напоминает Луну, сильно кратерирован. У планеты нет естественных спутников, но есть очень разреженная атмосфера. Ученые предполагают, что планета обладает железным ядром, на которое приходится 80% всей массы этого небесного тела. Согласно гипотезам, 3 миллиарда наших земных лет назад на Меркурии завершился период вулканической активности, после чего его поверхность изменяли только космические столкновения с метеоритами. </a:t>
            </a:r>
            <a:endParaRPr b="0" lang="en-US" sz="2400" spc="-1" strike="noStrike">
              <a:solidFill>
                <a:srgbClr val="ffffff"/>
              </a:solidFill>
              <a:latin typeface="Verdana"/>
            </a:endParaRPr>
          </a:p>
        </p:txBody>
      </p:sp>
      <p:pic>
        <p:nvPicPr>
          <p:cNvPr id="206" name="" descr=""/>
          <p:cNvPicPr/>
          <p:nvPr/>
        </p:nvPicPr>
        <p:blipFill>
          <a:blip r:embed="rId1"/>
          <a:stretch/>
        </p:blipFill>
        <p:spPr>
          <a:xfrm>
            <a:off x="4419720" y="2421000"/>
            <a:ext cx="4329000" cy="436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360"/>
            <a:ext cx="9144000" cy="3429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еркурий обладает сильно вытянутой орбитой. Также Меркурий быстрее всех планет движется по своей орбите – со средней скоростью 48 км/с и совершает оборот вокруг Солнца всего за 88 земных суток. При всем этом, у Меркурия еще и самое медленное суточное вращение среди всех планет – один оборот вокруг оси длится у него 58,6 земных суток, т.е. 2/3 меркурианского года. </a:t>
            </a:r>
            <a:endParaRPr b="0" lang="en-US" sz="2800" spc="-1" strike="noStrike">
              <a:solidFill>
                <a:srgbClr val="ffffff"/>
              </a:solidFill>
              <a:latin typeface="Verdana"/>
            </a:endParaRPr>
          </a:p>
        </p:txBody>
      </p:sp>
      <p:pic>
        <p:nvPicPr>
          <p:cNvPr id="208" name="" descr=""/>
          <p:cNvPicPr/>
          <p:nvPr/>
        </p:nvPicPr>
        <p:blipFill>
          <a:blip r:embed="rId1"/>
          <a:stretch/>
        </p:blipFill>
        <p:spPr>
          <a:xfrm>
            <a:off x="4075200" y="2781360"/>
            <a:ext cx="4457520" cy="39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0" y="-360"/>
            <a:ext cx="9144000" cy="4221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 Меркурии не существует времён года в том смысле, который мы вкладываем в это понятие на Земле. Это происходит из-за того, что ось вращения планеты находится под прямым углом к плоскости орбиты. Как следствие, рядом с полюсами есть области, до которых солнечные лучи не доходят никогда. Обследование, проведённое радиотелескопом «</a:t>
            </a:r>
            <a:r>
              <a:rPr b="0" lang="ru-RU" sz="2800" spc="-1" strike="noStrike" u="sng">
                <a:solidFill>
                  <a:srgbClr val="ffffcc"/>
                </a:solidFill>
                <a:uFillTx/>
                <a:latin typeface="Times New Roman"/>
                <a:hlinkClick r:id="rId1"/>
              </a:rPr>
              <a:t>Аресибо</a:t>
            </a:r>
            <a:r>
              <a:rPr b="0" lang="ru-RU" sz="2800" spc="-1" strike="noStrike">
                <a:solidFill>
                  <a:srgbClr val="ffffff"/>
                </a:solidFill>
                <a:latin typeface="Times New Roman"/>
              </a:rPr>
              <a:t>», позволяет предположить, что в этой студёной и тёмной зоне есть ледники. Ледниковый слой может достигать 2 м и покрыт слоем пыли. </a:t>
            </a:r>
            <a:endParaRPr b="0" lang="en-US" sz="2800" spc="-1" strike="noStrike">
              <a:solidFill>
                <a:srgbClr val="ffffff"/>
              </a:solidFill>
              <a:latin typeface="Verdana"/>
            </a:endParaRPr>
          </a:p>
        </p:txBody>
      </p:sp>
      <p:pic>
        <p:nvPicPr>
          <p:cNvPr id="210" name="" descr=""/>
          <p:cNvPicPr/>
          <p:nvPr/>
        </p:nvPicPr>
        <p:blipFill>
          <a:blip r:embed="rId2"/>
          <a:stretch/>
        </p:blipFill>
        <p:spPr>
          <a:xfrm>
            <a:off x="2124000" y="3933720"/>
            <a:ext cx="5400720" cy="2739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0" y="-360"/>
            <a:ext cx="9144000" cy="3357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Существует гипотеза о том, что Меркурий - очень давно потерянный спутник Венеры. Математическое моделирование эволюции орбиты спутника с массой Меркурия показало, что в принципе такой вариант не исключен и даже может объяснить необычайно медленное осевое вращение этих планет. Но для проверки этой гипотезы нужны детальные исследования этих планет: как Меркурия так и Венеры.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12" name="" descr=""/>
          <p:cNvPicPr/>
          <p:nvPr/>
        </p:nvPicPr>
        <p:blipFill>
          <a:blip r:embed="rId1"/>
          <a:stretch/>
        </p:blipFill>
        <p:spPr>
          <a:xfrm>
            <a:off x="4930920" y="2781360"/>
            <a:ext cx="3966840" cy="4035240"/>
          </a:xfrm>
          <a:prstGeom prst="rect">
            <a:avLst/>
          </a:prstGeom>
          <a:ln w="0">
            <a:noFill/>
          </a:ln>
        </p:spPr>
      </p:pic>
      <p:sp>
        <p:nvSpPr>
          <p:cNvPr id="213" name=""/>
          <p:cNvSpPr/>
          <p:nvPr/>
        </p:nvSpPr>
        <p:spPr>
          <a:xfrm>
            <a:off x="1619280" y="4149720"/>
            <a:ext cx="4859280" cy="1166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Спасибо за внимание!</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30T18:11:23Z</dcterms:created>
  <dc:creator>Ieva</dc:creator>
  <dc:description/>
  <dc:language>en-US</dc:language>
  <cp:lastModifiedBy>Ieva</cp:lastModifiedBy>
  <dcterms:modified xsi:type="dcterms:W3CDTF">2011-05-01T16:25:12Z</dcterms:modified>
  <cp:revision>3</cp:revision>
  <dc:subject/>
  <dc:title>Меркурий</dc:title>
</cp:coreProperties>
</file>