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8C4-A11E-4D53-B728-F1B4D4DF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BFE-C991-4B9C-B0DB-2670F89F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56B-7000-4C50-A863-20FCDCF0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ED8-8F7C-4EFA-B331-C83A7D33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C9E-1C50-4AF6-A35E-605E7204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D25B-BE85-4F79-AF61-113FE708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6C73-A8F8-4EF5-A006-DCF7DD99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5AE-7C43-41CE-A9D9-CB6865CB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336-5E0C-46F3-A6EC-D00663E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7AA6-7824-4001-A382-116CEDAF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6E90-893F-4FA0-805B-F83B1C9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6A0-6576-45CC-8FB8-7D877A8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FD1-43F8-49C6-8332-67D4B40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AEB1-CD1D-4A3E-8B9E-462AE91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8E9D-F300-4A93-A7A1-78AB7FBE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8E9-0F75-4616-B211-439E8DAE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FC96-368B-45E0-AF3C-A27F631F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AB4-89B9-410A-8B69-073E7CB3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372-3A02-4B6F-A7E3-AE63CD0D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2E3-60F7-4BE6-83D3-D858E470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3A6-5711-42DD-8DDD-21EA7FA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F7B-77EB-4202-ABA5-B030C98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F66-10C8-448F-8D4E-7B33FCE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1FF-87D9-4929-9DDB-D0C6E61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ADB-A6C2-4C05-A4D7-1B3EBE34C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299E-3897-4253-9004-628F5767BF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6451-9627-411A-AA01-315F3A69B8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работка мобильной измерительной системы для оценки вибрационного состояния роторных машин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пломник: АиУб-04-1, Сапрыгин А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: ассистент Васькевич А.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Мои документы\безымянный1.jpg"/>
          <p:cNvPicPr/>
          <p:nvPr/>
        </p:nvPicPr>
        <p:blipFill>
          <a:blip r:embed="rId1"/>
          <a:srcRect l="15046" t="0" r="15046" b="0"/>
          <a:stretch/>
        </p:blipFill>
        <p:spPr>
          <a:xfrm>
            <a:off x="0" y="0"/>
            <a:ext cx="914400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387-9FB9-4040-90EE-C7E77B8E3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ок п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1890720" y="-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2286000" y="1924200"/>
          <a:ext cx="4305240" cy="493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24200"/>
                    <a:ext cx="43052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E690-7E50-45C8-B6BF-429597449F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890720" y="-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235728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данной выпускной работы была спроектирована мобильная измерительная система  вибродиагностики. А имен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структурная схема микропроцессорной систе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ы принципиальные схемы микропроцессорной систе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ы алгоритм работы системы для микроконтрол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257184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33A-AA2A-4EE6-9AF6-47EB344B70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EFBD-A61D-4C05-99DB-D19144D29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выпускной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работы – разработка структурной и принципиальной схем микропроцессорной системы устройства «Регистратор-Виброметр». Система должна обеспечивать запись пакетов мгновенных значений виброускорения. Формат пакетов должен соответствовать стандарту регламентированному разработчиками ПО мониторинга и диагностики. Также система должна обеспечивать показания СКЗ виброскорости, для обеспечения контроля общего уровня виб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A2D2-9ADB-4B22-A872-CBB58A7320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исание технологического процес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25621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состояния узлов роторных машин базируется на анализе в диапазоне спектров и кепстров виброскорости, спектров огибающей виброускорения, а также измерении общих уровней вибрации. Контроль параметров вибрации выполняется с помощью средств виброконтроля – мобильных измерительных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E171-80E9-4755-8858-ED5DF11703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 мобильной измерительной системы для оценки вибрационного состояния роторных ма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60488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2428920" y="3286080"/>
            <a:ext cx="600120" cy="8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0" y="312588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286160" y="2928960"/>
            <a:ext cx="97020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7000920" y="4643280"/>
            <a:ext cx="1357200" cy="108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6"/>
          <a:stretch/>
        </p:blipFill>
        <p:spPr>
          <a:xfrm>
            <a:off x="7072200" y="2000160"/>
            <a:ext cx="1373400" cy="11430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32"/>
          <p:cNvCxnSpPr/>
          <p:nvPr/>
        </p:nvCxnSpPr>
        <p:spPr>
          <a:xfrm flipV="1">
            <a:off x="5785920" y="2928240"/>
            <a:ext cx="1143720" cy="500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34"/>
          <p:cNvCxnSpPr/>
          <p:nvPr/>
        </p:nvCxnSpPr>
        <p:spPr>
          <a:xfrm>
            <a:off x="5929200" y="4214520"/>
            <a:ext cx="1215360" cy="857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5" name="TextBox 35"/>
          <p:cNvSpPr/>
          <p:nvPr/>
        </p:nvSpPr>
        <p:spPr>
          <a:xfrm>
            <a:off x="3240" y="4429080"/>
            <a:ext cx="15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бр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6"/>
          <p:cNvSpPr/>
          <p:nvPr/>
        </p:nvSpPr>
        <p:spPr>
          <a:xfrm>
            <a:off x="2074680" y="4357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Прямая со стрелкой 45"/>
          <p:cNvCxnSpPr/>
          <p:nvPr/>
        </p:nvCxnSpPr>
        <p:spPr>
          <a:xfrm>
            <a:off x="3214440" y="3785760"/>
            <a:ext cx="78660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46"/>
          <p:cNvCxnSpPr/>
          <p:nvPr/>
        </p:nvCxnSpPr>
        <p:spPr>
          <a:xfrm>
            <a:off x="1643040" y="3785760"/>
            <a:ext cx="71496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49"/>
          <p:cNvSpPr/>
          <p:nvPr/>
        </p:nvSpPr>
        <p:spPr>
          <a:xfrm>
            <a:off x="3861720" y="47862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ато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иброме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0"/>
          <p:cNvSpPr/>
          <p:nvPr/>
        </p:nvSpPr>
        <p:spPr>
          <a:xfrm>
            <a:off x="7291440" y="5929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51"/>
          <p:cNvSpPr/>
          <p:nvPr/>
        </p:nvSpPr>
        <p:spPr>
          <a:xfrm>
            <a:off x="6576480" y="3071880"/>
            <a:ext cx="20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sh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п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32F-55B1-41E6-A5B7-AE87C37737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ная схема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2000160" y="1500120"/>
            <a:ext cx="5000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CE5-64B2-4E69-9A67-48CBAB60BA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 микросх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6"/>
          <p:cNvSpPr/>
          <p:nvPr/>
        </p:nvSpPr>
        <p:spPr>
          <a:xfrm>
            <a:off x="214200" y="1928880"/>
            <a:ext cx="892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кроконтролле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13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ст-контроллер Vinculum VNC1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TD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универсальное программируемое устройство сопряжени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sh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пител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роллер диспле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22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i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е программируемое устройство сопряжения с диспле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ЦП ADC08062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Semiconducto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назначен для преобразования аналоговых сигналов с датчика в 8 - разрядный цифровой 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RamTron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назначено для временного хранения данных (ёмкость 32 КБайт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образователь логического уровн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VC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2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5BC-338C-4969-A255-EC09CC016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ципиальная 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500040" y="1333440"/>
            <a:ext cx="79916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37E-EFF2-42FA-B4B7-75EB76E6C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горитм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143000" y="1758960"/>
            <a:ext cx="6858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F6B5-E799-4C71-8F18-24181F1C3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рпус устройства “Регистратор - Виброметр 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47498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3:43:16Z</dcterms:created>
  <dc:creator>acer</dc:creator>
  <dc:description/>
  <dc:language>en-US</dc:language>
  <cp:lastModifiedBy>Artyom</cp:lastModifiedBy>
  <dcterms:modified xsi:type="dcterms:W3CDTF">2008-06-23T17:23:41Z</dcterms:modified>
  <cp:revision>24</cp:revision>
  <dc:subject/>
  <dc:title>«Разработка микропроцессорной системы контроля магистрального насосного агрегата»</dc:title>
</cp:coreProperties>
</file>