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ED3A-8EA7-4DD4-A31B-EA61A495E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презентация рассчитана на самостоятельную работу учащихся с 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325-DB50-4B9D-A5EE-2742B7DA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FA7-BC64-49C7-AF1B-AC007D04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81D-394B-4D67-A98E-AAB577FB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3F2-CA97-4EE1-98C9-42771C0D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7AD-418E-415E-B0D5-D9DC6E58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AA4-79EE-4C93-B499-2CE3C029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AFA-6690-4CEE-93E8-3DB26D4C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8F8-0DCD-4E1B-B5FD-E464F216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F36-87A1-40EA-847B-FD0D05F9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D8F-8B57-4132-8EEE-5D59B9C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1B5-50B0-4D6E-B9F8-E9DDFDE9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E0C-9314-4D9C-A1C5-25129EEB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16E8-82B7-4564-8257-350E12F1E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91840"/>
            <a:ext cx="9144000" cy="10364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Monotype Corsiva"/>
              </a:rPr>
              <a:t>Гидравлические маш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206028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намичная иллюстрация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2133720"/>
            <a:ext cx="1616040" cy="6476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2708280"/>
            <a:ext cx="72327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ЕЕВА Марина Викто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508640"/>
            <a:ext cx="7232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508640"/>
            <a:ext cx="7232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средняя школа № 3 г. Лысково Нижегород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19242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2174760" y="476280"/>
            <a:ext cx="4918320" cy="5977080"/>
          </a:xfrm>
          <a:prstGeom prst="rect">
            <a:avLst/>
          </a:prstGeom>
          <a:ln w="127080">
            <a:solidFill>
              <a:srgbClr val="00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16000" y="1082520"/>
          <a:ext cx="6696000" cy="38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082520"/>
                    <a:ext cx="669600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187280" y="996840"/>
          <a:ext cx="648036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96840"/>
                    <a:ext cx="648036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4000" y="212868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28000" y="212868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187280" y="765000"/>
          <a:ext cx="662472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65000"/>
                    <a:ext cx="662472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24000" y="212868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12868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16000" y="790560"/>
          <a:ext cx="676908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90560"/>
                    <a:ext cx="676908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124000" y="2708280"/>
            <a:ext cx="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30686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3068640"/>
            <a:ext cx="287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128680"/>
            <a:ext cx="64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28000" y="212868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050920" y="907920"/>
          <a:ext cx="511344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907920"/>
                    <a:ext cx="511344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786040" y="1930320"/>
          <a:ext cx="3571920" cy="31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1930320"/>
                    <a:ext cx="357192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3:57:07Z</dcterms:created>
  <dc:creator>Intel</dc:creator>
  <dc:description/>
  <dc:language>en-US</dc:language>
  <cp:lastModifiedBy>АДМИНИСТРАТОР</cp:lastModifiedBy>
  <dcterms:modified xsi:type="dcterms:W3CDTF">2006-05-04T09:56:22Z</dcterms:modified>
  <cp:revision>34</cp:revision>
  <dc:subject/>
  <dc:title>Гидравлические машины</dc:title>
</cp:coreProperties>
</file>