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A0F7-7AB7-41AC-A54C-3619FB450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презентация рассчитана на самостоятельную работу учащихся с 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несите в тетрадь схематическое изображение гидравлической машины и вывод формул, как показано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кажите на рисун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значения площадей поршне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ил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отрим несколько числовых приме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о. любая гидравлическая машина даёт выигрыш в силе, т.е. помогает небольшую силу челове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сделать больше в несколько раз. В рассмотренных примерах вы видели, во сколько раз в каждом случае возрастала сила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успели ли вы посчитать силу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1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в парах:     половина пар разбирает работу гидравлического пресса, другая половина пар – домк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яснение:            для того, чтобы разобраться в неизвестных устройствах, воспользуйтесь планом-подсказкой,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 выполняя его пун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биваем пары:   объединение новых пар по принципу – один знает и объясняет соседу по новой паре работу прес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ой – домк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6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в парах:     половина пар разбирает работу гидравлического пресса, другая половина пар – домк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яснение:            для того, чтобы разобраться в неизвестных устройствах, воспользуйтесь планом-подсказкой,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 выполняя его пун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биваем пары:   объединение новых пар по принципу – один знает и объясняет соседу по новой паре работу прес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ой – домк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6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в парах:     половина пар разбирает работу гидравлического пресса, другая половина пар – домк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яснение:            для того, чтобы разобраться в неизвестных устройствах, воспользуйтесь планом-подсказкой,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 выполняя его пун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биваем пары:   объединение новых пар по принципу – один знает и объясняет соседу по новой паре работу прес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ой – домкр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 е м я :           6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89C-F9BE-4DDE-82F6-AA2EA0EC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060-A363-4C59-BFC5-5CA40026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03C-9ADA-4B6D-A7DC-7BEB50C7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93B-5370-4A40-BF40-01031011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507-A41A-4B58-9595-37DF26F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264-FDB9-4E57-981C-B5DE7836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977-33B2-4928-B6AB-A6797C29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C91-C336-43A4-9B08-35584E59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385-DC5F-4C45-AD56-412C5C99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308-E228-4259-A55B-7FEC742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709-ED7A-4972-9D30-AC1A40D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30C-B30B-41D3-8F96-FF6CA22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9B3B-91A8-4BBF-9461-6FD2F163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7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0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1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3.png"/><Relationship Id="rId43" Type="http://schemas.openxmlformats.org/officeDocument/2006/relationships/slide" Target="slide20.xml"/><Relationship Id="rId44" Type="http://schemas.openxmlformats.org/officeDocument/2006/relationships/slideLayout" Target="../slideLayouts/slideLayout3.xml"/><Relationship Id="rId4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7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0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1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3.png"/><Relationship Id="rId43" Type="http://schemas.openxmlformats.org/officeDocument/2006/relationships/slideLayout" Target="../slideLayouts/slideLayout3.xml"/><Relationship Id="rId4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91840"/>
            <a:ext cx="9144000" cy="1036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Monotype Corsiva"/>
              </a:rPr>
              <a:t>Гидравлические ма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206028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чная иллюстрация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2133720"/>
            <a:ext cx="16160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708280"/>
            <a:ext cx="72327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ЕВА Марина Викто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08640"/>
            <a:ext cx="7232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508640"/>
            <a:ext cx="7232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средняя школа № 3 г. Лысково Ниже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9242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00000" y="604800"/>
          <a:ext cx="554688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04800"/>
                    <a:ext cx="554688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4437000"/>
            <a:ext cx="5616720" cy="2232000"/>
          </a:xfrm>
          <a:prstGeom prst="foldedCorner">
            <a:avLst>
              <a:gd name="adj" fmla="val 2724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00000" y="620640"/>
          <a:ext cx="5543640" cy="38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20640"/>
                    <a:ext cx="55436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04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404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932360" y="11592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511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А во сколько раз отличаются друг от друга силы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00000" y="620640"/>
          <a:ext cx="554364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55436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404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04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32360" y="11592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933720"/>
            <a:ext cx="3024000" cy="2590920"/>
          </a:xfrm>
          <a:prstGeom prst="flowChartDocumen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4005360"/>
            <a:ext cx="3276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д малым поршнем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оздаётся давление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3933720"/>
            <a:ext cx="3384360" cy="2590920"/>
          </a:xfrm>
          <a:prstGeom prst="flowChart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3933720"/>
            <a:ext cx="3672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д большим поршнем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оздаётся 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Comic Sans MS"/>
              </a:rPr>
              <a:t>такое же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давление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07672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509436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99736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63700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0"/>
            <a:ext cx="6084720" cy="3141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По закону Паскал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это давление передаётся в каждую точку жидкости, поэтом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5543640" cy="3828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2852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19640" y="404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404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32360" y="11592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299736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263700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507672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5094360"/>
            <a:ext cx="266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5589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907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по закону Паска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720" y="52862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530064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4797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446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5575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8520" y="478296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575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5446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5230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230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4581360"/>
            <a:ext cx="3673440" cy="16560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0028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2559 -0.31065 E">
                                      <p:cBhvr>
                                        <p:cTn id="21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6701 -0.2581 E">
                                      <p:cBhvr>
                                        <p:cTn id="22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720"/>
                            </p:stCondLst>
                            <p:childTnLst>
                              <p:par>
                                <p:cTn id="235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11111E-006 -1.11111E-006 L 0.21667 -0.37616 E">
                                      <p:cBhvr>
                                        <p:cTn id="23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3.7037E-006 L 0.21268 -0.3676 E">
                                      <p:cBhvr>
                                        <p:cTn id="23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720"/>
                            </p:stCondLst>
                            <p:childTnLst>
                              <p:par>
                                <p:cTn id="24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720"/>
                            </p:stCondLst>
                            <p:childTnLst>
                              <p:par>
                                <p:cTn id="2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0.0276 -0.37871 E">
                                      <p:cBhvr>
                                        <p:cTn id="24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0.02361 -0.3676 E">
                                      <p:cBhvr>
                                        <p:cTn id="24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720"/>
                            </p:stCondLst>
                            <p:childTnLst>
                              <p:par>
                                <p:cTn id="25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72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72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88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88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838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938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88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88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380"/>
                            </p:stCondLst>
                            <p:childTnLst>
                              <p:par>
                                <p:cTn id="3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38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38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299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10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10 раз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8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36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5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37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15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920"/>
                            </p:stCondLst>
                            <p:childTnLst>
                              <p:par>
                                <p:cTn id="405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3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3 раза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45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45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88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5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5 раз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9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4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53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1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54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840"/>
                            </p:stCondLst>
                            <p:childTnLst>
                              <p:par>
                                <p:cTn id="571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84720" y="580536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тогда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2920" y="1125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2920" y="19033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53440" y="1111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23280" y="19033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51640" y="17748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0920" y="1558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46560" y="909720"/>
            <a:ext cx="3673440" cy="16556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684440" y="333360"/>
          <a:ext cx="26002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33360"/>
                    <a:ext cx="260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50920" y="299736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7636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8000" y="3716280"/>
            <a:ext cx="1079640" cy="405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08360" y="33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33440" y="16225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125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112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2997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79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479736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 2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  то есть силы здесь отличаются друг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друга в  </a:t>
            </a: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2 раза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87640" y="46767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916360" y="5013360"/>
            <a:ext cx="50328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5013360"/>
            <a:ext cx="86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4508640"/>
            <a:ext cx="7848360" cy="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4221000"/>
            <a:ext cx="8496360" cy="2448000"/>
          </a:xfrm>
          <a:custGeom>
            <a:avLst/>
            <a:gdLst>
              <a:gd name="textAreaLeft" fmla="*/ 0 w 8496360"/>
              <a:gd name="textAreaRight" fmla="*/ 8496360 w 8496360"/>
              <a:gd name="textAreaTop" fmla="*/ 317160 h 2448000"/>
              <a:gd name="textAreaBottom" fmla="*/ 2130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365720"/>
            <a:ext cx="662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найдите в учебнике (стр. 112) и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выпишит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в  тетрадь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,  как   называется   отношени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89760" y="5373720"/>
            <a:ext cx="103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053040" y="5517720"/>
            <a:ext cx="603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20000" y="5805360"/>
            <a:ext cx="103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1" lang="ru-RU" sz="16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5734080"/>
            <a:ext cx="4334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04000" y="5013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7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40741E-007 L 0.60643 -0.14213 E">
                                      <p:cBhvr>
                                        <p:cTn id="618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500"/>
                            </p:stCondLst>
                            <p:childTnLst>
                              <p:par>
                                <p:cTn id="624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6 2.59259E-006 L 0.39774 -0.25764 E">
                                      <p:cBhvr>
                                        <p:cTn id="625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880"/>
                            </p:stCondLst>
                            <p:childTnLst>
                              <p:par>
                                <p:cTn id="6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188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859280" y="17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70028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п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гидравлически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79640" y="907920"/>
            <a:ext cx="2016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907920"/>
            <a:ext cx="230508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500"/>
                            </p:stCondLst>
                            <p:childTnLst>
                              <p:par>
                                <p:cTn id="7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7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59280" y="17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170028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п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3528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гидравлически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979640" y="907920"/>
            <a:ext cx="2016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907920"/>
            <a:ext cx="230508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443640" y="2781360"/>
          <a:ext cx="101916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2781360"/>
                    <a:ext cx="10191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443640" y="2697120"/>
          <a:ext cx="1028880" cy="21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697120"/>
                    <a:ext cx="10288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413400" y="2678040"/>
          <a:ext cx="1038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3400" y="2678040"/>
                    <a:ext cx="1038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365880" y="2421000"/>
          <a:ext cx="1085760" cy="244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5880" y="2421000"/>
                    <a:ext cx="10857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372360" y="2440080"/>
          <a:ext cx="1066680" cy="24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72360" y="2440080"/>
                    <a:ext cx="10666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372360" y="2097000"/>
          <a:ext cx="1095120" cy="277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097000"/>
                    <a:ext cx="109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372360" y="2125800"/>
          <a:ext cx="1152360" cy="274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2125800"/>
                    <a:ext cx="11523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372360" y="2459160"/>
          <a:ext cx="1190520" cy="24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2459160"/>
                    <a:ext cx="1190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386400" y="2706840"/>
          <a:ext cx="1209960" cy="21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86400" y="2706840"/>
                    <a:ext cx="120996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423120" y="2830680"/>
          <a:ext cx="1028520" cy="203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3120" y="2830680"/>
                    <a:ext cx="10285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32000" y="2708280"/>
          <a:ext cx="1771560" cy="21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3200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332000" y="2708280"/>
          <a:ext cx="1752480" cy="2104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32000" y="2708280"/>
                    <a:ext cx="17524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332000" y="2708280"/>
          <a:ext cx="1733400" cy="2095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332000" y="2708280"/>
                    <a:ext cx="17334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360440" y="2708280"/>
          <a:ext cx="1771560" cy="21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36044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322280" y="2708280"/>
          <a:ext cx="1809720" cy="2104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22280" y="2708280"/>
                    <a:ext cx="18097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389240" y="2744640"/>
          <a:ext cx="1742760" cy="2124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89240" y="2744640"/>
                    <a:ext cx="17427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403280" y="2708280"/>
          <a:ext cx="1762200" cy="2124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03280" y="2708280"/>
                    <a:ext cx="17622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432080" y="2708280"/>
          <a:ext cx="1771560" cy="21430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32080" y="2708280"/>
                    <a:ext cx="17715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403280" y="2708280"/>
          <a:ext cx="1762200" cy="2104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03280" y="2708280"/>
                    <a:ext cx="176220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341360" y="2708280"/>
          <a:ext cx="1790640" cy="2104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41360" y="2708280"/>
                    <a:ext cx="179064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413000" y="2708280"/>
          <a:ext cx="1790640" cy="2114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413000" y="2708280"/>
                    <a:ext cx="179064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>
            <a:hlinkClick r:id="rId43" action="ppaction://hlinksldjump"/>
          </p:cNvPr>
          <p:cNvSpPr/>
          <p:nvPr/>
        </p:nvSpPr>
        <p:spPr>
          <a:xfrm>
            <a:off x="5651640" y="5950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5734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ы хотите рассмотреть работу домкрата и пресса  ещё  раз, нажмите на  красную  стрел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20332200">
            <a:off x="4709520" y="19036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510200">
            <a:off x="7014240" y="182700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000"/>
                            </p:stCondLst>
                            <p:childTnLst>
                              <p:par>
                                <p:cTn id="7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6000"/>
                            </p:stCondLst>
                            <p:childTnLst>
                              <p:par>
                                <p:cTn id="7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8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8000"/>
                            </p:stCondLst>
                            <p:childTnLst>
                              <p:par>
                                <p:cTn id="7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48720" cy="4105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f8587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Comic Sans MS"/>
              </a:rPr>
              <a:t>Гидравлические маш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859280" y="17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домкр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170028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идравлический   п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528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гидравлически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979640" y="907920"/>
            <a:ext cx="2016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03640" y="907920"/>
            <a:ext cx="230508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443640" y="2781360"/>
          <a:ext cx="101916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2781360"/>
                    <a:ext cx="10191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443640" y="2697120"/>
          <a:ext cx="1028880" cy="21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697120"/>
                    <a:ext cx="10288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413400" y="2678040"/>
          <a:ext cx="103824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3400" y="2678040"/>
                    <a:ext cx="10382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365880" y="2421000"/>
          <a:ext cx="1085760" cy="244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5880" y="2421000"/>
                    <a:ext cx="10857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6372360" y="2440080"/>
          <a:ext cx="1066680" cy="24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72360" y="2440080"/>
                    <a:ext cx="10666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372360" y="2097000"/>
          <a:ext cx="1095120" cy="277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097000"/>
                    <a:ext cx="109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372360" y="2125800"/>
          <a:ext cx="1152360" cy="274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2125800"/>
                    <a:ext cx="11523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6372360" y="2459160"/>
          <a:ext cx="1190520" cy="24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2459160"/>
                    <a:ext cx="1190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386400" y="2706840"/>
          <a:ext cx="1209960" cy="21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86400" y="2706840"/>
                    <a:ext cx="120996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423120" y="2830680"/>
          <a:ext cx="1028520" cy="203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3120" y="2830680"/>
                    <a:ext cx="10285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1332000" y="2708280"/>
          <a:ext cx="1771560" cy="21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3200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1332000" y="2708280"/>
          <a:ext cx="1752480" cy="2104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32000" y="2708280"/>
                    <a:ext cx="17524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1332000" y="2708280"/>
          <a:ext cx="1733400" cy="2095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332000" y="2708280"/>
                    <a:ext cx="17334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360440" y="2708280"/>
          <a:ext cx="1771560" cy="2104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360440" y="2708280"/>
                    <a:ext cx="1771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322280" y="2708280"/>
          <a:ext cx="1809720" cy="2104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22280" y="2708280"/>
                    <a:ext cx="18097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389240" y="2744640"/>
          <a:ext cx="1742760" cy="2124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89240" y="2744640"/>
                    <a:ext cx="17427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403280" y="2708280"/>
          <a:ext cx="1762200" cy="2124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03280" y="2708280"/>
                    <a:ext cx="17622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432080" y="2708280"/>
          <a:ext cx="1771560" cy="21430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32080" y="2708280"/>
                    <a:ext cx="17715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1403280" y="2708280"/>
          <a:ext cx="1762200" cy="2104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03280" y="2708280"/>
                    <a:ext cx="176220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341360" y="2708280"/>
          <a:ext cx="1790640" cy="2104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41360" y="2708280"/>
                    <a:ext cx="179064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413000" y="2708280"/>
          <a:ext cx="1790640" cy="2114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413000" y="2708280"/>
                    <a:ext cx="179064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0"/>
                            </p:stCondLst>
                            <p:childTnLst>
                              <p:par>
                                <p:cTn id="8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7000"/>
                            </p:stCondLst>
                            <p:childTnLst>
                              <p:par>
                                <p:cTn id="9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5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195640" y="1699920"/>
            <a:ext cx="4906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е 2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посл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4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1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посл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4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9933"/>
                </a:solidFill>
                <a:latin typeface="Comic Sans MS"/>
              </a:rPr>
              <a:t>А теперь порешаем задачи !.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1116000" y="476280"/>
            <a:ext cx="2903400" cy="3529080"/>
          </a:xfrm>
          <a:prstGeom prst="rect">
            <a:avLst/>
          </a:prstGeom>
          <a:ln w="127080">
            <a:solidFill>
              <a:srgbClr val="0000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643280" y="1557360"/>
            <a:ext cx="352908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623 – 16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ранцузский физик, математик, философ, писатель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становил один из основных законов гидростатик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4365720"/>
            <a:ext cx="60501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вление, производимое на жидкость или газ, передаётся в любую точку одинаково   во   всех    направл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56000" y="549360"/>
            <a:ext cx="446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лез ПАСКА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05360"/>
            <a:ext cx="914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честь Б.Паскаля единица давления в СИ названа паскалем и  равна 1 Н/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9731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- это машины, действие которых основано на законах движения и равновесия жидко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052640"/>
            <a:ext cx="8569080" cy="1150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f8587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Гидравлические машины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515772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Греческое слово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идравлик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переводе на русский значит  «водя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18">
                                  <p:stCondLst>
                                    <p:cond delay="3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92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404640"/>
            <a:ext cx="770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Рассмотрим принцип действия гидравлической машины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42920" y="549360"/>
          <a:ext cx="536580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49360"/>
                    <a:ext cx="536580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547640" y="4797360"/>
            <a:ext cx="403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ш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4365720"/>
            <a:ext cx="4321440" cy="2060640"/>
          </a:xfrm>
          <a:prstGeom prst="foldedCorner">
            <a:avLst>
              <a:gd name="adj" fmla="val 288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4395960"/>
            <a:ext cx="39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действуем на малый поршень с некотор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5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71640" y="620640"/>
          <a:ext cx="5456160" cy="34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545616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220500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900000" y="620640"/>
          <a:ext cx="5465880" cy="35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546588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34936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42920" y="549360"/>
          <a:ext cx="544680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49360"/>
                    <a:ext cx="54468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24000" y="155736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15573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249228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565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56536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3:57:07Z</dcterms:created>
  <dc:creator>Intel</dc:creator>
  <dc:description/>
  <dc:language>en-US</dc:language>
  <cp:lastModifiedBy>АДМИНИСТРАТОР</cp:lastModifiedBy>
  <dcterms:modified xsi:type="dcterms:W3CDTF">2006-05-04T09:47:38Z</dcterms:modified>
  <cp:revision>59</cp:revision>
  <dc:subject/>
  <dc:title>Гидравлические машины</dc:title>
</cp:coreProperties>
</file>