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1C2-E178-4B41-AA8D-3BF0DDA4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C90-5AAA-4AAF-97A2-186FB6B0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D96-9A21-42A7-A6B9-27EC4096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2D1-F13D-4098-9451-E890EF4B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95EE-A5FE-4879-8E35-874A7AE4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A112-4B29-49F0-8A89-11D17E62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368D-C483-49EB-837B-99B6669C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CDED-86FA-432A-9876-678B893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FDCE-9662-4CFA-8831-11B20493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7B25-05BF-42DA-A85B-EC6A19E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B0CA-4B36-4BA7-AC1F-87BB5C36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EE2-4AB0-4A50-B413-4E34247B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8FF0-E061-4FBC-9CF5-E53EF4F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2D2E-8E17-45DC-8DDD-86170F29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46D9-3B5C-4116-A2D3-2E3D9414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3C3D-3C8C-42FD-A95C-5078ED81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50F1-6D2C-4990-BCC1-2BAC3427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B78-97D2-49ED-BE1F-E47F5C48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4E7-1900-44D5-B25E-EBBD52C5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4CB-80EA-445D-83C8-0B9AC49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9E1-4291-4646-AE54-9F25E3D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112-953F-42E3-9D67-4322CE9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35F-5C1A-4BD8-9CBE-342AC53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2B1-F7BC-4DE5-BA08-63E6761A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7E38-52D4-4198-A946-5DBD5D19FCBC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AE64-8218-441A-9CC7-F1FECEF943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11B4-2FA0-43AC-A87E-CE61DF36A903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7CA9-EDE7-4755-88D6-192A4A1DFD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6240" y="69228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товский институт серв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0520" y="126828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работа по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21465600">
            <a:off x="1619280" y="3141360"/>
            <a:ext cx="5761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стория костюма древности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5445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студент группы  №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3800" y="59500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214-8FE6-4553-B701-C7513887998B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74562-146E-4475-B386-0CFABF6D5FE2}" type="datetime2">
              <a:rPr lang="en-US"/>
              <a:t>Wednesday, July 29, 2026</a:t>
            </a:fld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"/>
                            </p:stCondLst>
                            <p:childTnLst>
                              <p:par>
                                <p:cTn id="4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15800">
            <a:off x="5076360" y="1052640"/>
            <a:ext cx="256860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1341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кркты силуэ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45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конце 1-го десятилетия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X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 века в моду вошёл корсет, он помогал корректировать фигуру в соответствии с требованиями м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880-4DB0-4085-ACB5-FB34870153E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91020-8AE3-4818-9EF7-D425AADE2DF9}" type="datetime2">
              <a:rPr lang="en-US"/>
              <a:t>Wednesday, July 29, 20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40.776702880859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1">
                                  <p:stCondLst>
                                    <p:cond delay="15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Середина </a:t>
            </a: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XIX </a:t>
            </a: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29160" y="239544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гий мужской костюм богатого куп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3213000"/>
            <a:ext cx="496908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a4"/>
                </a:solidFill>
                <a:latin typeface="Impact"/>
              </a:rPr>
              <a:t>В моде были бакенбарды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a4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4DE-7CE3-4419-AF30-114D8D6CCEF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43FD6-74F1-4F3F-87B2-FA7F8D9ADF4F}" type="datetime2">
              <a:rPr lang="en-US"/>
              <a:t>Wednesday, July 29, 20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1480" y="1844640"/>
            <a:ext cx="750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полнил студент группы №99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1960" y="4365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л: Иванов И.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8520" y="328464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ванов и.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24922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остов-на-Д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E4F-2F55-478F-BDC7-D7DD502F100A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3232F-411E-4B65-9A6B-D109EE5CEC13}" type="datetime2">
              <a:rPr lang="en-US"/>
              <a:t>Wednesday, July 29, 2026</a:t>
            </a:fld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98.80001068115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19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9" autoRev="1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5" fill="hold">
                                          <p:stCondLst>
                                            <p:cond delay="60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41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1">
                                  <p:stCondLst>
                                    <p:cond delay="1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19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8">
                                  <p:stCondLst>
                                    <p:cond delay="2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09564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11640" y="62064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2276640"/>
            <a:ext cx="376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Одеянием женщине служила рубаха-передник оставляющая открытой грудь, плотно прилегающая к телу и расклешенная к 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6BC-DEAC-44A1-8F76-D05BD1C6AF6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C6950-0C00-47D6-B507-74C70862EB15}" type="datetime2">
              <a:rPr lang="en-US"/>
              <a:t>Wednesday, July 29, 20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20455800">
            <a:off x="4390920" y="1125000"/>
            <a:ext cx="4753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кошное одея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454560" y="3068640"/>
            <a:ext cx="56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ой деталью костюма древних рим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ычно считают тогу (Прямоугольный или полукруглый кусок ткани, драпирующийся в виде плаща), но самой распространённой одеждой была ту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663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EF97-0B61-412E-A3E1-C6668A028F2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43B1F4-6E0C-4620-AA18-A11C4A7FBE00}" type="datetime2">
              <a:rPr lang="en-US"/>
              <a:t>Wednesday, July 29, 20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640"/>
            <a:ext cx="4521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яжёлые скл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0500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тья конц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а сшито из шё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     расши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олот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436-8657-4068-A258-5B6D8A75657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B8D54-519A-4E7B-A857-E7289BC736E5}" type="datetime2">
              <a:rPr lang="en-US"/>
              <a:t>Wednesday, July 29, 20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052640"/>
            <a:ext cx="799128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анская м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97512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2781360"/>
            <a:ext cx="39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В середине 16 века исчезли многоцветье и мягкость линий – на смену им пришли строгость и тёмный колорит одеж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6872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F18-7EB7-4F71-9470-7897A39264B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1FA77-7218-4322-A7D9-C32EBD9B1444}" type="datetime2">
              <a:rPr lang="en-US"/>
              <a:t>Wednesday, July 29, 2026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166920" cy="53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95640" y="907920"/>
            <a:ext cx="446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скады лок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99736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о Франции Людовиком 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XIV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был введён закон носить при дворе высокие пышные па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A17-938E-47DF-AFD8-58AA3963009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394D6-03A6-45AF-9752-7B9A7DC2171C}" type="datetime2">
              <a:rPr lang="en-US"/>
              <a:t>Wednesday, July 29, 20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3528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436200">
            <a:off x="611280" y="1052280"/>
            <a:ext cx="3946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нты и бан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3232080"/>
            <a:ext cx="462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ода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VII 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ка во Франции отличалась обилием бантов,  оборок и л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1D5-FB71-42DF-83AD-BE616200BF7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08D2E-90E9-408E-80BE-8CB40C72533F}" type="datetime2">
              <a:rPr lang="en-US"/>
              <a:t>Wednesday, July 29, 20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47640" y="5229360"/>
            <a:ext cx="6372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ёлк и парч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35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Многие направления моды рождались во Франции: длинное платье манто, платья – полон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729-2DD7-4C68-8EAC-3DA0AC59349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8097F-9829-4357-9E88-FECB799EBBA2}" type="datetime2">
              <a:rPr lang="en-US"/>
              <a:t>Wednesday, July 29, 20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2014560" y="2961360"/>
            <a:ext cx="57610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удра и м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341360"/>
            <a:ext cx="28288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еке белая кожа в сочетании с нарумяненными щеками и подкрашенными губами считалась привлекательной чертой вн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866-A609-4AEF-A340-A85583F5813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4F617-8414-4524-AF2B-6F9E08BF99A2}" type="datetime2">
              <a:rPr lang="en-US"/>
              <a:t>Wednesday, July 29, 20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9.2592620849609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51:33Z</dcterms:created>
  <dc:creator>Романенко Юрий</dc:creator>
  <dc:description/>
  <dc:language>en-US</dc:language>
  <cp:lastModifiedBy>yuri</cp:lastModifiedBy>
  <dcterms:modified xsi:type="dcterms:W3CDTF">2004-05-20T09:35:03Z</dcterms:modified>
  <cp:revision>12</cp:revision>
  <dc:subject/>
  <dc:title>Слайд 1</dc:title>
</cp:coreProperties>
</file>