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CFA-2AE7-43DB-8AD8-2FD9545B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133-268B-446F-90F4-5BC2D4A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2E9-9E70-45FC-BB19-A2A6F13A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D19-DB85-44B7-A561-03A0B07C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9CD-138B-4D12-97B1-3CF7F650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8D6-4738-42B9-838D-328AA9B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DA8-2645-48CC-B199-E6A18E8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86AA-D8A4-4499-B377-BD1BA0D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847B-56FB-40FB-B197-0CB30A0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3ACD-F6A7-4B91-8B42-D42E201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F658-369F-4DDC-BDD8-BA78E6D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B73-6109-4C32-A23F-58BA77F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4E26-965A-443D-9A34-B16F54C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546-9D34-4AD0-A51A-AA7E8FF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E450-ABEB-4B6E-91EF-B255CC6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DD40-742C-478D-9D7D-3B50BF34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4FF-0F59-47BF-BAF1-F4A0327B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2E8-3173-44DC-A626-BD715DC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060-E33C-4BDC-BCCC-94E9DEA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3EC-7DA5-4CAE-A175-D6CC7E4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F9E-44C4-45F8-BB07-5F63B35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7D1-B28A-40B7-85CA-ACF574A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2B2-AEA6-41C4-B17E-4015E22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4F2-D7D1-4EE0-AABD-C939333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6D00-0F01-4E3A-8407-97513A5462DA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86FF-0A29-4D8C-8F53-709F2D154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4653-0836-4485-9E4E-03C728EDE348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95A-A168-40AE-851A-5FEAE4902B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745-A526-43D2-A6C4-A3699E52989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7D55E-CE52-4FCA-A3E4-3B3C28D205FF}" type="datetime2">
              <a:rPr lang="en-US"/>
              <a:t>Wednesday, July 29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764-2608-4209-8F4D-7C3C66BF5781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D0F3A-CD3A-4F47-9697-5ECAC5960593}" type="datetime2">
              <a:rPr lang="en-US"/>
              <a:t>Wednesday, July 29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ADC-D624-4564-A0FD-2FA42CC04F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5996F-2D91-4084-B3BB-D5F708D57878}" type="datetime2">
              <a:rPr lang="en-US"/>
              <a:t>Wednesday, July 29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4E6-21AF-4DFF-90D5-DF89C543DB0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3149A-45C4-4137-A632-A37D8896D89D}" type="datetime2">
              <a:rPr lang="en-US"/>
              <a:t>Wednesday, July 29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D5C-F252-43CC-B758-F68BAAE70E1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C7707-00E5-44B2-9887-D18738486DE5}" type="datetime2">
              <a:rPr lang="en-US"/>
              <a:t>Wednesday, July 29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E4D-E185-4F2A-914C-192C72178A0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9822C8-EA1D-43BC-904D-AA8297BBB20D}" type="datetime2">
              <a:rPr lang="en-US"/>
              <a:t>Wednesday, July 29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351-56E5-4C37-810C-57CA35E73D1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AC81B-E3B9-4DEF-99D0-29E381BDE2C1}" type="datetime2">
              <a:rPr lang="en-US"/>
              <a:t>Wednesday, July 29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625-ADEA-4BA6-9BBE-1DE2E29FCF7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41CBD-FC3E-45CF-8569-356AF7E6AF3D}" type="datetime2">
              <a:rPr lang="en-US"/>
              <a:t>Wednesday, July 29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2A0-B0CD-47EB-A4F1-E86365C7019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2FCD3-13C7-4C7D-9AE0-B22F2AA175D5}" type="datetime2">
              <a:rPr lang="en-US"/>
              <a:t>Wednesday, July 29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E02-1179-4572-B65F-C7431CECF68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833B6-545C-465D-8D60-B593D1FC7A4C}" type="datetime2">
              <a:rPr lang="en-US"/>
              <a:t>Wednesday, July 29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E50-7E15-4059-AF98-47936147D73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4C681-8D3D-4084-B47E-5B99A94CBFF2}" type="datetime2">
              <a:rPr lang="en-US"/>
              <a:t>Wednesday, July 29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259-FFC9-4389-8F40-2DA8E2655F6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45AB0-587F-4449-B4B8-534E8334ECE0}" type="datetime2">
              <a:rPr lang="en-US"/>
              <a:t>Wednesday, July 29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