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969-BA1F-4135-B66A-BF3763B0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44B-D55B-47E4-95ED-EE864E0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281-6BC6-4CE1-9817-0510AB6E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512-7FA7-4DCB-BB93-FF12F3F3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2D52-FD29-44B9-AD15-F527B6A0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C67-B8C4-4C5E-9A00-5DA9921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7305-6058-4171-BEA5-9D059EE9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E79D-1C08-4E38-BF56-A77AFCE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5B0E-E2EC-4503-AC3C-A9632821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3DB6-AD1A-4461-ACCB-30EFCEA5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E29D-5414-4CAC-B6D4-684CC34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E94-D60F-4797-8C31-6F2A078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E162-55D1-4966-85A9-0FE31E5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2094-D0CB-4C61-9FB3-AFC22CD5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A2AD-4B5A-4CCB-831F-727D95BC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C1B5-C5CA-482D-9475-F751865D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142-3AB6-4B2E-B3A0-B86B76E4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F79-1C52-4643-BC89-AB575398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B07-0259-40B3-8C53-2CEF5A9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252-BC74-40D4-87ED-45AE100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616-6393-4F0F-BA16-EC94945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7DC-F589-4721-8978-D10BB01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95C-6A5D-45AF-A2CB-B9F53F7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AB2-2A54-401C-8EAF-E661099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2E70-2EB6-4191-8F47-C6DFD02B9311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595-586D-4BCF-A7D5-FA5F4B534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F80-1956-4AFD-BB81-AF6997B097FB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AF8-836C-4D36-8E8E-B93EB9D06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A5F-F861-4ABA-8D0B-F5BC08DB0A4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9BBEA-0681-4B8B-9810-60D4456CC197}" type="datetime2">
              <a:rPr lang="en-US"/>
              <a:t>Thursday, July 30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F84-E013-4134-82AA-1E5AD62F441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44FB4-C9F5-47F7-A9FC-2392A3E97A5C}" type="datetime2">
              <a:rPr lang="en-US"/>
              <a:t>Thursday, July 30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1ED-AF26-471C-B894-31EE60DBDD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A4EEE-61EF-439A-91C4-B20B2C0520A9}" type="datetime2">
              <a:rPr lang="en-US"/>
              <a:t>Thursday, July 30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544-1374-4470-9904-67F45464D4E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B0906-D491-40BF-B018-A1893F27BDA8}" type="datetime2">
              <a:rPr lang="en-US"/>
              <a:t>Thursday, July 30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E99-4E55-4756-9B0E-44A7DA64449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FFFA5-E0EE-477D-A3B5-10F8C690B3F7}" type="datetime2">
              <a:rPr lang="en-US"/>
              <a:t>Thursday, July 30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BD0C-4D67-4BF0-A99C-4CF5AF33DC9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55A3E62-EF45-4F17-90E9-8D6D5FB8EDC0}" type="datetime2">
              <a:rPr lang="en-US"/>
              <a:t>Thursday, July 30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896-B977-449E-A30B-EED4374FE1F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6463E-93B3-4549-829E-A70A25D25988}" type="datetime2">
              <a:rPr lang="en-US"/>
              <a:t>Thursday, July 30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E0C-BF91-4A2A-9FF2-4C6DC971381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186C-53C9-4FA2-A950-0F48FE110918}" type="datetime2">
              <a:rPr lang="en-US"/>
              <a:t>Thursday, July 30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C9A-E4B1-4346-AB28-C83197777B0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CA22-9F2C-41EB-A53D-117FE0182D27}" type="datetime2">
              <a:rPr lang="en-US"/>
              <a:t>Thursday, July 30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1AF-FDEB-4E76-AE4F-6CDF9C4F4BE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0C894-A6D7-4363-AFA4-21707091F5B1}" type="datetime2">
              <a:rPr lang="en-US"/>
              <a:t>Thursday, July 30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432-B029-4A3C-87B3-5C619DC8040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EDCE3-C337-4599-93A1-D080D5BBD1AA}" type="datetime2">
              <a:rPr lang="en-US"/>
              <a:t>Thursday, July 30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89A-997B-4887-94A9-19C65735789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946A9-B0DE-44D8-9FE1-2794E0539C07}" type="datetime2">
              <a:rPr lang="en-US"/>
              <a:t>Thursday, July 30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