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0417C-F77D-48BC-9E56-C7A6AF056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7DCA0-5310-4B33-AA59-8483B7072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2CB4B-6C1C-4D62-A9D6-85B222298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91EC4-6111-42BD-BCBC-B9777777C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B424A-AF13-441B-9B82-BD289D017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551BC-AAE8-4E84-960D-C9722FC94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51B4A-DCB8-4675-90C9-D0E3E3E7E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86627-D659-4787-8879-0853CBE8B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84369-A6A5-4AF7-9DB6-349EFDBC3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15B83-A7C1-4BC2-9CF8-2EE67AFE5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F3F6D-CFA1-4B78-B9E0-15ADF4348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C4304-DD4A-4B98-B9DB-4C5AC6E57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54E89-B83B-4115-B15D-70C2323AE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E28D9-2575-41BF-9786-4CBA5167E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78CBD-9A2E-4967-9688-A63623A0B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02852-8C0D-4441-937E-D2EAF3DD7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669F6-2166-413F-9A5A-F9FAECFC7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229E2-F057-42FD-999D-8329DA169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8E89E-080F-4774-AE8A-CB67E8120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3D5C7-324C-4900-A5AD-3FEF4BDD0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C337E-1506-4864-891F-32065C062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37160-794B-41B7-B2C2-240299102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A1BE6-77F4-4E4E-A36F-E14B8773B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27B76-D913-4FBF-A383-6F5C972CC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68FC4-EFDD-4948-B649-F3C9FAB67966}" type="datetime2">
              <a:rPr b="0" lang="en-US" sz="1400" spc="-1" strike="noStrike">
                <a:solidFill>
                  <a:srgbClr val="ffffff"/>
                </a:solidFill>
                <a:latin typeface="Arial"/>
              </a:rPr>
              <a:t>Tuesday, July 28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2395A-FC99-4AC7-84FB-2C76F7203CE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662E3-AF6F-4037-B0F1-74EEB3E34CF2}" type="datetime2">
              <a:rPr b="0" lang="en-US" sz="1400" spc="-1" strike="noStrike">
                <a:solidFill>
                  <a:srgbClr val="ffffff"/>
                </a:solidFill>
                <a:latin typeface="Arial"/>
              </a:rPr>
              <a:t>Tuesday, July 28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410BE-F289-416D-8204-F49DE38778D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686240" y="692280"/>
            <a:ext cx="464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            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Ростовский институт сервис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550520" y="1268280"/>
            <a:ext cx="5805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урсовая работа по информатик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 rot="21465600">
            <a:off x="1619280" y="3141360"/>
            <a:ext cx="5761080" cy="162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cc99"/>
                  </a:solidFill>
                  <a:miter/>
                </a:ln>
                <a:solidFill>
                  <a:srgbClr val="ff0000"/>
                </a:solidFill>
                <a:latin typeface="Impact"/>
              </a:rPr>
              <a:t>История костюма древности</a:t>
            </a:r>
            <a:endParaRPr b="0" lang="en-US" sz="1800" spc="1" strike="noStrike">
              <a:ln w="9360">
                <a:solidFill>
                  <a:srgbClr val="ffcc99"/>
                </a:solidFill>
                <a:miter/>
              </a:ln>
              <a:solidFill>
                <a:srgbClr val="ff0000"/>
              </a:solidFill>
              <a:latin typeface="Impact"/>
              <a:ea typeface="Impact"/>
            </a:endParaRPr>
          </a:p>
        </p:txBody>
      </p:sp>
      <p:sp>
        <p:nvSpPr>
          <p:cNvPr id="85" name=""/>
          <p:cNvSpPr/>
          <p:nvPr/>
        </p:nvSpPr>
        <p:spPr>
          <a:xfrm>
            <a:off x="1620720" y="5445000"/>
            <a:ext cx="371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ыполнил студент группы  №99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413800" y="5950080"/>
            <a:ext cx="318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ИВАНОВ ИВАН ИВАНОВИ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6B6F4-1999-45CB-B46D-3AC8A8F8935D}" type="slidenum">
              <a:t>1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DD843C-86C1-4B39-86B9-A93A51D8A5DD}" type="datetime2">
              <a:rPr lang="en-US"/>
              <a:t>Tuesday, July 28, 2026</a:t>
            </a:fld>
          </a:p>
        </p:txBody>
      </p:sp>
    </p:spTree>
  </p:cSld>
  <p:transition advTm="0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600"/>
                            </p:stCondLst>
                            <p:childTnLst>
                              <p:par>
                                <p:cTn id="45" nodeType="afterEffect" fill="hold" presetClass="exit" presetID="1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plus(in)" transition="out">
                                      <p:cBhvr additive="repl">
                                        <p:cTn id="46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49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52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xit" presetID="1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plus(in)" transition="out">
                                      <p:cBhvr additive="repl">
                                        <p:cTn id="55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xit" presetID="1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animEffect filter="plus(in)" transition="out">
                                      <p:cBhvr additive="repl">
                                        <p:cTn id="58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 rot="415800">
            <a:off x="5076360" y="1052640"/>
            <a:ext cx="2568600" cy="496728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 txBox="1"/>
          <p:nvPr/>
        </p:nvSpPr>
        <p:spPr>
          <a:xfrm>
            <a:off x="1116000" y="1341360"/>
            <a:ext cx="273528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61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ffff00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Секркты силуэта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solidFill>
                <a:srgbClr val="ffff00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39640" y="2924280"/>
            <a:ext cx="45579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Monotype Corsiva"/>
              </a:rPr>
              <a:t>В конце 1-го десятилетия </a:t>
            </a:r>
            <a:r>
              <a:rPr b="0" i="1" lang="en-US" sz="2800" spc="-1" strike="noStrike">
                <a:solidFill>
                  <a:srgbClr val="ffffff"/>
                </a:solidFill>
                <a:latin typeface="Monotype Corsiva"/>
              </a:rPr>
              <a:t>XX</a:t>
            </a:r>
            <a:r>
              <a:rPr b="0" i="1" lang="ru-RU" sz="2800" spc="-1" strike="noStrike">
                <a:solidFill>
                  <a:srgbClr val="ffffff"/>
                </a:solidFill>
                <a:latin typeface="Monotype Corsiva"/>
              </a:rPr>
              <a:t> века в моду вошёл корсет, он помогал корректировать фигуру в соответствии с требованиями мод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DF046-F246-4109-B708-1C4220D8DB7C}" type="slidenum">
              <a:t>10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89258E-94E4-46AA-BD05-352EF655F666}" type="datetime2">
              <a:rPr lang="en-US"/>
              <a:t>Tuesday, July 28, 2026</a:t>
            </a:fld>
          </a:p>
        </p:txBody>
      </p:sp>
    </p:spTree>
  </p:cSld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51">
                                  <p:stCondLst>
                                    <p:cond delay="390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" dur="77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34" dur="770" fill="hold"/>
                                        <p:tgtEl>
                                          <p:spTgt spid="11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36" dur="77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38" dur="77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140.776702880859"/>
                                  </p:iterate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42" dur="4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46" fill="hold">
                                          <p:stCondLst>
                                            <p:cond delay="46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4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6" autoRev="1" fill="hold">
                                          <p:stCondLst>
                                            <p:cond delay="46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4" fill="hold">
                                          <p:stCondLst>
                                            <p:cond delay="86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52">
                                  <p:stCondLst>
                                    <p:cond delay="640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51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xit" presetID="50">
                                  <p:stCondLst>
                                    <p:cond delay="13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53" dur="23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23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55" dur="23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22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7" nodeType="withEffect" fill="hold" presetClass="exit" presetID="37">
                                  <p:stCondLst>
                                    <p:cond delay="15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8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0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3" nodeType="withEffect" fill="hold" presetClass="exit" presetID="41">
                                  <p:stCondLst>
                                    <p:cond delay="151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464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1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1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68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619280" y="83664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a4"/>
                </a:solidFill>
                <a:latin typeface="Arial"/>
              </a:rPr>
              <a:t>Середина </a:t>
            </a:r>
            <a:r>
              <a:rPr b="0" i="1" lang="en-US" sz="4400" spc="-1" strike="noStrike">
                <a:solidFill>
                  <a:srgbClr val="0000a4"/>
                </a:solidFill>
                <a:latin typeface="Arial"/>
              </a:rPr>
              <a:t>XIX </a:t>
            </a:r>
            <a:r>
              <a:rPr b="0" i="1" lang="ru-RU" sz="4400" spc="-1" strike="noStrike">
                <a:solidFill>
                  <a:srgbClr val="0000a4"/>
                </a:solidFill>
                <a:latin typeface="Arial"/>
              </a:rPr>
              <a:t>века.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468360" y="476280"/>
            <a:ext cx="2232000" cy="604836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3629160" y="2395440"/>
            <a:ext cx="502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Строгий мужской костюм богатого купц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348000" y="3213000"/>
            <a:ext cx="4969080" cy="2349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cc00"/>
                  </a:solidFill>
                  <a:miter/>
                </a:ln>
                <a:solidFill>
                  <a:srgbClr val="0000a4"/>
                </a:solidFill>
                <a:latin typeface="Impact"/>
              </a:rPr>
              <a:t>В моде были бакенбарды</a:t>
            </a:r>
            <a:endParaRPr b="0" lang="en-US" sz="1800" spc="1" strike="noStrike">
              <a:ln w="9360">
                <a:solidFill>
                  <a:srgbClr val="ffcc00"/>
                </a:solidFill>
                <a:miter/>
              </a:ln>
              <a:solidFill>
                <a:srgbClr val="0000a4"/>
              </a:solidFill>
              <a:latin typeface="Impact"/>
              <a:ea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E4629-CE89-44E6-ACD3-5F538D64FAA9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52ABF8-A224-4561-97B7-27CEF0347BFC}" type="datetime2">
              <a:rPr lang="en-US"/>
              <a:t>Tuesday, July 28, 2026</a:t>
            </a:fld>
          </a:p>
        </p:txBody>
      </p:sp>
    </p:spTree>
  </p:cSld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8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9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9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0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0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15" dur="10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0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0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0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23" dur="10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10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25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xit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530" dur="5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1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1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3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539" dur="5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681480" y="1844640"/>
            <a:ext cx="7508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Выполнил студент группы №999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271960" y="4365720"/>
            <a:ext cx="415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роверил: Иванов И.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98520" y="3284640"/>
            <a:ext cx="292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Иванов и.и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404720" y="2492280"/>
            <a:ext cx="5732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г. 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Ростов-на-Дону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064D8-CF18-4F7B-9085-1BBE321BBB09}" type="slidenum">
              <a:t>1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E15E0E-7DF2-45E0-9F78-32CDC6066F6E}" type="datetime2">
              <a:rPr lang="en-US"/>
              <a:t>Tuesday, July 28, 2026</a:t>
            </a:fld>
          </a:p>
        </p:txBody>
      </p:sp>
    </p:spTree>
  </p:cSld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198.800010681152"/>
                                  </p:iterate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48" dur="31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319" fill="hold">
                                          <p:stCondLst>
                                            <p:cond delay="31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31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109" autoRev="1" fill="hold">
                                          <p:stCondLst>
                                            <p:cond delay="31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95" fill="hold">
                                          <p:stCondLst>
                                            <p:cond delay="605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38">
                                  <p:stCondLst>
                                    <p:cond delay="410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5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28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2" dur="15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15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4" nodeType="withEffect" fill="hold" presetClass="exit" presetID="41">
                                  <p:stCondLst>
                                    <p:cond delay="157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565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1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1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69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1" nodeType="withEffect" fill="hold" presetClass="exit" presetID="41">
                                  <p:stCondLst>
                                    <p:cond delay="18000"/>
                                  </p:stCondLst>
                                  <p:iterate type="lt">
                                    <p:tmAbs val="9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572" dur="9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9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9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1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9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1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76" dur="9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8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25">
                                  <p:stCondLst>
                                    <p:cond delay="191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0" dur="1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1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16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32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1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1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16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7" dur="32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8" nodeType="withEffect" fill="hold" presetClass="exit" presetID="38">
                                  <p:stCondLst>
                                    <p:cond delay="2160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5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4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468360" y="836640"/>
            <a:ext cx="3095640" cy="525636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 txBox="1"/>
          <p:nvPr/>
        </p:nvSpPr>
        <p:spPr>
          <a:xfrm>
            <a:off x="4211640" y="620640"/>
            <a:ext cx="431964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Древний египе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84720" y="2276640"/>
            <a:ext cx="37638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Comic Sans MS"/>
              </a:rPr>
              <a:t>Одеянием женщине служила рубаха-передник оставляющая открытой грудь, плотно прилегающая к телу и расклешенная к низ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A241B-DD52-4859-A6D4-31F504ABE343}" type="slidenum">
              <a:t>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B03E5C-FEEA-4DDF-BA30-79E5703F997A}" type="datetime2">
              <a:rPr lang="en-US"/>
              <a:t>Tuesday, July 28, 2026</a:t>
            </a:fld>
          </a:p>
        </p:txBody>
      </p:sp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xit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90" dur="5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1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1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6" dur="5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 rot="20455800">
            <a:off x="4390920" y="1125000"/>
            <a:ext cx="4753080" cy="83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Роскошное одеяни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  <p:sp>
        <p:nvSpPr>
          <p:cNvPr id="91" name=""/>
          <p:cNvSpPr/>
          <p:nvPr/>
        </p:nvSpPr>
        <p:spPr>
          <a:xfrm>
            <a:off x="3454560" y="3068640"/>
            <a:ext cx="56894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Основной деталью костюма древних римлян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обычно считают тогу (Прямоугольный или полукруглый кусок ткани, драпирующийся в виде плаща), но самой распространённой одеждой была туник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250920" y="549360"/>
            <a:ext cx="2663640" cy="5761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A3660-9BC3-4787-A1B1-ACEDE5CCCDE2}" type="slidenum">
              <a:t>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B4C89E66-FADD-4F7C-A3A2-2C29292EFC0C}" type="datetime2">
              <a:rPr lang="en-US"/>
              <a:t>Tuesday, July 28, 2026</a:t>
            </a:fld>
          </a:p>
        </p:txBody>
      </p:sp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3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xit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47" dur="5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1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1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395280" y="836640"/>
            <a:ext cx="4521240" cy="20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Тяжёлые складк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94" name=""/>
          <p:cNvSpPr/>
          <p:nvPr/>
        </p:nvSpPr>
        <p:spPr>
          <a:xfrm>
            <a:off x="5292720" y="2205000"/>
            <a:ext cx="31669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Платья конца 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XV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века сшито из шёл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и      расшито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золотыми нитям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468360" y="3141720"/>
            <a:ext cx="4032360" cy="3024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EFB04-8815-459F-8876-1D648706EAF6}" type="slidenum">
              <a:t>4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D1AD3D-41D7-44EB-B33A-EC60B3F98695}" type="datetime2">
              <a:rPr lang="en-US"/>
              <a:t>Tuesday, July 28, 2026</a:t>
            </a:fld>
          </a:p>
        </p:txBody>
      </p:sp>
    </p:spTree>
  </p:cSld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78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xit" presetID="41">
                                  <p:stCondLst>
                                    <p:cond delay="1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83" dur="5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1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1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xit" presetID="5" presetSubtype="10">
                                  <p:stCondLst>
                                    <p:cond delay="100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9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468360" y="1052640"/>
            <a:ext cx="7991280" cy="85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спанская мод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7" name=""/>
          <p:cNvSpPr/>
          <p:nvPr/>
        </p:nvSpPr>
        <p:spPr>
          <a:xfrm>
            <a:off x="3975120" y="2224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148360" y="2781360"/>
            <a:ext cx="39956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Courier New"/>
              </a:rPr>
              <a:t>В середине 16 века исчезли многоцветье и мягкость линий – на смену им пришли строгость и тёмный колорит одежд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395280" y="2421000"/>
            <a:ext cx="4068720" cy="3744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0D2BF-0247-41D4-B226-6AAA3D594A4A}" type="slidenum">
              <a:t>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7D81FC-8ACA-4A48-8D58-93098C5B0A14}" type="datetime2">
              <a:rPr lang="en-US"/>
              <a:t>Tuesday, July 28, 2026</a:t>
            </a:fld>
          </a:p>
        </p:txBody>
      </p:sp>
    </p:spTree>
  </p:cSld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indefinite"/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8" dur="10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40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250920" y="836640"/>
            <a:ext cx="3166920" cy="537048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 txBox="1"/>
          <p:nvPr/>
        </p:nvSpPr>
        <p:spPr>
          <a:xfrm>
            <a:off x="3995640" y="907920"/>
            <a:ext cx="446400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113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аскады локоно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995640" y="2997360"/>
            <a:ext cx="3961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Monotype Corsiva"/>
              </a:rPr>
              <a:t>Во Франции Людовиком </a:t>
            </a:r>
            <a:r>
              <a:rPr b="0" i="1" lang="en-US" sz="3200" spc="-1" strike="noStrike">
                <a:solidFill>
                  <a:srgbClr val="ffffff"/>
                </a:solidFill>
                <a:latin typeface="Monotype Corsiva"/>
              </a:rPr>
              <a:t>XIV </a:t>
            </a:r>
            <a:r>
              <a:rPr b="0" i="1" lang="ru-RU" sz="3200" spc="-1" strike="noStrike">
                <a:solidFill>
                  <a:srgbClr val="ffffff"/>
                </a:solidFill>
                <a:latin typeface="Monotype Corsiva"/>
              </a:rPr>
              <a:t>был введён закон носить при дворе высокие пышные парик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9ADD6-0710-4621-875A-08DD58336ABF}" type="slidenum">
              <a:t>6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824B31-2314-42CD-9C09-9A9A975E8BE7}" type="datetime2">
              <a:rPr lang="en-US"/>
              <a:t>Tuesday, July 28, 2026</a:t>
            </a:fld>
          </a:p>
        </p:txBody>
      </p:sp>
    </p:spTree>
  </p:cSld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8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269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xit" presetID="5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74" dur="5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7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3" dur="5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8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859280" y="1197000"/>
            <a:ext cx="3635280" cy="46800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 txBox="1"/>
          <p:nvPr/>
        </p:nvSpPr>
        <p:spPr>
          <a:xfrm rot="21436200">
            <a:off x="611280" y="1052280"/>
            <a:ext cx="394632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203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Ленты и банты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76200" y="3232080"/>
            <a:ext cx="4627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Monotype Corsiva"/>
              </a:rPr>
              <a:t>Мода </a:t>
            </a:r>
            <a:r>
              <a:rPr b="0" i="1" lang="en-US" sz="2800" spc="-1" strike="noStrike">
                <a:solidFill>
                  <a:srgbClr val="ffffff"/>
                </a:solidFill>
                <a:latin typeface="Monotype Corsiva"/>
              </a:rPr>
              <a:t>XVII </a:t>
            </a:r>
            <a:r>
              <a:rPr b="0" i="1" lang="ru-RU" sz="2800" spc="-1" strike="noStrike">
                <a:solidFill>
                  <a:srgbClr val="ffffff"/>
                </a:solidFill>
                <a:latin typeface="Monotype Corsiva"/>
              </a:rPr>
              <a:t>века во Франции отличалась обилием бантов,  оборок и лент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062AB-5BE5-428E-A643-AEED4BF6DFE4}" type="slidenum">
              <a:t>7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B9C094-FDBD-4C09-947A-BF1B0CF36781}" type="datetime2">
              <a:rPr lang="en-US"/>
              <a:t>Tuesday, July 28, 2026</a:t>
            </a:fld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77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4" dur="770" fill="hold"/>
                                        <p:tgtEl>
                                          <p:spTgt spid="10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96" dur="77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98" dur="77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xit" presetID="54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7" dur="5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2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xit" presetID="54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4" dur="5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2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0" nodeType="withEffect" fill="hold" presetClass="exit" presetID="54">
                                  <p:stCondLst>
                                    <p:cond delay="2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331" dur="5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3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3851280" y="476280"/>
            <a:ext cx="4176720" cy="431964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 txBox="1"/>
          <p:nvPr/>
        </p:nvSpPr>
        <p:spPr>
          <a:xfrm>
            <a:off x="1547640" y="5229360"/>
            <a:ext cx="6372360" cy="123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Шёлк и парча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0920" y="1197000"/>
            <a:ext cx="35496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Monotype Corsiva"/>
              </a:rPr>
              <a:t>Многие направления моды рождались во Франции: длинное платье манто, платья – полонез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C4D09-7F80-4EDC-97EE-646D3E48030E}" type="slidenum">
              <a:t>8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6C10C7-DDB2-4720-BC61-55354F349F18}" type="datetime2">
              <a:rPr lang="en-US"/>
              <a:t>Tuesday, July 28, 2026</a:t>
            </a:fld>
          </a:p>
        </p:txBody>
      </p:sp>
    </p:spTree>
  </p:cSld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3" dur="10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5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0" dur="10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xit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378" dur="5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1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1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611280" y="907920"/>
            <a:ext cx="3240000" cy="51134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 rot="5400000">
            <a:off x="2014560" y="2961360"/>
            <a:ext cx="5761080" cy="5050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Arial"/>
              </a:rPr>
              <a:t>Пудра и мушк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Arial"/>
              <a:ea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796000" y="1341360"/>
            <a:ext cx="2828880" cy="51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ffffff"/>
                </a:solidFill>
                <a:latin typeface="Monotype Corsiva"/>
              </a:rPr>
              <a:t>В </a:t>
            </a:r>
            <a:r>
              <a:rPr b="0" i="1" lang="en-US" sz="3000" spc="-1" strike="noStrike">
                <a:solidFill>
                  <a:srgbClr val="ffffff"/>
                </a:solidFill>
                <a:latin typeface="Monotype Corsiva"/>
              </a:rPr>
              <a:t>XVIII </a:t>
            </a:r>
            <a:r>
              <a:rPr b="0" i="1" lang="ru-RU" sz="3000" spc="-1" strike="noStrike">
                <a:solidFill>
                  <a:srgbClr val="ffffff"/>
                </a:solidFill>
                <a:latin typeface="Monotype Corsiva"/>
              </a:rPr>
              <a:t>веке белая кожа в сочетании с нарумяненными щеками и подкрашенными губами считалась привлекательной чертой внешности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C9C3A-F62F-4A24-A657-427EE09CB2D7}" type="slidenum">
              <a:t>9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6CFBA8-DD1A-4488-B0EF-B61D368C55F2}" type="datetime2">
              <a:rPr lang="en-US"/>
              <a:t>Tuesday, July 28, 2026</a:t>
            </a:fld>
          </a:p>
        </p:txBody>
      </p:sp>
    </p:spTree>
  </p:cSld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14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14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22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22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22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9" dur="22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9.2592620849609"/>
                                  </p:iterate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4" dur="8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5" dur="8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6" dur="8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0" dur="5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416" dur="8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7" dur="8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8" dur="8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3" dur="10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5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8T08:51:33Z</dcterms:created>
  <dc:creator>Романенко Юрий</dc:creator>
  <dc:description/>
  <dc:language>en-US</dc:language>
  <cp:lastModifiedBy>yuri</cp:lastModifiedBy>
  <dcterms:modified xsi:type="dcterms:W3CDTF">2004-05-20T09:35:03Z</dcterms:modified>
  <cp:revision>12</cp:revision>
  <dc:subject/>
  <dc:title>Слайд 1</dc:title>
</cp:coreProperties>
</file>