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5E7-148F-4521-8F33-7C8B76B6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D37-ABC0-43D4-875F-A747E993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EC2-F5EF-4BFA-A862-4BEC991C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618-FDCA-41FD-83C4-097D4753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31A2-5C8B-4622-B58A-D90FB912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9B33-529C-438D-83B8-EE155BC7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19C9-2EED-4273-9C88-43542C32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4F10-5AC8-4388-8360-7C0734BA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8235-6D5D-4612-AD37-741971BA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FB1B-AE84-4675-B5F4-9063D1F6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60AF-E9D2-47A4-BD39-B253A7A3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EC8-28CD-4BCA-AF33-325FF853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4B94-2C06-4384-BDF8-824C0BC1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0634-9744-4844-B429-17D5340E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C4B-D7E4-4E7F-845F-E91D302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7272-EDAB-4F7B-87E3-659FF061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AB4-596F-4F3F-BE70-4F5D5B6C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181-53DF-45AD-9F97-38823AD9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9FF-EAC0-4193-9C74-775958CF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D17-89A3-4484-8FCA-5C9B4EE8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6A8-52C2-4B95-A147-90367A9C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7AC-D01F-43A1-9D2A-13C7B0B3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8B2-81A0-44CC-857E-0A9F502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9EB-00AA-48B6-8E23-03EFE76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ED7B-7AD7-4851-B3C9-72A4F365565E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8B77-5EF4-41B5-93AF-7B1D5E14A0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B73C-A498-4B88-871B-A50885FC4045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24F1-EE76-4D97-8658-6823F5B11A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6240" y="69228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товский институт серв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0520" y="126828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работа по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21465600">
            <a:off x="1619280" y="3141360"/>
            <a:ext cx="5761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стория костюма древности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5445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студент группы  №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3800" y="59500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10F-A7F3-4DCF-9D13-E3817B936E2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648D0-E904-4C65-B14D-3DCDD387FEC0}" type="datetime2">
              <a:rPr lang="en-US"/>
              <a:t>Thursday, July 30, 2026</a:t>
            </a:fld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"/>
                            </p:stCondLst>
                            <p:childTnLst>
                              <p:par>
                                <p:cTn id="4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15800">
            <a:off x="5076360" y="1052640"/>
            <a:ext cx="256860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1341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кркты силуэ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45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конце 1-го десятилетия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X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 века в моду вошёл корсет, он помогал корректировать фигуру в соответствии с требованиями м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548-20F4-44A8-8B55-2A231B12B78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9654A-9BA7-47FA-8E63-DE99B7C21016}" type="datetime2">
              <a:rPr lang="en-US"/>
              <a:t>Thursday, July 30, 20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40.776702880859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1">
                                  <p:stCondLst>
                                    <p:cond delay="15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Середина </a:t>
            </a: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XIX </a:t>
            </a: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29160" y="239544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гий мужской костюм богатого куп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3213000"/>
            <a:ext cx="496908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a4"/>
                </a:solidFill>
                <a:latin typeface="Impact"/>
              </a:rPr>
              <a:t>В моде были бакенбарды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a4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5B3-D4FC-4EDB-BC35-2456CC52104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C5654-A926-4602-9B81-336BA02CB437}" type="datetime2">
              <a:rPr lang="en-US"/>
              <a:t>Thursday, July 30, 20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1480" y="1844640"/>
            <a:ext cx="750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полнил студент группы №99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1960" y="4365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л: Иванов И.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8520" y="328464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ванов и.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24922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остов-на-Д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289-4032-4A09-9E28-68C0863905FD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F387D-5C44-41EB-982A-6D54B7017EC3}" type="datetime2">
              <a:rPr lang="en-US"/>
              <a:t>Thursday, July 30, 2026</a:t>
            </a:fld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98.80001068115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19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9" autoRev="1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5" fill="hold">
                                          <p:stCondLst>
                                            <p:cond delay="60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41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1">
                                  <p:stCondLst>
                                    <p:cond delay="1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19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8">
                                  <p:stCondLst>
                                    <p:cond delay="2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09564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11640" y="62064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2276640"/>
            <a:ext cx="376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Одеянием женщине служила рубаха-передник оставляющая открытой грудь, плотно прилегающая к телу и расклешенная к 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668-4FC1-4C81-A8D0-07571F3DFAB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1F29C-A126-496D-8154-22EF0AF36E8A}" type="datetime2">
              <a:rPr lang="en-US"/>
              <a:t>Thursday, July 30, 20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20455800">
            <a:off x="4390920" y="1125000"/>
            <a:ext cx="4753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кошное одея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454560" y="3068640"/>
            <a:ext cx="56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ой деталью костюма древних рим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ычно считают тогу (Прямоугольный или полукруглый кусок ткани, драпирующийся в виде плаща), но самой распространённой одеждой была ту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663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991E-CD1F-4807-B0B3-FEEC9CE6CAD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154844C-14E1-485F-8ED8-DCA693F3D1E9}" type="datetime2">
              <a:rPr lang="en-US"/>
              <a:t>Thursday, July 30, 20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640"/>
            <a:ext cx="4521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яжёлые скл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0500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тья конц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а сшито из шё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     расши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олот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912-B42C-4EF6-8A40-76241C7E900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72673-DB2F-4E32-9EB6-B07B2A9A36CE}" type="datetime2">
              <a:rPr lang="en-US"/>
              <a:t>Thursday, July 30, 20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052640"/>
            <a:ext cx="799128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анская м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97512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2781360"/>
            <a:ext cx="39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В середине 16 века исчезли многоцветье и мягкость линий – на смену им пришли строгость и тёмный колорит одеж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6872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86E-6000-4B69-8BFD-A975BD73E67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5549D-8D6C-44D2-902E-0BDB1140758F}" type="datetime2">
              <a:rPr lang="en-US"/>
              <a:t>Thursday, July 30, 2026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166920" cy="53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95640" y="907920"/>
            <a:ext cx="446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скады лок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99736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о Франции Людовиком 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XIV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был введён закон носить при дворе высокие пышные па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655-7C3A-41F7-B5C0-C9C0BD5C373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5E2E6-763E-432F-8DEB-ABBE410D6D0F}" type="datetime2">
              <a:rPr lang="en-US"/>
              <a:t>Thursday, July 30, 20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3528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436200">
            <a:off x="611280" y="1052280"/>
            <a:ext cx="3946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нты и бан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3232080"/>
            <a:ext cx="462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ода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VII 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ка во Франции отличалась обилием бантов,  оборок и л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77B-9EAA-4F10-855E-1ABD2B31ED0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0F10D-3E77-4CC4-8810-5EB624AA99C3}" type="datetime2">
              <a:rPr lang="en-US"/>
              <a:t>Thursday, July 30, 20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47640" y="5229360"/>
            <a:ext cx="6372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ёлк и парч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35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Многие направления моды рождались во Франции: длинное платье манто, платья – полон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9BB-CFBE-45B3-93CC-901903F6365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61A5D-5129-4F97-9780-372222351BB0}" type="datetime2">
              <a:rPr lang="en-US"/>
              <a:t>Thursday, July 30, 20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2014560" y="2961360"/>
            <a:ext cx="57610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удра и м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341360"/>
            <a:ext cx="28288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еке белая кожа в сочетании с нарумяненными щеками и подкрашенными губами считалась привлекательной чертой вн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7CF-9C5D-41B6-8435-53B32E0EC13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AECF4-593F-4A4A-8DED-A356F664A084}" type="datetime2">
              <a:rPr lang="en-US"/>
              <a:t>Thursday, July 30, 20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9.2592620849609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51:33Z</dcterms:created>
  <dc:creator>Романенко Юрий</dc:creator>
  <dc:description/>
  <dc:language>en-US</dc:language>
  <cp:lastModifiedBy>yuri</cp:lastModifiedBy>
  <dcterms:modified xsi:type="dcterms:W3CDTF">2004-05-20T09:35:03Z</dcterms:modified>
  <cp:revision>12</cp:revision>
  <dc:subject/>
  <dc:title>Слайд 1</dc:title>
</cp:coreProperties>
</file>