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755-4BF2-475F-9994-15668E3E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75A-232B-4869-8B42-B368808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1AA-59BD-4A22-A37E-213D60DF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82A-5CAE-40E0-8D05-1F2150B5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09A-24E3-48E7-9CEF-9FB325AA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9FB-F5A6-406D-8782-2B6E779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2CC-4CA0-48CE-A359-0215DD2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A689-D3A8-4956-9BB9-717F3246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341D-100F-4C33-B85E-EDBBF1A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5C5-BCC3-45E6-B777-33F8DA0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9783-DFC2-401C-BAF1-D8F0B4C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FC1-8CF5-4FA0-900B-B0BED84C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0B97-4A31-4731-85A7-AF26645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FE12-8BD9-4CA9-BCCF-5799A7B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B29E-1454-4418-A7F2-54D108F7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337-05E9-466B-BAFC-A3E84B1E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3178-D8DD-41B8-A43E-41C467F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021-346B-458E-BB72-2A0CDC2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A83-75E9-462B-BE60-48D1CA97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D41-68F9-484D-9700-4BBD29A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0FE-2698-490B-9B6E-1F0D9131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9FF-59C6-4A9F-B02C-8CE161A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401-F548-4E90-A412-3E47EA8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EE4-99DA-4CB6-AEB4-B6786AD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179-8BF1-4390-8A47-D8FF4C4CAF22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443-152F-4502-8F7D-6F484DFCA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BCD-3692-417F-B48E-45AFD180DEDE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B7F-5A45-4113-A503-5420EFC2A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A85-28F6-4E86-81E5-C9A3CA8B4E10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5803A-6B92-4C2E-8F79-FB3F1747C225}" type="datetime2">
              <a:rPr lang="en-US"/>
              <a:t>Thursday, July 30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F75-5ABF-4520-B867-C60B381D231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23814-C0A1-4C3D-A74D-4DFC05D7286D}" type="datetime2">
              <a:rPr lang="en-US"/>
              <a:t>Thursday, July 30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B4B-5977-436D-A635-924819EA83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F9153-5F2E-4C3B-B384-BADA213A53A0}" type="datetime2">
              <a:rPr lang="en-US"/>
              <a:t>Thursday, July 30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2C2-66AF-4768-909A-0DDD4F9B565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02CB-7891-4781-A203-A16CB5B800D7}" type="datetime2">
              <a:rPr lang="en-US"/>
              <a:t>Thursday, July 30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D00-FCF8-46E8-97FF-87856EA4632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E09EA-0387-4923-B20D-B1100F7A273A}" type="datetime2">
              <a:rPr lang="en-US"/>
              <a:t>Thursday, July 30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1D56-D4D6-4609-8FB3-EC8945B4A2E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8F4C21-9163-4856-8ED4-EF26F3185EE1}" type="datetime2">
              <a:rPr lang="en-US"/>
              <a:t>Thursday, July 30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B87-1246-41B7-AB61-6BA282D1EE9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9BF00-6210-44B2-BE1B-9D15E0531706}" type="datetime2">
              <a:rPr lang="en-US"/>
              <a:t>Thursday, July 30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DB7-F95D-4F11-867D-82C2259B729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D03CE-8674-4976-B957-3215F3C66B8E}" type="datetime2">
              <a:rPr lang="en-US"/>
              <a:t>Thursday, July 30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B7C-4E6A-4469-A35F-ED164683CEB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2F356-DE1C-4D23-A572-60ADCB0CEC83}" type="datetime2">
              <a:rPr lang="en-US"/>
              <a:t>Thursday, July 30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AE2-059E-475E-A416-A189C776E38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03DE-F0E2-43C9-BB64-8EDDE7B77B98}" type="datetime2">
              <a:rPr lang="en-US"/>
              <a:t>Thursday, July 30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98D-A827-4817-BE46-CC032564F65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608AB-6966-4438-99DD-95DC13B90747}" type="datetime2">
              <a:rPr lang="en-US"/>
              <a:t>Thursday, July 30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1B8-1E81-462D-9DE4-96CFFFF1DF9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778F-C55B-48FA-B0B1-87CB39CEBF6C}" type="datetime2">
              <a:rPr lang="en-US"/>
              <a:t>Thursday, July 30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