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592-584E-4D33-B220-FBB516F1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B83-F7F6-4E23-81BB-EEE2606F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78F-E4C1-4AD6-81D0-0E904C5C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9D1-E606-44E8-8BBF-5C1B38B5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C466-7DC8-48B6-9831-1EA07BBA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E3A-01BA-4660-AA41-75A57DCE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075-4CC2-48D3-BE45-D534EE50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72D-7B87-477C-A582-C9A033E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B612-826D-4F52-915B-589B8D1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7E0D-A714-4ABD-A091-42CE03D1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2640-479D-47A9-94F6-64F6020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145-294B-48A9-932C-9923924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12F-8FB8-4F8C-B8B0-31E223E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E73-D916-4A5E-B998-5BB96CB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E397-00D4-46CA-B33C-517B057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B6F-CCD7-4100-A43A-5DC13912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679-95AA-4F05-AE42-9C297393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BD1-05A4-4C04-A8F7-EA5913C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68F-309C-4A44-8E1A-9398007D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422-E7EA-4CF6-8356-2CCBA797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F89-7E3F-414B-B82A-040C8D43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AE6-AEE5-4E5E-B6F1-9661C2E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FB4-BC0C-45A2-987F-2997B16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933-EDDD-4DCA-923B-CF90A2A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70B-335E-4684-84D7-32FEA8BC0FDF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46F-8A50-4A01-9EBC-87A8A1813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CB60-6D4D-4CE7-8A8A-C1775D1C3D97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C88-DBE2-4A51-AC8F-211E399A9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41D-4F37-4281-9C80-CC9FF788FBF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C48C2-9CAC-4BF8-BC15-75560149ADCA}" type="datetime2">
              <a:rPr lang="en-US"/>
              <a:t>Thursday, July 30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E2A-0CE5-4075-B8DD-86837807240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C551B-0DCC-45A2-8739-005B923DE38E}" type="datetime2">
              <a:rPr lang="en-US"/>
              <a:t>Thursday, July 30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304-BD51-4433-8AF0-57770E84A0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241B6-AF76-4AB4-8AEF-CA95D13CD806}" type="datetime2">
              <a:rPr lang="en-US"/>
              <a:t>Thursday, July 30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937-C0BC-404A-BADF-E617FA2474F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0242D-C17C-4C98-A59C-F2A66A41186D}" type="datetime2">
              <a:rPr lang="en-US"/>
              <a:t>Thursday, July 30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77C-37F6-4BEB-A386-91F262A0128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F3F9D-2E42-43F3-8C6E-F9BC2AA1A81C}" type="datetime2">
              <a:rPr lang="en-US"/>
              <a:t>Thursday, July 30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E10-CAC3-4072-87A6-663BF9C229C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0C244E-C84F-4DA8-92F1-62B36479A7BA}" type="datetime2">
              <a:rPr lang="en-US"/>
              <a:t>Thursday, July 30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49E-2111-4AA4-BF30-E412F68548A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AB331-7EBB-46A2-B9CA-7DDD3E3E6403}" type="datetime2">
              <a:rPr lang="en-US"/>
              <a:t>Thursday, July 30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DC3-2ED0-45CE-BBB5-DB586D5F907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5A4BB-0648-4833-BDC2-9926D39F65C7}" type="datetime2">
              <a:rPr lang="en-US"/>
              <a:t>Thursday, July 30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982-2432-4C34-BB35-8D25FBBA83F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97620-2F74-4A07-9757-4E76D5600065}" type="datetime2">
              <a:rPr lang="en-US"/>
              <a:t>Thursday, July 30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458-3EF2-4CFD-ADC9-5E71BBBE98D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43903-808F-4545-A81B-41C76A5DC4C2}" type="datetime2">
              <a:rPr lang="en-US"/>
              <a:t>Thursday, July 30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E48-1A40-4A50-AD89-6375CF6A788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F020B-D63E-4CF6-9B32-1C7FFDAFE03F}" type="datetime2">
              <a:rPr lang="en-US"/>
              <a:t>Thursday, July 30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CB5-D147-4B07-A1CA-321181B4BE9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22BF8-7BC2-49E3-861F-53C3EE3E513B}" type="datetime2">
              <a:rPr lang="en-US"/>
              <a:t>Thursday, July 30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