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D09-66AE-4A85-A9DE-37E1F9CB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A16-C85F-4F39-BAB2-2334864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A2A-AC49-4E89-A0FE-FFA04790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38DB-698E-4E4D-88F4-E153906D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68F2-5534-4A74-A3C9-95D88EB9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E3D6-84E2-4244-8005-741E2E5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CEE-CF90-43A7-BCC0-45F98E5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CE84-94AB-483D-A6A8-D50E47A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923F-C5F0-44CA-89E4-C535F556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BD6B-2F6A-46D8-8F8E-898C4126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A5ED-5ECE-4513-9D80-CF0AF94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9AF-2795-4525-BDDB-E40464DC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609-243D-4AE9-BBEA-5CB15B5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CC5-2BC4-4BF8-9953-501DB78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21C8-DAFD-4A01-AE56-980FFFB5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1BE4-81AF-49FA-A3A9-BF9A8D23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034-E3A3-43F8-B90D-90D6EB80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3CE-2523-4D14-8062-C9237BA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F19-3831-4970-84BB-1F8AB535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3D1-140E-4B5D-A947-9B1D3B35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285-D535-4AC6-ADB6-B9BD8FB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85E-9D3D-4BC3-AB10-D07BF6E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04A-CD13-4E62-8DA1-DE8A9704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D5D-2BC7-4938-B208-7A09DB31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CD8B-AF9D-4D36-9CE6-4EC2931BE2EC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37EF-03C4-402A-AB3F-1ABB8D97345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5463-37F7-4FAE-BB4F-39C09972528D}" type="datetime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DCC-FDF9-4370-ABB9-B3E0EDD94BE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79200" y="2182680"/>
            <a:ext cx="9551880" cy="235296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1B9-E2E4-4751-90C5-239C66F4F7F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26960" y="96840"/>
            <a:ext cx="8508960" cy="144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фические тес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тистические тес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BB19-A84F-4A32-AEEC-B555B600A48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стограмма распределения элементов последова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ределение на плоскост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серий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на монотонность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корреляционная функци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филь линейной сложност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фический спектральный тес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88C-D53A-4591-B5C5-90F37E3E7E9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сты Д. Кну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кет статистических тестов N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сты Die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6786-D747-4BD9-AFC4-F78226FBC01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несцепленных сери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интервал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комбинаций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ст собирателя купон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перестановок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на монотонност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корреляци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BF5E-8338-4545-B20E-2D3B29159B3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1"/>
          <a:stretch/>
        </p:blipFill>
        <p:spPr>
          <a:xfrm>
            <a:off x="274680" y="268200"/>
            <a:ext cx="868680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Частотный побитовый тест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Frequency Monobit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Частотный блочный тест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Frequency Test within a Block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последовательность одинаковых битов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Runs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самую длинную последовательность единиц в блоке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ests for the Longest-Run-of-Ones in a Block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рангов бинарных матриц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Binary Matrix Rank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пектральный тест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Spectral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совпадение неперекрывающихся шаблонов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Non-overlapping Template Matching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совпадение перекрывающихся шаблонов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Non-overlapping Template Matching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Универсальный статистический тест Маурера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Maurer’s «Universal Statistical»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линейную сложность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Linear Complexity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периодичность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Serial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приблизительной энтропии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Approximate Entropy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кумулятивных сумм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Cumulative Sums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Тест на произвольные отклонения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Random Excursions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7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ругой тест на произвольные отклонения (англ. </a:t>
            </a: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The Random Excursions Variant Te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1BDD-BA64-4891-A95E-6ACEA9C736E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ни рождения (Birthday Spacing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ересекающиеся перестановки (Overlapping Permutation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нги матриц (Ranks of matr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безьяньи тесты (Monkey Tes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одсчёт единичек (Count the 1’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на парковку (Parking Lot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на минимальное расстояние (Minimum Distance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случайных сфер (Random Spheres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сжатия (The Squeeze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пересекающихся сумм (Overlapping Sums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последовательностей (Runs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ест игры в кости (The Craps Tes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C50A-FDD4-4FD2-BEEC-992D0DD571E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654120" y="2019240"/>
            <a:ext cx="7939080" cy="240984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AA8C-9CEE-4871-825D-C58D4757135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85480"/>
            <a:ext cx="82296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1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7AD5-4748-4A0A-985A-4530A1B7D18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2571840" y="1214280"/>
            <a:ext cx="4071960" cy="928800"/>
          </a:xfrm>
          <a:prstGeom prst="rect">
            <a:avLst/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643120" y="1357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иды ГСП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642960" y="3214800"/>
            <a:ext cx="2643120" cy="857160"/>
          </a:xfrm>
          <a:prstGeom prst="rect">
            <a:avLst/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714240" y="3357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парат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500800" y="3214800"/>
            <a:ext cx="2643120" cy="857160"/>
          </a:xfrm>
          <a:prstGeom prst="rect">
            <a:avLst/>
          </a:prstGeom>
          <a:solidFill>
            <a:srgbClr val="7e6bc9"/>
          </a:solidFill>
          <a:ln w="25560">
            <a:solidFill>
              <a:srgbClr val="5b4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5429160" y="33577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тематическ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2" name="Прямая со стрелкой 11"/>
          <p:cNvCxnSpPr>
            <a:stCxn id="86" idx="2"/>
            <a:endCxn id="88" idx="0"/>
          </p:cNvCxnSpPr>
          <p:nvPr/>
        </p:nvCxnSpPr>
        <p:spPr>
          <a:xfrm flipH="1">
            <a:off x="1963440" y="2142720"/>
            <a:ext cx="26452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Прямая со стрелкой 13"/>
          <p:cNvCxnSpPr>
            <a:stCxn id="86" idx="2"/>
            <a:endCxn id="90" idx="0"/>
          </p:cNvCxnSpPr>
          <p:nvPr/>
        </p:nvCxnSpPr>
        <p:spPr>
          <a:xfrm>
            <a:off x="4608360" y="2142720"/>
            <a:ext cx="221544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ериод гаммы должен быть достаточно больш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Гамма должна быть трудно предсказуем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Генерирование гаммы не должно быть трудн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415-7CDA-414C-A6C9-F3FECE408E6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Линейный конгруэнтный метод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Метод Фибоначч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Линейный регистр сдвига с обратной связь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Вихрь Мерсен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9355-71F2-4999-8CE1-39EC2036A4D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ла генерации ПСЧ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a&gt;0, c&gt;0, m&gt;0 — некоторые целочисленные констан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2FAF-BEB8-42AA-9E10-A1BB46C3F49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143680" y="2214720"/>
            <a:ext cx="237168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"/>
          <p:cNvPicPr/>
          <p:nvPr/>
        </p:nvPicPr>
        <p:blipFill>
          <a:blip r:embed="rId2"/>
          <a:stretch/>
        </p:blipFill>
        <p:spPr>
          <a:xfrm>
            <a:off x="1071720" y="2214720"/>
            <a:ext cx="692928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814F-F02D-4519-AAB7-D2F9849EBEA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ла генерации ПС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вещественные числа из диапазона [0,1),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a,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— целые положительные чис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3C57-3E21-4D4C-9698-4CA491CAB66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5214960" y="2214720"/>
            <a:ext cx="3506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ла генерации ПС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X shr 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b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c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номера битов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[0, 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выходной б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итовая последовате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155-F593-42C4-B85B-393C0B21380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1785960" y="3000240"/>
            <a:ext cx="162000" cy="2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3"/>
          <a:stretch/>
        </p:blipFill>
        <p:spPr>
          <a:xfrm>
            <a:off x="2357280" y="3000240"/>
            <a:ext cx="162000" cy="219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4"/>
          <a:stretch/>
        </p:blipFill>
        <p:spPr>
          <a:xfrm>
            <a:off x="4357800" y="2286000"/>
            <a:ext cx="34671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ула генерации ПС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де n - целое, которое обозначает степень рекуррентност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m - целое, 1&lt; m &lt; n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- матрица размера WxW, с элементами из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авой части  обозначает «старшие w-r бит» , и , «младшие r бит» Х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к+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E26-5235-4EB5-8EC7-6B96AFB722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2867040" cy="2570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4786200" y="1785960"/>
            <a:ext cx="3822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3:28:46Z</dcterms:created>
  <dc:creator>Сэм_и_Паха</dc:creator>
  <dc:description/>
  <dc:language>en-US</dc:language>
  <cp:lastModifiedBy>Сэм_и_Паха</cp:lastModifiedBy>
  <dcterms:modified xsi:type="dcterms:W3CDTF">2009-12-15T02:12:06Z</dcterms:modified>
  <cp:revision>22</cp:revision>
  <dc:subject/>
  <dc:title>Генератор псевдослучайных чисел и методы их тестирования</dc:title>
</cp:coreProperties>
</file>