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7D0D3-B13A-4024-BA60-AEE0002E4B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A86E0-4B39-4AAE-9FBD-41AB8C0A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51A04-1790-49BE-A3F1-CE10D190A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86BA-2906-4FC7-A70D-AC3ABB173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D5330C-6603-455C-A0F2-CF0687F6D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AB3077-58AD-4A3E-ABFF-C6278BE8C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DA6D20-5259-4BCF-A291-4E75CF632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271F0F-04C8-43CB-A3E9-F1621C750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2A44A1-E61F-4724-A7C8-7D8304D68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8087DD-EC6D-41EC-A59B-07A4287B6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07CF08-457F-46A8-AFEA-F1D84BE94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4CA5-48BC-4654-A1CC-D46550B3E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4376A7-AC7A-486B-AEFB-AD72E483F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BFABB5-7320-4776-B5F7-66A0191E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E66D72-60C0-4572-BE11-CA5EC3515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D8D34C-8732-4BA0-B799-5AC5C7989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6DF5A-FB35-4397-8DB2-716D235674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73B-DFDD-46E3-A3EA-64D7A318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6DDA-25C3-46BB-A9D3-B2F3BF5A1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B454F-8BA6-4009-890E-88AB206F5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D80-635E-4454-ABD4-3D66ACC7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A2BF-AF51-4E31-95AA-514C6729C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80F1-EF50-4ADA-8E8F-13C6E1BB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9EDB6-D133-44A9-A463-26724684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45B67-1724-419C-AE4A-FD4120D0BEF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DE71-2FEC-4756-BD69-164DA43493E8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СИТУАЦИЯ ВЫБОРА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В ЗДОРОВЬЕСБЕРЕГАЮЩЕМ </a:t>
            </a:r>
            <a:br>
              <a:rPr sz="4000"/>
            </a:br>
            <a:r>
              <a:rPr b="1" lang="ru-RU" sz="4000" spc="-1" strike="noStrike">
                <a:solidFill>
                  <a:srgbClr val="ff3300"/>
                </a:solidFill>
                <a:latin typeface="Tahoma"/>
              </a:rPr>
              <a:t>УЧЕБНОМ ПРОЦЕСС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ОУ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ЛЮБЕЧАНСКАЯ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СНОВ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ОБЩЕОБРАЗОВАТЕЛЬНА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ШКОЛ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КЛИМОВСКИЙ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ahoma"/>
              </a:rPr>
              <a:t>РАЙО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4643280" y="1916280"/>
            <a:ext cx="450072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ЭФФЕКТИВНОСТЬ РАБОТЫ.</a:t>
            </a:r>
            <a:br>
              <a:rPr sz="2800"/>
            </a:br>
            <a:r>
              <a:rPr b="0" lang="ru-RU" sz="2800" spc="-1" strike="noStrike">
                <a:solidFill>
                  <a:srgbClr val="ff0066"/>
                </a:solidFill>
                <a:latin typeface="Tahoma"/>
              </a:rPr>
              <a:t>РЕЗУЛЬТАТЫ РАНЖИРОВАНИЯ ПРЕДМЕТОВ.</a:t>
            </a:r>
            <a:br>
              <a:rPr sz="2800"/>
            </a:br>
            <a:r>
              <a:rPr b="0" lang="ru-RU" sz="3000" spc="-1" strike="noStrike">
                <a:solidFill>
                  <a:srgbClr val="00ffff"/>
                </a:solidFill>
                <a:latin typeface="Tahoma"/>
              </a:rPr>
              <a:t>ВЫВОД</a:t>
            </a:r>
            <a:r>
              <a:rPr b="1" lang="ru-RU" sz="3000" spc="-1" strike="noStrike">
                <a:solidFill>
                  <a:srgbClr val="00ffff"/>
                </a:solidFill>
                <a:latin typeface="Tahoma"/>
              </a:rPr>
              <a:t>: ситуация выбора в учебном процессе повышает рейтинг учебного предмета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457200" y="3166920"/>
          <a:ext cx="4038480" cy="1589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3166920"/>
                    <a:ext cx="4038480" cy="158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395280" y="2637000"/>
          <a:ext cx="8291520" cy="3735360"/>
        </p:xfrm>
        <a:graphic>
          <a:graphicData uri="http://schemas.openxmlformats.org/drawingml/2006/table">
            <a:tbl>
              <a:tblPr/>
              <a:tblGrid>
                <a:gridCol w="2763720"/>
                <a:gridCol w="2764080"/>
                <a:gridCol w="2763720"/>
              </a:tblGrid>
              <a:tr h="718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Предмет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Место (из 14 возможных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5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2001-2002 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Немец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2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2002-2003 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Немец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3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2003-2004 учебный год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Немец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6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1 полугодие 2004-2005 учебного год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Немецкий язык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1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05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ЭФФЕКТИВНОСТЬ РАБОТ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РЕФЛЕКСИВНАЯ ДЕЯТЕЛЬНОСТЬ ПО РЕЗУЛЬТАТАМ СУБЪЕКТНОЙ ОЦЕНКИ УЧАЩИХСЯ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Tahoma"/>
              </a:rPr>
              <a:t>ВЫВОД: </a:t>
            </a: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учащиеся отмечают рост уровней обученности, обучаемости, развития общеучебных УН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cffff"/>
                </a:solidFill>
                <a:latin typeface="Tahoma"/>
              </a:rPr>
              <a:t>РЕЗУЛЬТАТИВНОСТЬ ОБУЧЕННОСТИ И ВНЕКЛАССНОЙ РАБОТЫ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ffff"/>
                </a:solidFill>
                <a:latin typeface="Tahoma"/>
              </a:rPr>
              <a:t>ВЫВОД: </a:t>
            </a: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показатели обученности выше общерайонных при 100% успеваемости, возрастает результативность участия учащихся в школьных и районных мероприятиях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16" dur="2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0" dur="20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4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2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СИТУАЦИЯ ВЫБ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905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203640" y="2708280"/>
            <a:ext cx="2736720" cy="108108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фференциация как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доровьесбереж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3284640"/>
            <a:ext cx="262728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иагностика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ндивидуальных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аза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43640" y="3284640"/>
            <a:ext cx="2700360" cy="100800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оцесс обучения на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снове индивидуальных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оказател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187280" y="4797360"/>
            <a:ext cx="6553440" cy="936720"/>
          </a:xfrm>
          <a:prstGeom prst="rect">
            <a:avLst/>
          </a:prstGeom>
          <a:solidFill>
            <a:srgbClr val="33cccc"/>
          </a:solidFill>
          <a:ln w="9360">
            <a:solidFill>
              <a:srgbClr val="ffffff"/>
            </a:solidFill>
            <a:miter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ЕФЛЕКСИВНАЯ ДЕЯТЕЛЬНОСТ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627280" y="3357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2626920" y="371628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866920" y="3357720"/>
            <a:ext cx="576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3716280"/>
            <a:ext cx="503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979640" y="4292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093080" y="429264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1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                                                                                                   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48320" y="333360"/>
            <a:ext cx="4038480" cy="568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СПАСИБО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ЗА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 Black"/>
              </a:rPr>
              <a:t>ВНИМАНИЕ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79280" y="404640"/>
            <a:ext cx="4321440" cy="568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6" dur="indefinite" restart="never" nodeType="tmRoot">
          <p:childTnLst>
            <p:seq>
              <p:cTn id="487" dur="indefinite" nodeType="mainSeq">
                <p:childTnLst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496" dur="2000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501" dur="2000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Tahoma"/>
              </a:rPr>
              <a:t>АКТУАЛЬНОСТЬ ПРОБЛЕМЫ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5 МАРТА 2004 год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ГОССТАНДАР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   </a:t>
            </a: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ОДНО ИЗ НАПРАВЛЕНИЙ МОДЕРНИЗАЦИИ: «ОБЕСПЕЧЕНИЕ ВАРИАТИВНОСТИ И СВОБОДЫ ВЫБОРА В ОБРАЗОВАНИИ ДЛЯ СУБЪЕКТОВ ОБРАЗОВАТЕЛЬНОГО ПРОЦЕССА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0" dur="20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9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66"/>
                </a:solidFill>
                <a:latin typeface="Tahoma"/>
              </a:rPr>
              <a:t>ВАРИАЦИИ СВОБОДЫ ВЫБОР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39236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Tahoma"/>
              </a:rPr>
              <a:t>На уровне области / район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Tahoma"/>
              </a:rPr>
              <a:t>На уровне учебного завед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ffff"/>
                </a:solidFill>
                <a:uFillTx/>
                <a:latin typeface="Tahoma"/>
              </a:rPr>
              <a:t>На уровне учебного занятия </a:t>
            </a:r>
            <a:r>
              <a:rPr b="0" lang="ru-RU" sz="2000" spc="-1" strike="noStrike" u="sng">
                <a:solidFill>
                  <a:srgbClr val="00ffff"/>
                </a:solidFill>
                <a:uFillTx/>
                <a:latin typeface="Tahoma"/>
              </a:rPr>
              <a:t>(цель концепции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индивидуального образовательного маршрут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форм, способов, типа учения, его режим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заданий по степени слож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заданий и форм отчетност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«коллеги»- соученика или учител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ff"/>
                </a:solidFill>
                <a:latin typeface="Tahoma"/>
              </a:rPr>
              <a:t>Выбор дидактических материалов, дополнительных источников информации и так дале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66"/>
                </a:solidFill>
                <a:latin typeface="Tahoma"/>
              </a:rPr>
              <a:t>КОНКРЕТИЗАЦИЯ ЦЕЛ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ffcc"/>
                </a:solidFill>
                <a:latin typeface="Tahoma"/>
              </a:rPr>
              <a:t>Определить роль ситуации выбора в здоровьесбережении учащихся на уровне учебного заняти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ffcc"/>
                </a:solidFill>
                <a:latin typeface="Tahoma"/>
              </a:rPr>
              <a:t>«СИТУАЦИЯ ВЫБОРА В ЗДОРОВЬЕСБЕРЕГАЮЩЕМ УЧЕБНОМ ПРОЦЕССЕ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cc"/>
                </a:solidFill>
                <a:latin typeface="Tahoma"/>
              </a:rPr>
              <a:t>ЗАДАЧ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cc"/>
                </a:solidFill>
                <a:latin typeface="Tahoma"/>
              </a:rPr>
              <a:t>Определить понятие «ситуация выбора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cc"/>
                </a:solidFill>
                <a:latin typeface="Tahoma"/>
              </a:rPr>
              <a:t>Выявить условия создания ситуации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cc"/>
                </a:solidFill>
                <a:latin typeface="Tahoma"/>
              </a:rPr>
              <a:t>Разработать алгоритм деятельности учителя, учащихся в условиях коллективного и индивидуального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ffcc"/>
                </a:solidFill>
                <a:latin typeface="Tahoma"/>
              </a:rPr>
              <a:t>Описать виды учебных задач для создания ситуации выбора в процессе преподавания немецкого язык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0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5" dur="500"/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66"/>
                </a:solidFill>
                <a:latin typeface="Tahoma"/>
              </a:rPr>
              <a:t>СИТУАЦИЯ ВЫБОРА- спроектированный учителем элемент урока, группового занятия, когда ученики поставлены перед необходимостью отдать свое предпочтение одному из вариантов учебных задач и способов их решения для проявления своей активности, самостоятельности и индивидуальности познания.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br>
              <a:rPr sz="3200"/>
            </a:b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ВЫБОР</a:t>
            </a:r>
            <a:br>
              <a:rPr sz="32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индивидуальный</a:t>
            </a:r>
            <a:br>
              <a:rPr sz="32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	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Tahoma"/>
              </a:rPr>
              <a:t>коллективны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2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 rot="10800000">
            <a:off x="457200" y="188640"/>
            <a:ext cx="8229600" cy="10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ahoma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333360"/>
            <a:ext cx="4038480" cy="568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Условия и обстоятельства создания ситуации выбор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Готовность учащихся к выбор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Педагогическая целесообразность ситуации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Стимулирование учащихся к выбору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Аргументация своего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Определение степени свободы выбор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Успешность деятельности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Защищенность школьников от собственных ошибок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ccffff"/>
                </a:solidFill>
                <a:latin typeface="Tahoma"/>
              </a:rPr>
              <a:t>Оценка результатов решения выбранного вариан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48320" y="333360"/>
            <a:ext cx="4038480" cy="568656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ru-RU" sz="2400" spc="-1" strike="noStrike">
                <a:solidFill>
                  <a:srgbClr val="ff0066"/>
                </a:solidFill>
                <a:latin typeface="Tahoma"/>
              </a:rPr>
              <a:t>ГОССТАНДАРТ. ПОЯСНИТЕЛЬНАЯ ЗАПИСКА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ff"/>
                </a:solidFill>
                <a:latin typeface="Tahoma"/>
              </a:rPr>
              <a:t>«Администрация образовательных учреждений создает необходимые условия для реализации Госстандарта, обеспечивает контроль за… (в том числе) за выполнением требований к уровню подготовки выпускников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4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9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500"/>
                                        <p:tgtEl>
                                          <p:spTgt spid="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9" dur="500"/>
                                        <p:tgtEl>
                                          <p:spTgt spid="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4" dur="500"/>
                                        <p:tgtEl>
                                          <p:spTgt spid="9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4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9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МОНИТОРИНГ ИНДИВИДУАЛЬНЫХ ПОКАЗАТЕЛЕЙ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ahoma"/>
              </a:rPr>
              <a:t>ОБУЧЕНН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ahoma"/>
              </a:rPr>
              <a:t>ОБУЧАЕМОСТ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ahoma"/>
              </a:rPr>
              <a:t>ОБЩЕУЧЕБНЫЕ УН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Учебно-организационные У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Учебно-интеллектуальные У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Учебно-информационные У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Учебно-коммуникативные УН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ffff"/>
                </a:solidFill>
                <a:latin typeface="Tahoma"/>
              </a:rPr>
              <a:t>Уровни развития индивидуальных показателей</a:t>
            </a:r>
            <a:r>
              <a:rPr b="0" lang="ru-RU" sz="2800" spc="-1" strike="noStrike">
                <a:solidFill>
                  <a:srgbClr val="cc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«0» уровень-отсутствие умен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«1» уровень-знакомство с действием, выполнение при помощи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«2» уровень- самостоятельное выполнение по образцу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«3» уровень- свободное выполнение действий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ccffff"/>
                </a:solidFill>
                <a:latin typeface="Tahoma"/>
              </a:rPr>
              <a:t>«4» уровень- навык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1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6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1" dur="2000"/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76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6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1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6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1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91960"/>
            <a:ext cx="8435880" cy="23450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3300"/>
                </a:solidFill>
                <a:latin typeface="Tahoma"/>
              </a:rPr>
              <a:t>ОЦЕНИВАНИЕ ЗУН В УСЛОВИЯХ ДИФФЕРЕНЦИРОВАННОГО ОБУЧЕНИЯ</a:t>
            </a:r>
            <a:br>
              <a:rPr sz="4000"/>
            </a:br>
            <a:r>
              <a:rPr b="1" i="1" lang="ru-RU" sz="3200" spc="-1" strike="noStrike">
                <a:solidFill>
                  <a:srgbClr val="00ffff"/>
                </a:solidFill>
                <a:latin typeface="Tahoma"/>
              </a:rPr>
              <a:t>ситуация выбор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781360"/>
            <a:ext cx="403848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ff"/>
                </a:solidFill>
                <a:uFillTx/>
                <a:latin typeface="Tahoma"/>
              </a:rPr>
              <a:t>НЕТ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(ОЦЕН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Состоян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Вычитате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Текущ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Обязате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Базового уров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7960" y="2781360"/>
            <a:ext cx="4244760" cy="323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ffff"/>
                </a:solidFill>
                <a:uFillTx/>
                <a:latin typeface="Tahoma"/>
              </a:rPr>
              <a:t>ДА</a:t>
            </a:r>
            <a:r>
              <a:rPr b="0" lang="ru-RU" sz="2800" spc="-1" strike="noStrike">
                <a:solidFill>
                  <a:srgbClr val="00ffff"/>
                </a:solidFill>
                <a:latin typeface="Tahoma"/>
              </a:rPr>
              <a:t> (ОЦЕНКА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Развити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Накопите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Динамическ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Добровольна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Tahoma"/>
              </a:rPr>
              <a:t>Повышенного уровн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2735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010199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ЭФФЕКТИВНОСТЬ РАБОТЫ</a:t>
            </a:r>
            <a:br>
              <a:rPr sz="3200"/>
            </a:b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МЕТОДИКА ФИЛЛИПСА:ИЗУЧЕНИЕ УРОВНЯ И ХАРАКТЕРА ТРЕВОЖНОСТИ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f0066"/>
                </a:solidFill>
                <a:latin typeface="Tahoma"/>
              </a:rPr>
              <a:t>ВЫВОД: снижение уровня тревожности</a:t>
            </a:r>
            <a:br>
              <a:rPr sz="3200"/>
            </a:br>
            <a:br>
              <a:rPr sz="40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457200" y="2952720"/>
          <a:ext cx="4038480" cy="201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2952720"/>
                    <a:ext cx="4038480" cy="20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5" name=""/>
          <p:cNvGraphicFramePr/>
          <p:nvPr/>
        </p:nvGraphicFramePr>
        <p:xfrm>
          <a:off x="0" y="2565360"/>
          <a:ext cx="9144000" cy="4292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565360"/>
                    <a:ext cx="9144000" cy="429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7:00:58Z</dcterms:created>
  <dc:creator>Однодворцев Евгений Иванович</dc:creator>
  <dc:description/>
  <dc:language>en-US</dc:language>
  <cp:lastModifiedBy>ЛОМАКО</cp:lastModifiedBy>
  <dcterms:modified xsi:type="dcterms:W3CDTF">2006-04-28T18:13:02Z</dcterms:modified>
  <cp:revision>20</cp:revision>
  <dc:subject/>
  <dc:title>АКТУАЛЬНОСТЬ ПРОБЛЕМЫ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