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618-4099-4537-A57A-3D0C8479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8C1-99C3-41F6-8BC3-191A2B4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E2E-F895-417D-A5BB-82FD2AED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ED6-0F43-47CC-9522-3CFF826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B3F3-8FA8-4D9B-8BDD-1515AF5E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67FA-9B74-442C-B353-6CEAC09A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3512-336B-49D9-AAF4-16D9D039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E7EE-6571-44CD-923C-8AC156BC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4EF-9A4E-4717-9AAF-95BA57E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69C7-619D-46D9-95DE-7FECC669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5646-C624-4A41-8F05-33B5971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80E-CDBE-465F-B4F9-84FAE6E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86A-887C-47ED-AD75-7B154BE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E25-9EAB-4764-AB9A-E1121D90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2C8C-8C25-4236-A696-3F98EC7C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50A-03D2-462A-A3EE-E8472110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E02-3AEC-4460-A8A1-271C5ECA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2DE-B69D-4A43-9499-5531165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273-16FC-459C-A6A7-1249CE75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87E-B58E-4E5C-B8C5-8E04BEE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737-9079-4D31-AF1F-B428432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A4F-4567-418B-860F-0990A0B1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375-27AC-4FD8-923C-1041437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E54-A222-4ED4-9051-0F7132A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0A3F-07F4-4DF8-90B6-BE0E082916E7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618F-C233-476E-97AC-7B6AFD0F8DD9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Троичная система счисления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СС - это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8108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64c"/>
                </a:solidFill>
                <a:latin typeface="Times New Roman"/>
              </a:rPr>
              <a:t>совокупность правил записи чисел с помощью определённого набора символов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05740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В троичной системе счисления три цифры: 0, 1, 2. Цифра 1, указанная в самом младшем разряде, означает – как и в десятичном числе – просто единицу. Та же цифра 1 в следующем разряде означает 3, в следующем 9 и т. д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Алфавит троичной СС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еревод чисел СС</a:t>
            </a:r>
            <a:r>
              <a:rPr b="0" lang="ru-RU" sz="4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4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СС</a:t>
            </a:r>
            <a:r>
              <a:rPr b="0" lang="ru-RU" sz="4400" spc="-1" strike="noStrike" baseline="-25000">
                <a:solidFill>
                  <a:srgbClr val="333333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981080"/>
            <a:ext cx="861048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Число 212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есть не что иное, как 23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Для перевода из СС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в СС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надо каждую цифру, начиная со старших разрядов, умножить на основание степени, которое надо возвести в степень от 0, начиная с младших разрядов. Полученные числа сложить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191120"/>
            <a:ext cx="723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То есть: 212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2*3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1*3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2*3</a:t>
            </a:r>
            <a:r>
              <a:rPr b="0" lang="en-US" sz="2400" spc="-1" strike="noStrike" baseline="30000">
                <a:solidFill>
                  <a:srgbClr val="00264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2+3+18=23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Перевод чисел СС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СС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905120"/>
            <a:ext cx="86104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Для перевода число надо разделить на основание СС, полученный остаток будет цифрой младшего разряда. Далее число снова делим на основание СС, записываем остаток, и т. д. Последнее частное, которое меньше основания СС, станет цифрой старшего разряда. Результат формируется путём последовательной записи цифры старшего разряда и всех остатков в порядке, обратном их получению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Например: 574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210021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Как получили число 210021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05120"/>
            <a:ext cx="86868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574:3=191, остаток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91:3=63, остаток 2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63:3=21, остаток 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21:3=7, остаток 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7:3=2, остаток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И оставшуюся цифру 2 ставим в старший разряд, получаем число 210021</a:t>
            </a:r>
            <a:r>
              <a:rPr b="0" lang="en-US" sz="24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блица для действи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2286000"/>
          <a:ext cx="6096240" cy="4064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ложение, вычитание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римеры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81080"/>
            <a:ext cx="861048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12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210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1022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02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-10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22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221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*11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=211101</a:t>
            </a:r>
            <a:r>
              <a:rPr b="0" lang="en-US" sz="1800" spc="-1" strike="noStrike" baseline="-25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11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21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102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86200"/>
            <a:ext cx="2362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10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27672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2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2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22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1110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7:44:10Z</dcterms:created>
  <dc:creator/>
  <dc:description/>
  <dc:language>en-US</dc:language>
  <cp:lastModifiedBy>Евгений Смердов</cp:lastModifiedBy>
  <dcterms:modified xsi:type="dcterms:W3CDTF">2008-03-16T07:24:48Z</dcterms:modified>
  <cp:revision>5</cp:revision>
  <dc:subject/>
  <dc:title>Троичная система счисления</dc:title>
</cp:coreProperties>
</file>