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32E-BDF2-40C8-93A7-91C02555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CAA-79E5-4682-8376-2BE288C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66C-13FB-41AF-89FD-FC3169A0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36F-534E-4424-8DF2-8C141948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AEE-2E74-44F0-9145-6293931B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4165-DC3E-4A7B-ABC8-3FC7911A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3D4-4270-42D6-A8A8-306F492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8D1-E71C-4286-AAE0-A214B88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0C1-72CA-4F1A-9F1B-38BB7E0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711-D944-442F-ACBD-F95ADDD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951-A722-492C-B38C-5C9D04B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9A2-3105-4C1F-9B48-5C76C0F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448-1943-4ED3-B384-4469D88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3B7-39F5-476D-8E92-06B3AF4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4AD-0B96-4067-8250-1C3ACC41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A92-0D90-4912-B13F-BDA32BDE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4220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65080" y="561348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896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4220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465080" y="6950160"/>
            <a:ext cx="154548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DE61-8C23-4A58-9ACC-744771AB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480060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601-630A-40BC-8E66-5375ECDE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FC9-E964-4770-B5B5-74977AD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538-C593-4A39-860D-4490697A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57913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228-B7BC-4BA2-8433-F2F6206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F1D-0EAC-4A65-9C78-E87F711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78840" y="695016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3F1-969A-45A6-BACD-88B90F3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78840" y="5613480"/>
            <a:ext cx="234252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6950160"/>
            <a:ext cx="4800600" cy="12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581-5B06-4111-A2D4-EC2591F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30120"/>
            <a:ext cx="6180120" cy="923148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2311560"/>
            <a:ext cx="57531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73080"/>
            <a:ext cx="885960" cy="58611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9920" y="550800"/>
            <a:ext cx="57150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9920" y="2532240"/>
            <a:ext cx="5715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996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8760" y="8821800"/>
            <a:ext cx="2171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160600" y="88218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9B87-7E9A-4B8C-A43A-D23083F7B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6720" y="290520"/>
            <a:ext cx="6297840" cy="934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73080"/>
            <a:ext cx="885960" cy="619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7840" y="5965920"/>
            <a:ext cx="780840" cy="660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6099120"/>
            <a:ext cx="885960" cy="3714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1800"/>
            <a:ext cx="5791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81252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641680" y="880596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5213520" y="880596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9BD-11AF-412D-A0DF-BCE5EE259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8880" y="1935000"/>
            <a:ext cx="537192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Сочинение</a:t>
            </a:r>
            <a:br>
              <a:rPr sz="32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Женский  образ  в  повести А.И. Куприна «Олеся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4952880"/>
            <a:ext cx="52578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ЕЙСЯ  СРЕДНЕЙ  ШКОЛЫ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ЕССЕНТ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- «б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БОВОЙ  МАР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кова  Светлана 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0-2001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12:52:12Z</dcterms:created>
  <dc:creator>Галина</dc:creator>
  <dc:description/>
  <dc:language>en-US</dc:language>
  <cp:lastModifiedBy>Галина</cp:lastModifiedBy>
  <dcterms:modified xsi:type="dcterms:W3CDTF">2000-11-16T14:28:53Z</dcterms:modified>
  <cp:revision>6</cp:revision>
  <dc:subject/>
  <dc:title>БОРИС  МИХАЙЛОВИЧ  КУСТОДИЕВ  ПРЕПОДАВАТЕЛЬ Первакова  Светлана  Николаевна</dc:title>
</cp:coreProperties>
</file>