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75B-537D-45DD-BC98-521067FE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A2C-7269-4A7D-A6E9-E8530C0E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527-0198-4FAE-8696-809B3541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795-8583-4E28-B0EB-7A8C8529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1E9E-9D75-4BA6-873D-5BC7789F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218C-029A-4CBF-B4FA-6BEFD5A4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67F1-C92C-424D-AC1F-5C352EFB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BAC9-89C8-405F-8562-34C32737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5F79-DB75-4865-8D65-76E53B3F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5EC4-FC2B-41EF-8CAD-954EE0E0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F36E-EA78-4FC9-BB46-E79E0DC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1DC-1608-4D88-9481-C8FD755F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E2CD-48C7-4C46-80C0-22EA1BFD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9BC1-25E0-4544-9CD3-D7D3CB1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0340-227B-48AB-B686-40CC4E0B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B4CC-DE4E-4022-80C7-B3714341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5A67-9120-4F3D-91CB-B81BF831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64B-3256-4B99-86D4-58ED4B49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F2F-AB95-48E4-B25E-FF4A0284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BD7-1F5C-4D0E-95CA-6A3B52E1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DDE-FE61-41DB-A4E5-A1AFBA14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42F-D343-4CD3-AB90-27F106D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25E-F8D3-44BE-84FB-D941229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8BA-EF46-4F5D-9E47-A0876251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16BD-5992-40CF-AE2D-5287A2E06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21FA-DA49-4E1A-9618-364E1CDA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0520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omp" descr=" персональный компьютер"/>
          <p:cNvPicPr/>
          <p:nvPr/>
        </p:nvPicPr>
        <p:blipFill>
          <a:blip r:embed="rId1"/>
          <a:stretch/>
        </p:blipFill>
        <p:spPr>
          <a:xfrm>
            <a:off x="2362320" y="1492200"/>
            <a:ext cx="4267080" cy="3232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" y="243000"/>
            <a:ext cx="8001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Компоненты персонального компьютер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967280"/>
            <a:ext cx="9144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Персональный компьюте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состоит из двух основных элементов. Это сам компьютер (системный блок) и устройства ввода/вывода (монитор, клавиатура, мышь, колонки, принтер и т. д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sb" descr="SoundBlaster"/>
          <p:cNvPicPr/>
          <p:nvPr/>
        </p:nvPicPr>
        <p:blipFill>
          <a:blip r:embed="rId1"/>
          <a:stretch/>
        </p:blipFill>
        <p:spPr>
          <a:xfrm>
            <a:off x="2590920" y="1433520"/>
            <a:ext cx="3504960" cy="2909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38080" y="4556160"/>
            <a:ext cx="7026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Предназначена для получения звука. Подключается колонки, наушники, микрофон. Из-за наличия звуковых карт компьютер называют мультимедий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34560" y="47160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Звуковая кар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keyboard" descr="keyboard"/>
          <p:cNvPicPr/>
          <p:nvPr/>
        </p:nvPicPr>
        <p:blipFill>
          <a:blip r:embed="rId1"/>
          <a:stretch/>
        </p:blipFill>
        <p:spPr>
          <a:xfrm>
            <a:off x="1447920" y="1371600"/>
            <a:ext cx="5943600" cy="2286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0880" y="4114800"/>
            <a:ext cx="8398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(Keyboard). Для ввода команд и символ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манды определяется программно. В клавиатуре есть собственный минипроцессор и при нажатии на какую-нить клавишу, тот отправляет определенный код в системный блок, а точнее на материнскую плату так как именно на ней находится контроллер клавиатуры, а программа сама там определяет, что с этим кодом дела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72000" y="47160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Клавиа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mouse" descr="mouse"/>
          <p:cNvPicPr/>
          <p:nvPr/>
        </p:nvPicPr>
        <p:blipFill>
          <a:blip r:embed="rId1"/>
          <a:stretch/>
        </p:blipFill>
        <p:spPr>
          <a:xfrm>
            <a:off x="2438280" y="1143000"/>
            <a:ext cx="2882880" cy="1717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3505320"/>
            <a:ext cx="838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(Mouse). Это устройство получило распространение только после того, как появились операционные системы, использовавшие GUI (Graphics User Interface - графический интерфейс пользователя). Если говорить о компах типа IBM PC-совместимых, то это операционные системы типа Windows. Мышь позволяет управлять указателем, а с помощью указателя - управлять и всей системой. Существует такие виды  мышей как: оптические, беспроводные, комбинированные , роликовы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Мыши имеют различные формы и цв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4120" y="395280"/>
            <a:ext cx="13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Мы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scan" descr="scaner"/>
          <p:cNvPicPr/>
          <p:nvPr/>
        </p:nvPicPr>
        <p:blipFill>
          <a:blip r:embed="rId1"/>
          <a:stretch/>
        </p:blipFill>
        <p:spPr>
          <a:xfrm>
            <a:off x="2286000" y="1600200"/>
            <a:ext cx="4648320" cy="2541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4343400"/>
            <a:ext cx="75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Устройство для ввода изображения. Используется такие программы как FineReader. Эти программы позволяют распознать текст и перевести его в формат .doc. Сканеры бывают нескольких типов. Кроме этого, они еще делятся по качеству снимаемого изображения (количество точек на единицу поверхнос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35200" y="471600"/>
            <a:ext cx="16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Скан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mon" descr="monitor"/>
          <p:cNvPicPr/>
          <p:nvPr/>
        </p:nvPicPr>
        <p:blipFill>
          <a:blip r:embed="rId1"/>
          <a:stretch/>
        </p:blipFill>
        <p:spPr>
          <a:xfrm>
            <a:off x="2819520" y="990720"/>
            <a:ext cx="2654280" cy="2535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3657600"/>
            <a:ext cx="7635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Это основное устройство вывода информации. Качество монитора  определяется, в основном, по трем параметрам: фирма - производитель, разрешающая способность и частота регенерации. От разрешающей способности зависит качество изображения (количество точек на единицу поверхности), Мониторы можно разделить по размеру экрана, который измеряется в дюймах. Самыми распространенными считаются 17ти дюймовые и 15ти - дюймовы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5200" y="24300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Монито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rint" descr="printer"/>
          <p:cNvPicPr/>
          <p:nvPr/>
        </p:nvPicPr>
        <p:blipFill>
          <a:blip r:embed="rId1"/>
          <a:stretch/>
        </p:blipFill>
        <p:spPr>
          <a:xfrm>
            <a:off x="2895480" y="1244520"/>
            <a:ext cx="3048120" cy="3022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22240" y="4740120"/>
            <a:ext cx="7483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Это устройство предназначено для вывода информации на бумагу. Существуют 3 основных типа принтеров: матричный, струйный и лазерный.Полное название струйных принтеров - пузырьково-струйные. Краска наносится на бумагу в жидком виде через сопл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21280" y="31896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Принт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peak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1904760" cy="1838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520" y="3809880"/>
            <a:ext cx="7788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предназначены для вывода звука. Компьютерные колонки активные, так как уровень сигнала на выходе с звуковой карты слаб и требует усиления. Иногда, вместо колонок подключают линейный вход музыкального цент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97000" y="30492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Коло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3962520"/>
            <a:ext cx="48006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Системный блок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 состоит из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1. корпуса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2. материнской платы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3. процессора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4. оперативной памят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5. жесткого диска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6. накопителя флоппи-дисков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7. накопителя компакт- (или DVD) дисков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8. видеокарты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9. звуковой карт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case" descr="системный блок"/>
          <p:cNvPicPr/>
          <p:nvPr/>
        </p:nvPicPr>
        <p:blipFill>
          <a:blip r:embed="rId1"/>
          <a:stretch/>
        </p:blipFill>
        <p:spPr>
          <a:xfrm>
            <a:off x="609480" y="304920"/>
            <a:ext cx="3337200" cy="3504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10080" y="304920"/>
            <a:ext cx="336888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рпус.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К раме корпуса крепятся: материнская плата, блок питания, накопители, жесткие диски. Существует несколько типов корпусов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sktop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. Mini-Tower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3. Midi-Tower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4. Big-Tower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sktop - это настольный блок, предназначенный находится на столе под монитором (как правило). Tower’ы (башни) – это вертикальные блоки, они же являются и самыми распространенными (на фото midi-tower). Понятно, что каждый тип имеет свои достоинства и недостатки. А вообще-то, чего я тут распинаюсь? Ведь по корпусам у меня есть неплохая статья, где они и описаны достаточно подробн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3114720"/>
            <a:ext cx="3886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Arial Unicode MS"/>
              </a:rPr>
              <a:t>Основные компоненты системной платы,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1. Процессорное гнездо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2. Разъемы для оперативной памят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3. Интерфейсы шины PCI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4. Микросхема системной логики (чипсет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5. Интерфейсы для подключения жестких дисков и накопителей CD или DVD дисков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6. Интерфейсы для подключения FDD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7. Блок портов ввода/выво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mb" descr="материнская плата"/>
          <p:cNvPicPr/>
          <p:nvPr/>
        </p:nvPicPr>
        <p:blipFill>
          <a:blip r:embed="rId1"/>
          <a:stretch/>
        </p:blipFill>
        <p:spPr>
          <a:xfrm>
            <a:off x="685800" y="-22320"/>
            <a:ext cx="3657600" cy="3070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013360" y="304920"/>
            <a:ext cx="37497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Arial Unicode MS"/>
              </a:rPr>
              <a:t>Материнская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Arial Unicode MS"/>
              </a:rPr>
              <a:t>плата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Arial Unicode MS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 (mainboard, matherboard, systemboard)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Еще ее называют системной платой. Это основа компьютера. Именно эта плата определяет, какого типа процессор Вы можете использовать, какой максимальный размер оперативной памяти можно будет заиметь и так далее. Все платы расширения (видеокарта, контроллер SCSI, модем, сетевая карта и т. д.) крепятся к материнской плате, на ней находятся микросхемы, управляющие всем, что есть в комп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362320" y="1295280"/>
            <a:ext cx="4038120" cy="1676520"/>
            <a:chOff x="2362320" y="1295280"/>
            <a:chExt cx="4038120" cy="1676520"/>
          </a:xfrm>
        </p:grpSpPr>
        <p:pic>
          <p:nvPicPr>
            <p:cNvPr id="138" name="cpu1" descr="процессор"/>
            <p:cNvPicPr/>
            <p:nvPr/>
          </p:nvPicPr>
          <p:blipFill>
            <a:blip r:embed="rId1"/>
            <a:stretch/>
          </p:blipFill>
          <p:spPr>
            <a:xfrm>
              <a:off x="2362320" y="1295280"/>
              <a:ext cx="19695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cpu2" descr="процессор"/>
            <p:cNvPicPr/>
            <p:nvPr/>
          </p:nvPicPr>
          <p:blipFill>
            <a:blip r:embed="rId2"/>
            <a:stretch/>
          </p:blipFill>
          <p:spPr>
            <a:xfrm>
              <a:off x="4331880" y="1295280"/>
              <a:ext cx="206856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457200" y="304812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предназначен для  обработки и вычисления данных. Основой любого процессора является ядро, которое состоит из миллионов транзисторов, расположенных на кристалле кремния. Процессор можно разделить на две части: АЛУ (Арифметико-Логическое Устройство) и УУ (Устройство Управления). Первое занимается обработкой данных, другое – их передачей. Процессор снабжен внутренней памятью. Называется она кэш-память и бывает двух уровней. Современные процессоры имеют корпуса типа PGA (Pin Grid Array – шахматная решетка массива штырьков). На данный момент времени существуют несколько производителей процессоров, но лидеров только двое: Intel и AM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7280" y="30492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Процесс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dimm" descr="оперативная память"/>
          <p:cNvPicPr/>
          <p:nvPr/>
        </p:nvPicPr>
        <p:blipFill>
          <a:blip r:embed="rId1"/>
          <a:stretch/>
        </p:blipFill>
        <p:spPr>
          <a:xfrm>
            <a:off x="2133720" y="1206360"/>
            <a:ext cx="5257800" cy="1155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2565360"/>
            <a:ext cx="8245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(DRAM – Dynamic Random Access memory)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Динамическая память с произвольным доступом ОЗУ (Оперативное Запоминающее Устройство.) Задача памяти – хранить данные. Пи включении компьютера элементы операционной системы, запущенные программы - все загружается в оперативную память. Основным недостатком ОЗУ является то, что при обрыве питания, данные теряются. Более того, даже во время работы при бесперебойном питании данные приходится постоянно обновля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Типы ОЗУ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DRAM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. DDRSDRAM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3. RDRAM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к же существует несколько типов разъемов для линеек оперативной памяти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. SIMM и DIMM (SIMM уже очень устарела и сейчас встречается только в старых компах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. RIM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9960" y="31896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Оперативная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пам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hdd" descr="жесткий диск"/>
          <p:cNvPicPr/>
          <p:nvPr/>
        </p:nvPicPr>
        <p:blipFill>
          <a:blip r:embed="rId1"/>
          <a:stretch/>
        </p:blipFill>
        <p:spPr>
          <a:xfrm>
            <a:off x="2666880" y="1200240"/>
            <a:ext cx="3276720" cy="2685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520" y="4098960"/>
            <a:ext cx="8076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(HDD – Hard Disk Driver)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Он же винчестер, он же винт, он же хард. Это устройство для хранения данных (программ, игрушек, вирусов и т.д.). Существует два основных размера жестких дисков: 3,5 дюйма для обычных персональных компов и 2,5 дюйма – для ноутбуков. Объемы современных доступных жестких дисков измеряются в гигабайтах, а точнее в десятках и сотнях гигабай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1960" y="31896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Жесткий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дис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fdd" descr="флоппи - дисковод"/>
          <p:cNvPicPr/>
          <p:nvPr/>
        </p:nvPicPr>
        <p:blipFill>
          <a:blip r:embed="rId1"/>
          <a:stretch/>
        </p:blipFill>
        <p:spPr>
          <a:xfrm>
            <a:off x="2743200" y="1760400"/>
            <a:ext cx="3200400" cy="2278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55760" y="470844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(FDD Floppy Disk Driver)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Дисковод, предназначенный для работы с дискет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5920" y="3952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Флоппи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 –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дисков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cdrom" descr="CD-ROM"/>
          <p:cNvPicPr/>
          <p:nvPr/>
        </p:nvPicPr>
        <p:blipFill>
          <a:blip r:embed="rId1"/>
          <a:stretch/>
        </p:blipFill>
        <p:spPr>
          <a:xfrm>
            <a:off x="2362320" y="701640"/>
            <a:ext cx="3657600" cy="2575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920" y="3336840"/>
            <a:ext cx="8321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D-ROM - Compact Disk Read Only Memory, DVD-ROM - Digital Versatile Disk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пители - это устройства чтения/записи. Накопители CD предназначены для работы с компакт-дисками, а накопители DVD - с DVD-дисками. CD-ROM могут работать только с CD,  DVD-ROM могут работать как с DVD, так и CD. Существуют два основных типа носителей CD и DVD: одни могут только читать с дисков, а другие еще и писать на них. Кроме этого, менее распространенный тип носителей - это комбо-приводы он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гу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DVD и CD и писать на C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0280" y="243000"/>
            <a:ext cx="61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Накопители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 CD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или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 DVD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дис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video" descr="VIDEO"/>
          <p:cNvPicPr/>
          <p:nvPr/>
        </p:nvPicPr>
        <p:blipFill>
          <a:blip r:embed="rId1"/>
          <a:stretch/>
        </p:blipFill>
        <p:spPr>
          <a:xfrm>
            <a:off x="2590920" y="928800"/>
            <a:ext cx="3504960" cy="250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3508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он же видеоадап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Может быть встроена (интегрирована) в материнскую плату т. е. микрочипы, отвечающие за формирование картинки находятся на материнской плате видеокарта необходима для формирования и передачи на монито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10480" y="31896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Arial Unicode MS"/>
              </a:rPr>
              <a:t>Видеока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7:01:05Z</dcterms:created>
  <dc:creator>пользователь</dc:creator>
  <dc:description/>
  <dc:language>en-US</dc:language>
  <cp:lastModifiedBy>пользователь</cp:lastModifiedBy>
  <dcterms:modified xsi:type="dcterms:W3CDTF">2005-12-15T08:00:35Z</dcterms:modified>
  <cp:revision>4</cp:revision>
  <dc:subject/>
  <dc:title>Презентация PowerPoint</dc:title>
</cp:coreProperties>
</file>