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7940-C213-4461-971E-67BC36A8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59BA-925D-4B77-97BF-DD0C0767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285B4-4F0C-4F28-B5C6-D3B9308C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D871-F2CA-4A01-8695-6D5471F5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5804-51A8-4B10-A233-F26C05E7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028A-A2D6-447F-950C-282CF903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9F16-4772-49AB-B80F-E0FA79C9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4B30-BD5A-4ABF-9A0C-2A3B3B50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B75E-7651-43FC-97D4-FC268425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A4EF-53F4-4EEA-9391-09AF563E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033E-2048-45F1-A5D9-D7263173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9A6D-80C7-436C-ADD4-317024B4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E669-3AC9-4347-897C-75AB6420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2957-08FD-41E4-89D2-D22CFCFD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88C7-6A12-401D-B3D9-B2517F9D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169F-0647-4467-B2CF-EB5EECC1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6C30-856E-4FCC-8819-276AD7CB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5714-13CD-4FEC-8639-B5A4BA5F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28C34-71BD-4911-AD61-09C45315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B81F-7394-4F9B-ACDB-ABE65EA0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8CAC1-F8F4-4D85-A822-73E868B7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D81A-CE24-46FA-B81A-A23DA1B7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97F64-9B76-40E0-A08C-72EC9CFE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A9584-444D-4A8B-8C32-D53DDB6F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E27E-A501-417A-806D-A79137C9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31C8D-B7A3-427D-84B6-277433BB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2F62-F8EA-49C3-9550-88A0329A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473C8-2751-4DC7-8DD0-5CCCCD7C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98E7-F807-4F18-9EB3-179EA713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6F2B5-8247-40F3-8A0D-53BC4DD4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BF9CF-D9BA-41B0-9210-87C0A84A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4771C-00BA-42F0-B4EB-79981037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FFDA-C6BE-40DB-913D-2C86E5D3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5E88-96A1-44AF-A871-CBCCCAE1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4B228-DD06-428A-830F-51D5D716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69D3E-6115-4288-8D1A-F0E50BF4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8574-5070-43E8-AE93-34A95DCBE4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4D0C-300C-409E-B5D2-104252C41F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A47B-0750-417A-8552-FC9B568BA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9280" y="404640"/>
            <a:ext cx="8209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ма дипломной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ранспортировка продукции предприятий Сибири на мировые рынки: Проблемы и перспек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полнил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. группы МЭО–00–1, Попов Р.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асноярск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3397320"/>
          <a:ext cx="6227640" cy="34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97320"/>
                    <a:ext cx="6227640" cy="34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843280" y="0"/>
          <a:ext cx="6300720" cy="349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0"/>
                    <a:ext cx="6300720" cy="34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новные рынки сбыта продукции предприятий СФ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84360" y="1792440"/>
            <a:ext cx="7740360" cy="4949280"/>
            <a:chOff x="684360" y="1792440"/>
            <a:chExt cx="7740360" cy="4949280"/>
          </a:xfrm>
        </p:grpSpPr>
        <p:sp>
          <p:nvSpPr>
            <p:cNvPr id="171" name=""/>
            <p:cNvSpPr/>
            <p:nvPr/>
          </p:nvSpPr>
          <p:spPr>
            <a:xfrm>
              <a:off x="1746720" y="1792440"/>
              <a:ext cx="5311800" cy="70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Товарооборот СФ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2734920"/>
              <a:ext cx="4553640" cy="70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Экспорт СФО (более 8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93400" y="2734920"/>
              <a:ext cx="2731320" cy="70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Импорт СФ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08360" y="2498040"/>
              <a:ext cx="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48800" y="2498040"/>
              <a:ext cx="72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4360" y="3677760"/>
              <a:ext cx="3490920" cy="70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ДЗ (более 8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78040" y="3677760"/>
              <a:ext cx="759600" cy="70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Н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1280" y="3442320"/>
              <a:ext cx="0" cy="23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360" y="4622040"/>
              <a:ext cx="1618920" cy="941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Экспорт прочих това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05600" y="4622040"/>
              <a:ext cx="273204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Экспорт важнейших това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около 7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3240" y="4385160"/>
              <a:ext cx="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16400" y="4385160"/>
              <a:ext cx="72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34160" y="3442320"/>
              <a:ext cx="720" cy="23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68320" y="5563440"/>
              <a:ext cx="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4160" y="5563440"/>
              <a:ext cx="7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95160" y="6035040"/>
              <a:ext cx="1972800" cy="70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Н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34160" y="6035040"/>
              <a:ext cx="1973160" cy="70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ДЗ (более 8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ТРАНСПОРТНО-ЭКСПЕДИЦИОННОЙ ДЕЯТЕЛЬНОСТИ ООО «СИБТРАНСАЛЬЯНС» НА БАЗЕ СОБСТВЕННОГО ПАРКА ВАГ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2571480"/>
                <a:gridCol w="6572160"/>
              </a:tblGrid>
              <a:tr h="171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упка б/у вагонов (год 1994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упка новых вагонов (год 2004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5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 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зинг б/у вагонов (год 1994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зинг новых вагонов (год 2004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518080"/>
                <a:gridCol w="1812960"/>
                <a:gridCol w="1812960"/>
              </a:tblGrid>
              <a:tr h="76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ы покуп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 (Собственные средства)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5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5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С (Заемные средства)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 0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 0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ский процент по кредиту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PV (Чистая текущая стоимость)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 254 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8 566 8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 (Внутренняя норма доходности)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отклон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 (Индекс рентабельнос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 (Срок окупаемости),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0" y="0"/>
          <a:ext cx="9144000" cy="6857640"/>
        </p:xfrm>
        <a:graphic>
          <a:graphicData uri="http://schemas.openxmlformats.org/drawingml/2006/table">
            <a:tbl>
              <a:tblPr/>
              <a:tblGrid>
                <a:gridCol w="5518080"/>
                <a:gridCol w="1812960"/>
                <a:gridCol w="1812960"/>
              </a:tblGrid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ы лизин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 (Собственные средства)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5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5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оборудования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 782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2 603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олной амортизации,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 норма амортизации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лизинга,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ая ставка за кредит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ДС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по лизингу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PV (Чистая текущая стоимость)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321 7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929 7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 (Внутренняя норма доходности)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 (Индекс рентабельнос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 (Срок окупаемости),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месяц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Комплексная оценка проек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1197000"/>
          <a:ext cx="9144000" cy="5554440"/>
        </p:xfrm>
        <a:graphic>
          <a:graphicData uri="http://schemas.openxmlformats.org/drawingml/2006/table">
            <a:tbl>
              <a:tblPr/>
              <a:tblGrid>
                <a:gridCol w="4014720"/>
                <a:gridCol w="1938240"/>
                <a:gridCol w="1595520"/>
                <a:gridCol w="1595520"/>
              </a:tblGrid>
              <a:tr h="111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PV (Чистая текущая стоимость)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 254 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321 7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929 7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 (Внутренняя норма доходности)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 (Индекс рентабельнос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 (Срок окупаемости),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месяц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152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ранспортная логисти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транспортировки товар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мизация транспортных затра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хождение оптимальных маршрутов по достав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логистических схем, поиск и выбор перевозчиков, экспедито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ирование достав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в части логистики в предконтрактной работе и при заключении контрактов купли-продаж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хождение таможенных формальностей в стране отправления, назначения и при транзите через третьи стра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единой контролируемой схемы доставки при различных перевозчиках и видах транспорта при смешанных (интермодальных) перевозк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олидация (объединение) грузов в процессе достав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ранение на транзитных складах и складах временного хран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чет транспортных расходов и стоимости достав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ование отгрузочных инструкций с отправителем и получателем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НАЛИЗ РАЗВИТИЯ РАО «РЖД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едрение информационно-управляющих сист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и поставка железнодорожному транспорту подвижного состава нового поколения, модернизация и техническое переоснащение заводской и линейной ремонтных ба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апное обновление и модернизация основных производственных фондов федерального железнодорожного транспорта для ликвидации тенденции нарастания уровня их изно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ширение полигона электрификации с доведением доли грузооборота, выполняемого электротягой, до уровня 80-83%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жение себестоимости перевозок на 10-12% по сравнению с уровнем 2000 г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конструкция и модернизация железнодорожных линий общим протяжением более  8 тыс. км для организации скоростного движения пассажирских поездов со скоростями 160-200 км/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конструкция и развитие пограничных железнодорожных стан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интермодальных перевоз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жение уровня подвижного состава (в планах до 6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ост объема перевозок ж/д транспор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162864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42800" y="549360"/>
          <a:ext cx="824400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549360"/>
                    <a:ext cx="824400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внешней торговли Сибирского Федерального Окр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24000" y="1469880"/>
          <a:ext cx="8569080" cy="475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69880"/>
                    <a:ext cx="8569080" cy="47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08000" y="441360"/>
          <a:ext cx="9024840" cy="60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41360"/>
                    <a:ext cx="9024840" cy="60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79280" y="642960"/>
          <a:ext cx="8964720" cy="56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42960"/>
                    <a:ext cx="896472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76320"/>
          <a:ext cx="9144000" cy="678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320"/>
                    <a:ext cx="914400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20:56:34Z</dcterms:created>
  <dc:creator>popov</dc:creator>
  <dc:description/>
  <dc:language>en-US</dc:language>
  <cp:lastModifiedBy>popov</cp:lastModifiedBy>
  <dcterms:modified xsi:type="dcterms:W3CDTF">2005-04-28T23:12:09Z</dcterms:modified>
  <cp:revision>15</cp:revision>
  <dc:subject/>
  <dc:title>Слайд 1</dc:title>
</cp:coreProperties>
</file>