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46D8-D475-4FF7-BC54-87761642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4EA-7FE5-4C3C-B059-F63E053F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676E-3883-4ED4-A526-7DE03E34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9FBE-8976-43AC-992D-BAB94CE6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AD8D-62A7-4FD2-8027-45CA1E59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5F20-7529-4784-9EF4-F135E738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AFD-3310-4624-ADB7-76E9D9C2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BEB-BA81-46ED-B951-53EB53B5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8E2-BD7B-4155-818E-40A88599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794-9856-44AA-AC71-67FD9926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14D-41FA-4319-A568-C4AABCCD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8EAC-1D67-4843-BBE4-DF366541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92B4-7CE2-4BB2-B4B9-306033B51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пломная работа на тему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Анализ и управление оборотным капиталом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на примере ТОО «Шыгыс»)»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ил ст. гр.ЗФ–22 вв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ургалиев А.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352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ы управления оборотным капиталом ТОО «Шыгы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2440" y="1214280"/>
            <a:ext cx="8832600" cy="4957560"/>
            <a:chOff x="82440" y="1214280"/>
            <a:chExt cx="8832600" cy="4957560"/>
          </a:xfrm>
        </p:grpSpPr>
        <p:sp>
          <p:nvSpPr>
            <p:cNvPr id="132" name=""/>
            <p:cNvSpPr/>
            <p:nvPr/>
          </p:nvSpPr>
          <p:spPr>
            <a:xfrm>
              <a:off x="143280" y="1977120"/>
              <a:ext cx="8771760" cy="57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облемы управления оборотным капиталом ТОО «ШыгысМак Ди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440" y="1214280"/>
              <a:ext cx="8832600" cy="57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d0d0d"/>
                  </a:solidFill>
                  <a:latin typeface="Times New Roman"/>
                </a:rPr>
                <a:t>СОВЕРШЕНСТВОВАНИЕ УПРАВЛЕНИЯ ОБОРОТНЫМ КАПИТАЛ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3520" y="4262400"/>
              <a:ext cx="3244680" cy="59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Излишняя ликвид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08800" y="4262400"/>
              <a:ext cx="3305520" cy="59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нижение дох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08200" y="2928960"/>
              <a:ext cx="2161800" cy="57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робл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4227840" y="2547720"/>
              <a:ext cx="765720" cy="4845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" name=""/>
            <p:cNvCxnSpPr>
              <a:stCxn id="133" idx="2"/>
              <a:endCxn id="132" idx="0"/>
            </p:cNvCxnSpPr>
            <p:nvPr/>
          </p:nvCxnSpPr>
          <p:spPr>
            <a:xfrm>
              <a:off x="4498560" y="1786320"/>
              <a:ext cx="30240" cy="191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39" name=""/>
            <p:cNvSpPr/>
            <p:nvPr/>
          </p:nvSpPr>
          <p:spPr>
            <a:xfrm>
              <a:off x="4108320" y="5324760"/>
              <a:ext cx="4445640" cy="75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Необходимость внешнего финансирования оборотных средст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"/>
            <p:cNvCxnSpPr>
              <a:stCxn id="136" idx="2"/>
              <a:endCxn id="134" idx="1"/>
            </p:cNvCxnSpPr>
            <p:nvPr/>
          </p:nvCxnSpPr>
          <p:spPr>
            <a:xfrm rot="5400000">
              <a:off x="1986120" y="1957320"/>
              <a:ext cx="1059480" cy="4146120"/>
            </a:xfrm>
            <a:prstGeom prst="bentConnector4">
              <a:avLst>
                <a:gd name="adj1" fmla="val 35825"/>
                <a:gd name="adj2" fmla="val 10639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stCxn id="139" idx="0"/>
              <a:endCxn id="135" idx="2"/>
            </p:cNvCxnSpPr>
            <p:nvPr/>
          </p:nvCxnSpPr>
          <p:spPr>
            <a:xfrm flipV="1">
              <a:off x="6330960" y="4857120"/>
              <a:ext cx="31680" cy="46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42" name=""/>
            <p:cNvSpPr/>
            <p:nvPr/>
          </p:nvSpPr>
          <p:spPr>
            <a:xfrm>
              <a:off x="443520" y="5511960"/>
              <a:ext cx="3244680" cy="65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Рискованная структура капита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" name=""/>
            <p:cNvCxnSpPr>
              <a:stCxn id="142" idx="0"/>
              <a:endCxn id="134" idx="2"/>
            </p:cNvCxnSpPr>
            <p:nvPr/>
          </p:nvCxnSpPr>
          <p:spPr>
            <a:xfrm flipV="1">
              <a:off x="2065680" y="4857120"/>
              <a:ext cx="1080" cy="65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4" name=""/>
            <p:cNvCxnSpPr>
              <a:stCxn id="136" idx="2"/>
              <a:endCxn id="135" idx="0"/>
            </p:cNvCxnSpPr>
            <p:nvPr/>
          </p:nvCxnSpPr>
          <p:spPr>
            <a:xfrm flipH="1" rot="16200000">
              <a:off x="5094720" y="2994480"/>
              <a:ext cx="762120" cy="1774080"/>
            </a:xfrm>
            <a:prstGeom prst="bentConnector3">
              <a:avLst>
                <a:gd name="adj1" fmla="val 498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омендации ТОО «Шыгыс» по управлению товарно-материальными запа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22280" y="2057400"/>
            <a:ext cx="8492760" cy="3376080"/>
            <a:chOff x="422280" y="2057400"/>
            <a:chExt cx="8492760" cy="3376080"/>
          </a:xfrm>
        </p:grpSpPr>
        <p:sp>
          <p:nvSpPr>
            <p:cNvPr id="147" name=""/>
            <p:cNvSpPr/>
            <p:nvPr/>
          </p:nvSpPr>
          <p:spPr>
            <a:xfrm>
              <a:off x="811080" y="2057400"/>
              <a:ext cx="8103960" cy="67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ЕКОМЕНДАЦИИ ПО УПРАВЛЕНИЮ ТОВАРНО-МАТЕРИАЛЬНЫМИ ЗАПАСАМИ ТОО «Шыгыс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1080" y="2901600"/>
              <a:ext cx="7935120" cy="50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гнозирование спро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1080" y="3576600"/>
              <a:ext cx="7935120" cy="50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бъединение дан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1080" y="4251960"/>
              <a:ext cx="7935120" cy="50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асчет оптимальных норм и оперативное управление запас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1080" y="4927320"/>
              <a:ext cx="7935120" cy="50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ценка эффектив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"/>
            <p:cNvCxnSpPr>
              <a:stCxn id="147" idx="1"/>
              <a:endCxn id="148" idx="1"/>
            </p:cNvCxnSpPr>
            <p:nvPr/>
          </p:nvCxnSpPr>
          <p:spPr>
            <a:xfrm flipH="1" flipV="1" rot="10800000">
              <a:off x="810720" y="2394720"/>
              <a:ext cx="1440" cy="76032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47" idx="1"/>
              <a:endCxn id="149" idx="1"/>
            </p:cNvCxnSpPr>
            <p:nvPr/>
          </p:nvCxnSpPr>
          <p:spPr>
            <a:xfrm flipH="1" flipV="1" rot="10800000">
              <a:off x="810720" y="2395080"/>
              <a:ext cx="1440" cy="143532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7" idx="1"/>
              <a:endCxn id="150" idx="1"/>
            </p:cNvCxnSpPr>
            <p:nvPr/>
          </p:nvCxnSpPr>
          <p:spPr>
            <a:xfrm flipH="1" flipV="1" rot="10800000">
              <a:off x="810720" y="2394720"/>
              <a:ext cx="1440" cy="211104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47" idx="1"/>
              <a:endCxn id="151" idx="1"/>
            </p:cNvCxnSpPr>
            <p:nvPr/>
          </p:nvCxnSpPr>
          <p:spPr>
            <a:xfrm flipH="1" flipV="1" rot="10800000">
              <a:off x="810720" y="2395080"/>
              <a:ext cx="1440" cy="278604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751360" y="301680"/>
            <a:ext cx="3011760" cy="280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рубежное производств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 Новосибирск - ОАО «Новосибирский жировой комбинат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 Бердск - ОАО «Виктория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 Омск - ЗАО «Любинский молочный комбинат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лореченск- ОАО «Ялуторовск молоко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431640"/>
            <a:ext cx="2581200" cy="271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ечественные товаропроизводител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АО «Карагандинский маргариновый завод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О «Павлодарский Хлебобулочный комбинат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О «Рубико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25960" y="1592280"/>
            <a:ext cx="157644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98920" y="5046840"/>
            <a:ext cx="157788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изические лиц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юридические лиц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бюджетные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4529160"/>
            <a:ext cx="1722240" cy="38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89920" y="3363840"/>
            <a:ext cx="1573200" cy="4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7600" y="4140360"/>
            <a:ext cx="1595520" cy="21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логовый  комитет г. Павлод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Таможенные орг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Министерство юстиции Р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35200" y="3363840"/>
            <a:ext cx="143352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011480"/>
            <a:ext cx="2008080" cy="21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О «Павлодавнешторг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О «Антей-Фудс»; ТОО «Султан»; ТОО «Павлодаркоммерц»; ТОО «Айтас-Павлода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56000" y="3105000"/>
            <a:ext cx="3441600" cy="103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О «Шыгы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2057400"/>
            <a:ext cx="223920" cy="1047600"/>
          </a:xfrm>
          <a:prstGeom prst="upDownArrow">
            <a:avLst>
              <a:gd name="adj1" fmla="val 50000"/>
              <a:gd name="adj2" fmla="val 931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11760" y="3494160"/>
            <a:ext cx="573120" cy="258840"/>
          </a:xfrm>
          <a:prstGeom prst="leftRightArrow">
            <a:avLst>
              <a:gd name="adj1" fmla="val 50000"/>
              <a:gd name="adj2" fmla="val 440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25800" y="3494160"/>
            <a:ext cx="573120" cy="258840"/>
          </a:xfrm>
          <a:prstGeom prst="leftRightArrow">
            <a:avLst>
              <a:gd name="adj1" fmla="val 50000"/>
              <a:gd name="adj2" fmla="val 440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266200">
            <a:off x="4168800" y="3849840"/>
            <a:ext cx="297000" cy="776160"/>
          </a:xfrm>
          <a:prstGeom prst="upDownArrow">
            <a:avLst>
              <a:gd name="adj1" fmla="val 50000"/>
              <a:gd name="adj2" fmla="val 520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4" idx="3"/>
            <a:endCxn id="42" idx="1"/>
          </p:cNvCxnSpPr>
          <p:nvPr/>
        </p:nvCxnSpPr>
        <p:spPr>
          <a:xfrm flipV="1">
            <a:off x="5702400" y="1702800"/>
            <a:ext cx="49680" cy="8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4" idx="1"/>
            <a:endCxn id="43" idx="3"/>
          </p:cNvCxnSpPr>
          <p:nvPr/>
        </p:nvCxnSpPr>
        <p:spPr>
          <a:xfrm flipH="1">
            <a:off x="4028400" y="1787040"/>
            <a:ext cx="975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9" idx="2"/>
            <a:endCxn id="50" idx="0"/>
          </p:cNvCxnSpPr>
          <p:nvPr/>
        </p:nvCxnSpPr>
        <p:spPr>
          <a:xfrm>
            <a:off x="2450880" y="380196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7" idx="2"/>
            <a:endCxn id="48" idx="0"/>
          </p:cNvCxnSpPr>
          <p:nvPr/>
        </p:nvCxnSpPr>
        <p:spPr>
          <a:xfrm flipH="1">
            <a:off x="7965360" y="3836520"/>
            <a:ext cx="11880" cy="30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2"/>
            <a:endCxn id="45" idx="0"/>
          </p:cNvCxnSpPr>
          <p:nvPr/>
        </p:nvCxnSpPr>
        <p:spPr>
          <a:xfrm flipH="1">
            <a:off x="4386960" y="4916520"/>
            <a:ext cx="73800" cy="131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5464080" y="4529160"/>
            <a:ext cx="1433520" cy="38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а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5029200"/>
            <a:ext cx="190512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зкоммерцба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1" idx="2"/>
            <a:endCxn id="62" idx="0"/>
          </p:cNvCxnSpPr>
          <p:nvPr/>
        </p:nvCxnSpPr>
        <p:spPr>
          <a:xfrm>
            <a:off x="6181560" y="4916160"/>
            <a:ext cx="29520" cy="113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" name=""/>
          <p:cNvSpPr/>
          <p:nvPr/>
        </p:nvSpPr>
        <p:spPr>
          <a:xfrm rot="19615200">
            <a:off x="5751360" y="3881160"/>
            <a:ext cx="285840" cy="776160"/>
          </a:xfrm>
          <a:prstGeom prst="upDownArrow">
            <a:avLst>
              <a:gd name="adj1" fmla="val 50000"/>
              <a:gd name="adj2" fmla="val 540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76320"/>
            <a:ext cx="7777080" cy="555480"/>
          </a:xfrm>
          <a:prstGeom prst="flowChart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ассификация оборотных ак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0040" y="631800"/>
            <a:ext cx="6777000" cy="619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характеру финансовых источников форм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H="1" flipV="1" rot="10800000">
            <a:off x="379800" y="353520"/>
            <a:ext cx="375480" cy="588240"/>
          </a:xfrm>
          <a:prstGeom prst="bentConnector3">
            <a:avLst>
              <a:gd name="adj1" fmla="val -907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433760" y="1363680"/>
            <a:ext cx="4176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аловые оборотные акт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33760" y="1992240"/>
            <a:ext cx="417672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истые оборотные акт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33760" y="2570040"/>
            <a:ext cx="4176720" cy="4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бственные оборотные акт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70040" y="3043080"/>
            <a:ext cx="6777000" cy="495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ви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33760" y="3584520"/>
            <a:ext cx="417672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пасы сырья, материалов, п/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3760" y="4241880"/>
            <a:ext cx="417672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пасы готовой 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3760" y="4780080"/>
            <a:ext cx="4481640" cy="44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кущая дебиторская задолж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33760" y="5315040"/>
            <a:ext cx="417672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нежные акт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33760" y="5964120"/>
            <a:ext cx="417672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чие оборотные акт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/>
          <p:nvPr/>
        </p:nvCxnSpPr>
        <p:spPr>
          <a:xfrm flipH="1" flipV="1" rot="10800000">
            <a:off x="379800" y="353520"/>
            <a:ext cx="375480" cy="2937600"/>
          </a:xfrm>
          <a:prstGeom prst="bentConnector3">
            <a:avLst>
              <a:gd name="adj1" fmla="val -907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 rot="16200000">
            <a:off x="4116240" y="1307160"/>
            <a:ext cx="357840" cy="276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 rot="16200000">
            <a:off x="3816000" y="1607040"/>
            <a:ext cx="957960" cy="276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 rot="16200000">
            <a:off x="3531240" y="1892160"/>
            <a:ext cx="1527840" cy="276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 flipH="1" rot="16200000">
            <a:off x="4149360" y="3561120"/>
            <a:ext cx="291240" cy="276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 flipH="1" rot="16200000">
            <a:off x="3835080" y="3875760"/>
            <a:ext cx="920160" cy="276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/>
          <p:nvPr/>
        </p:nvCxnSpPr>
        <p:spPr>
          <a:xfrm flipH="1" rot="16200000">
            <a:off x="2973960" y="4736880"/>
            <a:ext cx="2642400" cy="276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/>
          <p:nvPr/>
        </p:nvCxnSpPr>
        <p:spPr>
          <a:xfrm flipH="1" rot="16200000">
            <a:off x="3571560" y="4139280"/>
            <a:ext cx="1447200" cy="276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/>
          <p:nvPr/>
        </p:nvCxnSpPr>
        <p:spPr>
          <a:xfrm flipH="1" rot="16200000">
            <a:off x="3284280" y="4426560"/>
            <a:ext cx="2021760" cy="276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8960" y="152280"/>
            <a:ext cx="7777440" cy="505080"/>
          </a:xfrm>
          <a:prstGeom prst="flowChart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лассификация оборотных акти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3720" y="825480"/>
            <a:ext cx="6777000" cy="44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характеру участия в операционном проце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06360" y="1332000"/>
            <a:ext cx="7328160" cy="47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ротные активы, обслуживающие произв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06360" y="1860480"/>
            <a:ext cx="73281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ротные активы, обслуживающие финансовый цикл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/>
          <p:nvPr/>
        </p:nvCxnSpPr>
        <p:spPr>
          <a:xfrm flipH="1" flipV="1" rot="10800000">
            <a:off x="304560" y="403560"/>
            <a:ext cx="375120" cy="646920"/>
          </a:xfrm>
          <a:prstGeom prst="bentConnector3">
            <a:avLst>
              <a:gd name="adj1" fmla="val -444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70040" y="2484360"/>
            <a:ext cx="6777000" cy="50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периоду функцио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32320" y="3089160"/>
            <a:ext cx="4178160" cy="5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стоянная часть оборотных акти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32320" y="3645000"/>
            <a:ext cx="417816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ременная часть оборотных акти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0040" y="4246560"/>
            <a:ext cx="6777000" cy="471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степени ликви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65760" y="4802040"/>
            <a:ext cx="3744720" cy="47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бсолютно ликвидные ак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65760" y="5349960"/>
            <a:ext cx="374472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коликвидные ак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65760" y="5848200"/>
            <a:ext cx="3744720" cy="4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ликвидные ак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65760" y="6308640"/>
            <a:ext cx="3744720" cy="4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оликвидные ак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/>
          <p:nvPr/>
        </p:nvCxnSpPr>
        <p:spPr>
          <a:xfrm flipH="1" flipV="1" rot="10800000">
            <a:off x="304560" y="403560"/>
            <a:ext cx="375120" cy="2181960"/>
          </a:xfrm>
          <a:prstGeom prst="bentConnector3">
            <a:avLst>
              <a:gd name="adj1" fmla="val -444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H="1" flipV="1" rot="10800000">
            <a:off x="304560" y="404280"/>
            <a:ext cx="375120" cy="3849120"/>
          </a:xfrm>
          <a:prstGeom prst="bentConnector3">
            <a:avLst>
              <a:gd name="adj1" fmla="val -410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H="1" rot="16200000">
            <a:off x="4133880" y="3027960"/>
            <a:ext cx="321120" cy="275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/>
          <p:nvPr/>
        </p:nvCxnSpPr>
        <p:spPr>
          <a:xfrm flipH="1" rot="16200000">
            <a:off x="3868560" y="3292920"/>
            <a:ext cx="851400" cy="275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/>
          <p:nvPr/>
        </p:nvCxnSpPr>
        <p:spPr>
          <a:xfrm flipH="1" rot="16200000">
            <a:off x="4356000" y="4532760"/>
            <a:ext cx="310320" cy="708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/>
          <p:nvPr/>
        </p:nvCxnSpPr>
        <p:spPr>
          <a:xfrm flipH="1" rot="16200000">
            <a:off x="4096440" y="4792320"/>
            <a:ext cx="829440" cy="708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H="1" rot="16200000">
            <a:off x="3604320" y="5284440"/>
            <a:ext cx="1813680" cy="708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/>
          <p:nvPr/>
        </p:nvCxnSpPr>
        <p:spPr>
          <a:xfrm flipH="1" rot="16200000">
            <a:off x="3850920" y="5037480"/>
            <a:ext cx="1320120" cy="708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/>
          <p:nvPr/>
        </p:nvCxnSpPr>
        <p:spPr>
          <a:xfrm flipH="1" flipV="1" rot="10800000">
            <a:off x="678960" y="1050480"/>
            <a:ext cx="527760" cy="518400"/>
          </a:xfrm>
          <a:prstGeom prst="bentConnector3">
            <a:avLst>
              <a:gd name="adj1" fmla="val -644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/>
          <p:nvPr/>
        </p:nvCxnSpPr>
        <p:spPr>
          <a:xfrm flipH="1" flipV="1" rot="10800000">
            <a:off x="678960" y="1049760"/>
            <a:ext cx="527760" cy="1019880"/>
          </a:xfrm>
          <a:prstGeom prst="bentConnector3">
            <a:avLst>
              <a:gd name="adj1" fmla="val -644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33480"/>
            <a:ext cx="838188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3808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 и структура активов ТОО «Шыгы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61048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1295280" y="3581280"/>
          <a:ext cx="2962440" cy="300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581280"/>
                    <a:ext cx="296244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181480" y="3581280"/>
          <a:ext cx="2676600" cy="3009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581280"/>
                    <a:ext cx="267660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0" y="2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55720" y="32756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59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771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 и структура краткосрочных активов ТОО «Шыгы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80880" y="1219320"/>
          <a:ext cx="42912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4291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876920" y="1219320"/>
            <a:ext cx="3871800" cy="4343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33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64000" y="32918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51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 и структура краткосрочных активов ТОО «Шыгы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финансовые показатели ТОО «Шыгы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09480" y="501480"/>
            <a:ext cx="777240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6-03T17:04:3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