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4BAD-DC1C-40B2-AAC1-D9AEAAB0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F059-C644-43CB-B363-628E4B36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67DE-026E-4AAF-A5FE-22E529E6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8784-A9C6-46FF-9113-126F1A83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172E-F004-40A6-8EF2-5627AB64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FB5-D294-4C80-8ED7-3E604C47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A5B2-E6D2-49F7-BA45-19BFD533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0EAC-2C00-4394-BE2C-6B42DB55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4F50-3EEE-4C00-99D9-FAF72016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39BD-C38C-4941-89A3-42016662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36C3-5045-4462-AD5E-F44816ED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CF1C-C45D-4D68-9071-03041FB7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4145-9B70-429E-AD4D-A7EBEA231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Гоголь Николай Васильеви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105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Интересные события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32000" y="1844640"/>
            <a:ext cx="2673360" cy="3489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ДУХОВНЫ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Comic Sans MS"/>
              </a:rPr>
              <a:t>В целях совершенствования своего духовного мира Гоголь еще в 1836 г. посетил Киевские святыни, и они произвели на него сильное впечатление. С той же целью Гоголь задумал свою поездку в Иерусалим. К началу осени 1841 г., окончив за границей свою работу над первым томом "Мертвых душ", Гоголь отправился в Россию для напечатания своего сочинения. Но в Москве Гоголь встретил столько неприятностей, что его настроение вскоре стало подавленным. Цензурные затруднения расстроили его окончательно. В это время у него и созрел план путешествия в Иерусал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56588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Comic Sans MS"/>
              </a:rPr>
              <a:t>ДОМ ГОГО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633680"/>
            <a:ext cx="9144000" cy="5224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68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68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Comic Sans MS"/>
              </a:rPr>
              <a:t>Дом Гоголя на Никитском бульваре, хранящий память о последних годах жизни писателя, – единственный сохранившийся дом в Москве, где Николай Васильевич Гоголь жил продолжитель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Comic Sans MS"/>
              </a:rPr>
              <a:t>К столетнему юбилею в 1909 г. появились идеи о создании музея Гоголя, но их осуществление стало возможно позже. В 1971 г. в этот дом переехала Городская библиотека № 2. В комнатах, где Гоголь жил с 1848 по 1852 г., сотрудниками библиотеки в 1974 г. были созданы Музей - Мемориальные комнаты Н.В. Гоголя. Приемная и кабинет писателя были воссозданы по воспоминаниям его современников. Большие усилия были приложены на формирование экспозиции комнат: приобретение мебели, старинных вещей и раритетных книг, включая прижизненные издания произведений Н.В. Гог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ff"/>
                </a:solidFill>
                <a:latin typeface="Comic Sans MS"/>
              </a:rPr>
              <a:t>В 2005 г. Городская библиотека № 2, которая с 1979 г. носит имя Н.В. Гоголя, преобразована в ЦГБМЦ «Дом Гогол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ff"/>
                </a:solidFill>
                <a:latin typeface="Comic Sans MS"/>
              </a:rPr>
              <a:t>СОБЫТИ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9966"/>
                </a:solidFill>
                <a:latin typeface="Comic Sans MS"/>
              </a:rPr>
              <a:t>Однажды ночью среди религиозных размышлений Гоголем овладел религиозный страх и сомнение, что он не так исполнил долг, наложенный на него Богом; он разбудил слугу, велел открыть трубу камина и, отобрав из портфеля бумаги, сжег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66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9966"/>
                </a:solidFill>
                <a:latin typeface="Comic Sans MS"/>
              </a:rPr>
              <a:t>На утро, когда его сознание прояснилось, он с раскаянием рассказал об этом графу Толстому и считал, что это сделано было под влиянием злого духа; с тех пор он впал в мрачное уныние и умер через несколько дней, 21 февраля 1852 г. Он похоронен в Москве, на Новодевичьем кладбище, и на его памятнике помещены слова пророка Иеремии: «Горьким моим словом посмеюся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9966"/>
                </a:solidFill>
                <a:latin typeface="Comic Sans MS"/>
              </a:rPr>
              <a:t>В 1931 году его останки перенесены на кладбище Новодевичьего монастыря, что породило немало мистических предположений о том, что Гоголь не умер, а был погребен в летаргическом с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Comic Sans MS"/>
              </a:rPr>
              <a:t>ОТКРЫТИЕ ПАМЯТ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99"/>
                </a:solidFill>
                <a:latin typeface="Comic Sans MS"/>
              </a:rPr>
              <a:t>Открытие памятника Н. В. Гоголю работы Н. А. Андреева, приуроченное к 100-летию со дня рождения писателя, состоялось 26 апреля 1909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45284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22:59:58Z</dcterms:created>
  <dc:creator>Мастер</dc:creator>
  <dc:description/>
  <dc:language>en-US</dc:language>
  <cp:lastModifiedBy>Мастер</cp:lastModifiedBy>
  <dcterms:modified xsi:type="dcterms:W3CDTF">2002-02-09T23:33:51Z</dcterms:modified>
  <cp:revision>2</cp:revision>
  <dc:subject/>
  <dc:title>Гоголь Николай Васильевич</dc:title>
</cp:coreProperties>
</file>